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7C2DE-221A-4917-8E63-0B8CA230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E2308-EE3C-448C-9538-5F9D7CEB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F746D-4426-42D9-B94E-2EE29490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811EF-6943-4ABC-AD04-8F737AEF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B40E8-0763-40C0-97D7-C9B037F6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7A8B7-D1F9-4C9F-A691-1BC1ACB5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0A48B-A805-46E0-83BD-04B5AABB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FC80C-D2A2-4507-9AE5-2344F8D5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10106-5E23-473A-A2CB-F639461E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9CC0F-B8B7-4A13-AD86-5FD581F3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9B656-0875-4940-ACFA-378F9EF6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7C285-6356-45CF-9F0F-6FD794FC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296A0-CA60-4098-BAA6-B25B18C9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8919A-97AA-41F5-B5FD-263623EF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BBC30-28A7-4417-B53C-70D71194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7042C-9ADC-4042-9CE4-EF8CFA81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0DB69-24D5-4557-AAED-4AB6EEBE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7165B-2759-44FB-B318-F4C9CDD5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599E2-E9F3-4687-B8F8-EB305DC0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E8B87-E31E-4F72-8412-87F36A87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AAD06-2EC5-4FB0-AAEE-434AB06E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4C8EF-0BBA-4E65-A29F-CDA23846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8E936-5566-4308-A998-F8B67262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6E20A-5544-40FC-BCCD-F3839598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DB5C6-A474-433A-A260-11AA55AE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640EC-35B5-4341-80B4-07F46F6B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83DB8-0BB2-45F5-8977-E565B7E5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27EAD-C7E6-452F-B5FA-F519C9E1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70E5C-9511-4BB7-A916-1672A317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3F373-F67C-41CE-8382-A9BBC18A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16B4F-8BA9-47D8-B726-BD8CC676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DDA6E-4C42-4944-BE03-8BF4E338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6E21D-4599-44E8-B007-23CE4325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736DB-E4D3-4F85-91E0-F68E96D9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0BB01-5986-454F-908B-E9F140FE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9D935-3AB8-4BB0-8858-C57CD708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15B69-E96F-4BC9-9A6F-CDCD2433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FBC78-811F-4B0D-9DAD-4D1D6D0E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05378-F85E-4715-96F8-F660E004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3B8B4-EDA1-4518-9A29-4E944A3F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53C6E-FD38-4FA6-91C1-72A6A9E7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0E7E6-1FCC-4AF1-9CDF-1339E389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45032-071E-4972-997B-C72DD755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DB553-907D-4F54-98E4-630F4EE9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7EF1D-D805-45D6-A6D0-46FF5146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D31A-8C7D-42D7-88C3-D9B942FA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7F88-1E23-4310-A777-80AC50C0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02B7-DEC8-464D-BF30-B850C803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DAF6-8047-4E3F-A112-B8F62742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9E2-B47D-4FD2-8E24-00FF6078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52B2-A293-4280-A821-7D3E1889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9B3B-862A-43C5-B620-DE85E107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32B1-EEE4-462E-A8BC-4E5463D4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161F-648A-4DE4-AE23-1377F5A7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27B-0A66-4DBF-89D4-0F7CB127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FB96-040A-442C-BFA8-1707A7D2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D8B-DD39-4FA7-A1B0-D1CA9836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8A06-3018-413A-8E66-2F380922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8125-AD07-477A-8D8A-2ADFD1A6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9E53-94E1-4CBB-B4DB-5B150168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3B35-7653-40DE-BD3D-46C47595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CACD-4CCD-4211-8627-9988BD8A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C7AC-E493-4AB4-A0EA-6D54838E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18B0-EDCF-4393-AC4B-2519273C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F305-D94B-4B56-A237-E8FA0A43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51D8-3AC2-4127-AC52-D958F145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8F93-7CC4-4761-80CC-3D8A6654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F059-E697-4A1F-A796-60BAB89B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2845-C739-4B0D-85C6-9FACB3E7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6C2EA-7232-4970-A294-00A6AEDC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D6BA3-667F-4B97-B2C6-E625F9E0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35768-BDE4-4B97-B512-DE2355D0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C8E4E-F738-4251-8ABA-4F62BFEE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03612-0BC2-4339-98BE-9A6D1F6A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58472-0E95-4425-B7C0-D54490D6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DE6EA-6941-4848-83EC-1828B78C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9E4B0-3A67-4E4F-BCF6-77FD320D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89910-6A81-4497-9E34-6EA34E39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79A0E-AD4A-4A25-A6C0-1A97D6F6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9B841-0A0E-4275-9EDB-B1701CDB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DF464-15B2-47B6-8D08-63F60640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B2202-72DA-4B1A-9CF9-4084A94D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5AE0B-D0F1-49BA-A382-CF1478EB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0ABDF-97FF-4C98-BD77-38358625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03313-1F14-4126-92DD-F71642C4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513D5-CA0D-479D-B22E-AF776530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4576A-AC2B-4E7D-BEBE-832CA095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75710-91B8-4A1B-B3ED-52F2C5EC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30C1D-F177-419C-AE71-3419308B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346F0-51D4-4512-966C-84D94737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441A7-2B34-49D5-BCDD-E8F38162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9F3A9-9264-4D0B-8941-2373822F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35A60-5FC3-4C84-93F7-C870B0DF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EF27B-FCF0-49FC-BE4E-C4B346AE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CF4D0-0DBA-4E7E-ACF3-44E89851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97F0B-6E53-4B38-B4EA-2E9D2722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39C38-0A67-4528-9A80-2388504B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5BA9F-5B93-4FD8-BB59-01C6E472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4812B-72AF-4BD6-998A-FDA5E9A7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F155F-A60E-4E21-A010-CE3A169A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F6004-31D2-4527-8C97-4B95D2EE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ECDE7-A2F5-40A2-895A-D9AC9324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52E80-0902-445B-B592-97FEEA34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98C50-944C-47E5-B499-D731E19A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972F6-D6C9-42D5-B753-BA781098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51E58-0281-4CE4-B8B4-4181F76A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1E9A8-9407-4081-A785-EDA52102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13CE0-7977-4419-B85E-68A2CEBF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1DE01-D7BC-4948-8141-AA4EB567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2D9E2-2E5C-40D7-9FAC-138AE441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F6985-A6D5-4ECF-9046-5D5ECC42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0D022-1080-4605-A118-9C1B0AF5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74299-1ACA-4483-86DB-BDDFEB49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E6994-D7CB-4CBF-BF72-2D90B195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B51F3-5CA0-4403-9449-5AB7B158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D4FC9-36C7-4EFA-A5F9-EC148DF9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012E6-E78C-42CE-A8E5-BB7394B2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F8AB5-F543-4110-92FA-702832BE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262E7-11C5-4344-BA06-E538266B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7B069-EAB3-463B-938C-9F8E94C7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3AF7-7882-448E-95C6-49470248040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D9BC-0049-4B20-87A8-1F64A646E36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95E9-A783-4623-801B-7BC43F6A05F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C:\Documents and Settings\Marcelo.Raimo\Desktop\layout_cap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A7EC-56D4-4DA7-841B-2B44FC1B8F4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3BE3-1D24-4725-B180-BA8B774EC7F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C164-D066-482E-8109-CD2372C7487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8B14-90A4-4E0D-93FA-DDB63F6C31E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449A-C039-486E-B812-6CE420249B8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FBB1-BE26-44A0-99E1-7195E8363F6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E4D3-BD24-4011-873F-ED81555616A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4:42Z</dcterms:created>
  <dc:creator>marcelo.raimo</dc:creator>
  <dc:description/>
  <dc:language>en-US</dc:language>
  <cp:lastModifiedBy>marcelo.raimo</cp:lastModifiedBy>
  <dcterms:modified xsi:type="dcterms:W3CDTF">2011-04-19T18:35:21Z</dcterms:modified>
  <cp:revision>1</cp:revision>
  <dc:subject/>
  <dc:title>Slide 1</dc:title>
</cp:coreProperties>
</file>