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424BE-1535-4702-B489-E80D98E1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25AFF-A9D7-4D0F-BA0F-D1408507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71DB0-F028-4F19-98C9-A2E15708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CBF63-5AEA-407C-9C09-70625F70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B5663-F131-492D-86E8-96896F43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AE89F-3579-4ACE-A519-FB4ECFDF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652D2-F8C7-46B2-86A9-C4FC9CCA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0CF9A-2AAA-4C41-AFCA-EC606D9B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6456C-59C3-47CF-8758-9C2EB094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D7955-B9C2-4E3D-A063-E6073D7F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7541C-173D-4004-AC74-3927A743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C2C30-0FDD-4B12-8F3C-A981418D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08B18-C083-4BF3-AF7E-2844AE05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D4C92-BFCF-499F-8167-0F4B3CD3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189A3-4EBB-481B-A28A-1595CF6F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A8864-BF1F-4662-9A23-C12104C9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82371-667B-44E6-83B7-85653545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0A95E-445A-4F1C-BE8C-96B9674B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6B41B-E4F7-4394-A6D1-906B230B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32CBB-22E7-4552-B9FA-9E933148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7123E-0256-4015-BC04-F41CDA87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3EBE1-9295-48FC-B528-570B973D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80E65-FED4-48CA-BE9E-CC8C4CE7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96F75-4866-4742-9BD5-63E64FDB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61DE3-30AF-4C61-AE8C-772BA218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0A4A8-7C0E-4F88-A8A9-F76432D1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57E0E-5501-45F4-A751-595AE368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953FD-9C6A-403A-9948-01F8618E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42E78-9130-48FC-A75E-9FF067AD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E012A-78D9-41C9-85B9-599AD198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017C1-F6A2-4980-89B4-21281937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E5B47-DC0B-4B0D-9D75-19BF68CD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49FC7-9DF8-4321-83F4-20FCE246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9FA5A-A9AE-4ADE-A012-17BB7AF1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B29A9-57EA-4BDE-811F-93F2A8B9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DD4D3-5E56-4B92-8EB1-C0F6F8AD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951BB-6654-4D28-9FA8-402B03D1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0F43A-68C2-4C62-9EA8-036339F8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5ED0B-A8EF-404F-8988-13AC29B1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CEEFF-DDCB-405E-A27A-7713FFC0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55044-CC8A-4D6C-9C5E-D47C9D50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A4EE8-1363-4F11-9208-13B74F30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7CC54-C9E0-4184-9B91-755171F0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920C5-FFCC-4095-B1C1-AFF90145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8EAE2-DDEB-4832-85A3-8476ADEE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F30-F692-4432-B1CB-B076D863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FDB-ECBE-4773-A54A-A07BC284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175-E4CB-4407-B708-539CB5FE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512-D64D-44C7-811E-189F169D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954-AEF7-4ED0-BF23-057E6856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372-A526-4C50-8534-9B2D1360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971-1992-4D77-88D1-837B513E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8B84-8CB3-4E2A-B589-7573A043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5E0-26CB-4B4A-AE2C-BBBE3E75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33D-E714-4AD6-A2B6-77C098E5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6118-9088-4A4D-832D-D10BF0DF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069-76F1-459F-8F25-D8777A60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9350-32FD-4C15-83B6-450EB093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2AF4-7963-4E4D-916D-16A12E14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CCED-CB7E-4744-B7BC-BEF56727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E349-214B-455A-A8D6-97B4C295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940A-A507-45A8-A47D-019E102C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886B-839A-4EFC-BCF4-34FA3622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2109-0B5F-4D63-9561-6EF364C8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E729-2E08-4150-B9F5-1940798A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090C-3EA6-41A2-9250-E4A45E83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3705-714C-4480-A742-5D9A317B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F64F-2D11-427A-B4CB-25083EA2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6F05-F4A3-4C0B-91A4-58FA02DE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29B66-874B-4AC1-BB3D-AF38B98B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680F2-CD20-477C-9445-8B514B03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16C44-58E9-4934-9F08-5539DBBB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2A164-0EDE-4310-B1F6-8892630B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C24EE-304F-40F5-91A9-ACE7295D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358D7-D621-44EA-B1D6-82879A7D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5BFFC-9843-4126-89CB-0B9781BC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2C374-10FB-42AC-A253-7F4D4C73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71A50-99CF-4608-BACC-02FA05D0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86903-1737-4E84-AFF2-24277CB3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135C1-C054-4836-A5F1-C65AA565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9E4FD-B02E-4F1A-8A88-C4DA758C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F6BA0-5D78-415B-923D-4B7C3757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DA672-3AB8-4DA8-8B85-5D467988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C9EB1-04DB-4AEA-BAE9-D20DACF3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A1D58-F5BF-4B2C-8878-B9A3155B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C6D8C-3BDF-48E7-8F14-74F6E9CB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B8C7C-8989-490E-AA61-625A9555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E34E1-E06F-4A51-89D2-8C1D6BBA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5335B-8335-4BF1-A970-32DE5533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0358E-7173-4F8C-BD80-89F65FE7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49FA9-AF7F-49FD-9CDB-71DC034D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E346F-95FB-45D8-8507-FD4C51AD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BDD97-918B-42CB-8E65-A4EF0C2B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BD151-BD9D-4752-9714-F67F7070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F1ADF-6B1C-46A2-9E2D-55256ACD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D2C0A-75BB-4A96-B906-E1EDD1DA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2B1CB-9550-472E-8A7A-133E7288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7661B-281D-4077-A8E4-2A3BD465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ABC0B-C376-4864-9E7B-09218508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7C389-9EEB-41E9-8BC6-FF11D8B7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D310C-1CA7-4EF9-B1BA-F7E6D1A8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6FA6F-68C8-431B-B249-F13A49E8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916B0-D873-43CC-A98E-375C824E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1B7BD-F401-4CD8-A27A-1EB1D879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CEFE1-E972-4369-81FD-6047E22B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5DDB6-19DC-4C48-A419-FBC854DD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76C66-F1B9-4EF2-9723-57A597F2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51266-2D3E-45B4-B950-C51FE154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DE84C-BAED-4784-A342-B3C77B72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35AC9-A8C7-41F3-A088-323420C2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49E37-4223-49F2-975C-015BE5C1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70360-8FE6-4C38-AF4A-C59CF59F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72EEA-D883-4639-B2E7-6190DC6B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D326D-BC4C-49C9-9B1F-F5BFF548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E2D35-4884-44E0-96CC-D24A9483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2AA39-1434-4FF6-BB19-C6C14FAC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633EE-6976-4268-84A3-D347FCFE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5F4F5-1EF0-414A-9869-B9F4C09E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1A2FA-5535-4A50-AA16-305D7071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1414D-514F-4B4E-89F0-472CE11E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E87B-B181-4DC3-A852-CB16F2BAA1E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B93B-143A-477F-A566-C9E45F44B38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148F-9D4D-4B20-8BC4-04272C2BBE7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Marcelo.Raimo\Desktop\layout_cap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2201-D4D8-48BC-8E79-E7F269434A5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AFA1-8607-447C-A4B5-E1C314654F9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C282-48D8-490E-9019-14831053A28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0ECD-E796-4362-B6D6-981EDCCB76E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A57B-D764-42D9-8EE3-F6746DDF026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5EAB-BFFB-4C46-92FD-696E8CED50D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CD14-3E2C-43D5-BE17-584C18CAC29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4:42Z</dcterms:created>
  <dc:creator>marcelo.raimo</dc:creator>
  <dc:description/>
  <dc:language>en-US</dc:language>
  <cp:lastModifiedBy>marcelo.raimo</cp:lastModifiedBy>
  <dcterms:modified xsi:type="dcterms:W3CDTF">2011-04-19T18:35:21Z</dcterms:modified>
  <cp:revision>1</cp:revision>
  <dc:subject/>
  <dc:title>Slide 1</dc:title>
</cp:coreProperties>
</file>