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39A5A-644B-4CD7-B1C2-5A19E0A3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6704D-1F6A-4015-B8D5-4D806C35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E27BE-7530-493C-87C5-C094FD5B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1BA99-BBA8-48F4-93AA-D51BC69E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4ADE2-EB39-4850-940F-07F525AA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8BE52-B67B-47BC-A054-78D2068B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F9A85-456D-4261-BD78-3849B45B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BFE0D-26B7-4B06-98BC-64F9490A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D23AC-D027-44A2-9963-3D97A50F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162A5-7BBA-4F68-A4E6-26172E0B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0FF8D-2732-433E-9B86-0AD06373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A5BBE-B656-4879-B7D0-04544677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5D47F-6BE7-4C66-A3FD-18AF2632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2FF90-7D32-48A4-8E50-AD7ECA9C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AD987-BC01-4757-A9B8-252F3C7E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BFBBD-19DC-4284-AF1F-28C9CCD9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588CF-8C44-42BD-927E-CD9A4686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FE79C-666D-446A-A347-0CB8E325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129B1-5F6A-466F-B82D-EA08C574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A281A-D4A5-43C6-8FC6-5B5CAC80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CD287-9238-497C-9C5D-A5ECC34C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5FF04-E78D-4D21-A614-E3C42043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77F4D-2D17-4B21-A263-E4456B83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4E740-031E-4FB5-82A8-68660728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532F6-4E41-4A49-B862-4BCCAC53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FA0E4-AE77-490B-BCA0-C10841B8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AE8F6-7502-4CB8-8E2C-9A67B3BA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C61C6-86FD-4E1C-905F-DCD19D28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520F6-10A6-4781-8685-E7A79E6D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B972A-A71C-44D8-A7FB-E216FB1F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215CD-40BF-43C9-865E-BC744562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383FA-9E73-47A1-8C9D-B6AA0796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399E4-CDE6-461F-AE4A-8AA25812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A1A58-BE5F-4528-80C6-0FF99932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69A98-F02D-4ABC-87CD-C67AEC9A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68C2D-1EB0-4C91-A08B-087A3518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8EC2C-B09E-4631-AC67-BA452CF3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8C651-357B-4DBB-BB77-5AC3211E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51E3E-6A37-4381-A6B3-F43BE76B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A70A2-4C57-4C2A-8FC7-C638434B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B9E56-6E12-4567-9415-275A6089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34639-E073-48F1-86B7-01B976E3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D47DC-4225-4121-9C8E-03F58319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5FE3E-569D-4DAC-A532-308CF35A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9FEDA-7BD5-4B9B-9868-F94DD2DE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DFE-4B58-4E68-A2F4-F5BD4058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C69-3D8F-4DC6-B27E-CEF4AFC1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9066-59B2-4B46-B930-39F739D5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52C6-AA04-4E99-A58B-946C2A2F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AA0-3B1F-497D-A620-8568905D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60B-A28D-475F-BDD6-9C88D1F6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7FB-E29A-4CD4-8590-A8F90158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E30-6EC8-42B0-B4D0-6502AD49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E4C-36D2-4505-8F7E-BE45A27C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BBE-D1FF-40F5-9488-4D8DBC69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16FD-B451-412F-9E65-8CC886B5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916-52DF-4B31-90E4-CAB5A7AB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8F63-A74C-4707-B283-CAEC71E5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04DB-40EA-49B2-A633-AC4D9DC4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C8EE-E063-4C74-AC3A-6CD947CA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D4FF-CE5B-492A-98BE-C3A53D09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4AB1-8A7D-4A68-8A86-42FC38BB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6A7B-B564-446A-B392-55AC8353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E010-EE9B-47BB-8F4B-CD6FAAA7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2FC8-40DF-4151-BCE8-1260AF53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BA33-F314-44BA-8E2C-DCD19920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636C-0776-47B5-AB6F-949A4D77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8539-366A-44FB-AFAA-A6F0B0AE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EBB7-49BB-49D1-A580-1E291CDC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14230-827B-4B36-8E5D-ED83491B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52A35-8284-4777-B046-E466397A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6ACD9-025F-4C8E-AC9B-D6170DBB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914A-D7A0-4F40-9AB6-0001D509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DFB5B-3E8B-483E-892D-42426309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E49B1-F16E-452A-BE9D-1F094597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B65DC-CE65-49D2-AB55-293DE69B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94835-3F49-4A9B-AFBE-B66C49E8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A5CBE-C340-40FF-BDAF-2479723D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84DED-CF50-4DB7-8D1A-472A7B4A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2E619-8DA1-4570-91EA-5CEF544F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7E074-1AB5-467A-AE32-8AE96713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7CEE9-E905-4C65-91D5-BB316B2E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B56B1-0704-46A1-8154-47DC3707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D9D82-A4BA-4FC4-B97F-46AE40BC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6D754-BBED-49D7-8413-CEF045AC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2651A-C2E7-4F96-8558-4AE8148D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9DA69-9B74-4EDE-A42B-DF400C87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A8F05-27E3-451E-90A5-4163035F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C1FE3-B44D-4BC2-A869-F2CAEF40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335AD-4B4A-42D7-976E-CE952A3D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25063-9D3F-49A1-AA2B-160AF37C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0D5E2-1FAF-4DC1-B246-D3DCCD85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FC775-5CF2-4D72-A308-816E83E9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18FFD-DE67-4E56-8337-0E39D39D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1B98C-DDFE-43C1-9D98-D206D6A5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69E75-D0FD-4338-B11A-CC9F4CD8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6E2E8-EBC0-4D3D-B1A1-B976493F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F5396-F13E-45C7-91EB-1AAE3986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D0A7C-F05D-4EF9-82D1-5CC18620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9F1E4-D379-4112-87C8-768E28B7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8778E-24EE-451B-8C78-E367B520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5D16C-4166-4FAE-BD16-A54F2580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67F56-7A7E-484D-872B-DF618251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3C92B-59FC-4A80-A1BD-5F14D914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FD6F3-27CD-4E38-B5AC-ECA8255E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92BC0-FE3E-407C-929E-307C57DA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B0FEB-4805-42C8-A8BD-16535ADF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2F57C-8663-475D-AB3A-CF68FCF3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921CF-DC8E-4FE0-A657-CF3A1B3B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A4110-37EF-495E-91E1-264B0D94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5B6E0-B5A6-4F27-BE35-03B84F61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C1173-EAA0-413C-B1C7-5875CCD0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CB0F3-7798-4A5F-BFA5-BCAF5CB9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D5640-C068-4A51-8B79-901C4C24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1EB72-BD11-4F7A-9CC3-618D0477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66461-A88B-4552-ABB0-60DFBF41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298C5-D2A3-4C8F-A46A-EB755B52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D33F2-50FD-45B0-89A1-1B46AD80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18FF2-89E9-4211-8A60-6009E8A7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FAFFA-F0FF-4109-89AF-E322E5F9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F246-6136-4022-B31E-45CABD61277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6AAA-E314-4C42-B01C-D8F2EF1D667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3C62-5C13-4346-83B6-7C8640561AE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Documents and Settings\Marcelo.Raimo\Desktop\layout_cap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ACA3-1853-42A2-B8B2-F727A2D9D37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F352-2DC3-4E33-B7E7-D951168C0EA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6D55-E532-4BF0-8D6F-69B8D11FACE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7483-1303-44F5-B7B9-68844F76DB1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9DC3-17DD-49FF-BFF5-8669E2CA92B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D6EA-D478-4EB3-8F0C-88E3035C8D5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0C90-C213-4ECB-B31E-B43343A1B9F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4:42Z</dcterms:created>
  <dc:creator>marcelo.raimo</dc:creator>
  <dc:description/>
  <dc:language>en-US</dc:language>
  <cp:lastModifiedBy>marcelo.raimo</cp:lastModifiedBy>
  <dcterms:modified xsi:type="dcterms:W3CDTF">2011-04-19T18:35:21Z</dcterms:modified>
  <cp:revision>1</cp:revision>
  <dc:subject/>
  <dc:title>Slide 1</dc:title>
</cp:coreProperties>
</file>