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2EB16-B80C-452C-98C8-4AAEDB8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58ADC-1950-4B2E-A971-A64531D2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7007E-A5C1-4F36-A584-FA258773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03922-C09C-446D-8FBF-D7F59E6C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1DABD-64E6-4C16-8A2B-7E975D2A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A9B74-AC68-48A3-A577-9ECBAC2E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6E708-5E6E-467B-891E-1D3AA007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06FCB-CE8B-454A-A3B9-210BA65F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CC967-1A17-481D-831B-A4B52F90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D13D96-BF0F-4283-9667-49D7E80A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11C06-5CA2-4EB3-86F8-19BDAFB6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921A0-E698-43A8-B1E6-8E76AEFD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68A15-457B-4505-AC88-DBDF885F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54E444-66DF-4989-B4FD-13184926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C579D-9F65-4A53-9827-C34969A13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E0A39-3213-4028-B3F8-03210442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14B8F-8D1A-4F4B-84B5-B6C025AC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1F1D6-5728-452E-996E-65278DA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58FA6-FD0A-494A-A58F-925F0B33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1C384-1B69-4245-8210-FE9B1418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F4883-B406-4AFD-A7CF-74B662C8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B56CA-E88E-488E-9577-2924457FA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C212D-1168-4320-ABFE-FFCB2AB4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1A1B8-2E04-497C-B4BD-0EC38630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95E10-79F3-4AF4-8A7F-FC64F148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97D932-4F98-4B74-8746-2737DC05F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24336-3440-47A2-9D82-3D4C7C57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012BF9-5481-4C45-B0A9-B4CB525E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431B5-B992-4DBD-9CBC-B1A01C22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3C4654-C282-4291-9F12-C196782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B3F88-7A61-4C75-AA45-FD79DAD1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A3F2F-ADE1-4733-984C-0A71F7BCD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AD7F9-25FF-4953-8705-465202EE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9B7CD-15CE-4CFB-84D5-3EC5A016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7067C-C327-457A-8EF1-21B218DD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646A1-A403-48D1-B55F-DBB4BF06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B2FB7E-1186-4070-A27F-FC542B6B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1ADAF-B14D-4C1A-B006-184A1CF2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68D81B-0A43-4D7B-A41D-ECEF2028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561C8-0156-4441-9FC2-7B6F8ACD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D7796-E09E-4849-BD0D-7C8EF277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4DB92-56A9-402B-BDC0-4CA92301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265CB-E3AC-4399-893D-1C50977F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45BFDE-6AAB-4A42-95A8-BF9A2264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C2015-534A-4D85-9223-62F7BE0C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DCD1-55E7-4E42-B149-B85990F3C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A3A-61A4-4757-8B03-3CEC1A7E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D1E-18E7-44AF-8E7F-3726A6A8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48A6-5EB5-4B2A-808D-45C641DE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1F8-A016-4EF0-BE96-236A5C8E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A2E9-391C-4213-A224-ACA18735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06E-6D04-4EF2-847A-F2FAFCBA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616-437C-42FB-A1E7-5E2712D6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31D-C181-48EA-A3E7-6057738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276C-0D9D-427E-9D0B-6F3F354E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BFD-C03B-4704-B9C9-B97D05567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BF0-9E36-4E3F-A77A-411FE9E7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A5C6-3B17-4CF7-9A8C-3429D6E08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5DD8-2C7B-4CFA-A110-FA7C3C60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B50E-ED99-437E-98C4-78F09E0A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57F3-C8F5-4135-A80C-0340CAE6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3A0A-DDE0-457F-A2F4-94F89A71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0190-0FEF-4214-B377-2B7FF7B7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1517-E647-4BD0-9D89-9910D94D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6C5D-D544-44DE-8B57-449F14A1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E55AD-0C3E-404F-8177-1A1149AB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E19B-1AB1-4F60-90CF-B9A92834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96B3-37D1-490A-A5BC-B74127CC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B7F2-27B3-473E-AB7E-8506C75B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30F19-E52C-43D9-AED6-CABFEBB5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BA03C-C1B6-4DF2-84C3-FF3531D07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9E627-4784-46AC-BDDC-4D1E1768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19ECB-25F5-46B7-9133-96AB9489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0A744-C0FE-427D-BAFE-511922E4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9FA45-61B8-430B-B6ED-0780CCCC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9F737-128B-4999-A533-C05BDDDC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C2762-529D-49E8-BD73-0D76D41F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189D-4BD8-4E5A-AC15-E7E57E00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F9E0-65D5-4296-A74F-ABD06130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E0BC-4E40-4FE6-AFAE-73D8D9C3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8DB94-EE51-497B-B12F-7F784F38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837F0-C434-4463-B97B-2B4D5892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A8623-3068-4CD0-9951-29974F01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0CD7F-062A-403F-BADF-F5A6EE32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C4833-31F4-4EF6-8B31-45DD5536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96170-D44F-4570-AD6C-0F304876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712BC-A153-4B3E-80C5-011AEC007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5EEFF-3FAF-449B-AACD-9D182B5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3FF1F-29F8-4716-9BAC-0AEDFCC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8B80-39C9-496B-B16E-A1CD71DB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03B71-26AC-4B5B-A111-9F571634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424CC-017D-459E-A7DA-A804E5A5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CA03-D402-4EB1-BECD-0258C2CF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DF628-F0FC-4E32-BF34-A75AE0DF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81698-8497-4BC4-A5FE-AA4B29FD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720B5-1365-4D46-A404-5B2E0F79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0D7E-3481-4926-B3D7-112E7552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475D9-7F1F-478B-854E-3A7B821E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F50E7-D46D-4C6B-A6C4-35F23716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AD3E1-4424-43FA-9DB2-78DF4832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5B8F0-A372-46C1-AEF5-212D30CE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A6022-1464-45AD-8595-949A7241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7CBA4-E816-42C6-95A8-1E36CE3A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D0DD4-41DA-43B2-9764-FBB50123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02C4E-2606-42D6-81EF-799AEB3B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A7B22-C416-4693-B858-2FEA0C403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5C30C-67F2-44D2-832C-6B9B6624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BAA19-6923-47D6-BB7E-F72B713A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4A079-28B2-4976-B261-DA5C2480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1FAAB-3366-474A-BFC8-9AA6A282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37937-C518-4427-9C55-C09B6225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BBAE6-3BDA-4A34-A668-EAD29E6D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0D899-0EAA-4E7E-85B9-C5B4EFB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4A9FC-A318-4635-82A3-ED27731E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B6B9D-30AB-4930-BFF4-D4D9E8E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7E08D-216C-4053-8DF2-0AB95063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D2812-5093-4762-B7E8-922387ADB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B952C-4AA0-489A-B8DB-0387030E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020CF-92EF-4C76-81BC-45581609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A2900-648E-4FE3-85F0-4BFA0E23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F4A0-5477-4084-A5C5-015B87FD375D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E7F5-B9FD-41F4-A7D8-DA3B55FC6EA6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6877-E744-487A-8D0B-88111C476C57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C:\Documents and Settings\Marcelo.Raimo\Desktop\layout_capa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6441F-3CE8-4B6F-9209-75329C1648E3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A440-DA83-4DE3-8C12-BCEF9421F760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FA559-BDE5-40E7-98F1-DF12C1876401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7D41-FC1C-487A-AC2B-B8DF5013C65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5F7AA-A779-4A29-B9A5-D238BFFBD94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BC82-A8E6-49C2-9446-C82370B54EEB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C:\Documents and Settings\Marcelo.Raimo\Desktop\clean_layou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98E0-C7CA-4E5C-8255-A9BECB8A84C5}" type="slidenum"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4:42Z</dcterms:created>
  <dc:creator>marcelo.raimo</dc:creator>
  <dc:description/>
  <dc:language>en-US</dc:language>
  <cp:lastModifiedBy>marcelo.raimo</cp:lastModifiedBy>
  <dcterms:modified xsi:type="dcterms:W3CDTF">2011-04-19T18:35:21Z</dcterms:modified>
  <cp:revision>1</cp:revision>
  <dc:subject/>
  <dc:title>Slide 1</dc:title>
</cp:coreProperties>
</file>