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79084-AC45-4E6E-AC9E-9FCE5281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9D8F0-4856-49BE-90DD-603DBFE0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653E1-EE6D-4B56-8FA9-110CF7F9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D870B-4DEE-416C-970D-5172323E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E1721-E1D1-43B2-A604-37C08520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D94EA-6F90-4B06-BD6A-F5F9A2E9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B7D8E-296C-45AB-8FDC-67F5DA5D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CF979-AE71-47B4-A24A-65541DB3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76184-14F4-4363-ADFE-530AFB82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A83C4-47D2-4B81-B004-0D3E71E2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0016A-510D-4456-9049-70D6BFC2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5976F-E4FA-4027-ACB7-4476EB5D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AA90E-456A-4BB6-B6E0-926B072E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327F2-ED8A-4212-B528-3BA7C5E5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81897-6EB6-45A1-94A4-5095CE2F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880D9-097A-4CF2-8B88-72C9DAC1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FE613-FEDE-44E7-B4FA-E63F1ADC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EFABD-02BB-431B-B1A6-E59C323E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C2A61-72C6-419C-B310-EF2F50AC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F2A1C-DC58-49D0-B155-61622616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CC265-E42D-43BF-9F8B-077DC33D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536D3-C168-4362-9C68-D33F0696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1A9D2-6CAC-4010-A773-5CD51BE0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60026-2DFF-4834-9076-E5F77D10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F19ED-CBC7-4DA2-98EF-F9468801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F1CE7-E163-46AF-A93D-EA29BA08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2187E-740E-47B8-9396-35177856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D99A9-2C53-4429-9E80-F62E7BB2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D8EE5-6965-4CC3-A747-8C676E2D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80DF7-9EED-415C-8AE9-4B46F0B1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2FE0B-EC0D-4B88-8156-0F4C3625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3AA9E-7AED-46FC-AB9C-BDD2F643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A0D8E-272F-4C63-88A5-58C9ECA2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4FB27-556B-488B-A133-E9663E0A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FEEC5-540C-4C47-9969-F0AFDE75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AD286-F432-4698-AE0A-2F32B17A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61A5D-7DB5-4645-986B-6AC929C7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00B79-8A9A-409B-A701-000FE6F6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CC0E9-0C78-48CC-9349-E1DF8CA5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ADD61-95E3-4F7F-A09F-C72002A7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9E5FB-F88D-405E-BE69-217F9DEE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7EE36-BBAF-428B-80D9-6FDFA7EE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A21E7-6769-43C7-8154-9F202899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F300A-970F-41A1-8C70-F2FBCA3C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AD738-A595-49CE-B067-F0CC58F9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C051-BDF2-420A-90D7-FD939B5F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8E9-0242-402C-85AF-8058760D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8C6-7466-4FF5-BD44-2C06863C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613-6BED-47C4-8FF2-7B2F44D6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9DE8-3FA8-4C46-978C-AE623FB0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272-BDD3-47C7-930B-8BCDC40E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18D-8EB7-4B9A-8C77-54B0762E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B28-EE1E-43B3-8410-D3C09B07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05E-2ACD-4873-9721-5AAD4229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E66D-E9BE-4B02-9B0C-B54E2689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D591-C246-4D89-9A64-FD2A03DE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0C2F-FD14-4FC3-B91A-0589C22C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7D1D-BE8B-4DDF-BDA3-34EEE4AD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1CFE-E777-4325-9954-252ACA90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C1B5-1581-4017-B36E-EE24A7E7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80F2-B978-4725-8A27-2923D8E5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2363-C230-48BD-A607-565C0069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0E81-31B7-4A16-97B2-EE031B60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9B5D-3250-44F5-8FCB-EA887278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75CE-D298-4721-9047-D96C87AD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2FAD-F486-40E8-917F-D3167FC5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65BF-1A51-4C3B-83D4-56ED123C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1903-393D-46CB-98A9-531D4A3A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5672-23ED-44DE-9807-3426FB00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B1D26-4B7E-46FA-9E1F-77A29D96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73406-1EC7-4BCD-BFCE-80825EBB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27D23-44AD-46C9-A6C4-0A1D6A89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3890D-F8C5-4808-BB77-6D3DAEA9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2041F-42CC-4932-BA02-0C767452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94A3C-C95A-4934-96E3-E89F6BD5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8F405-6186-4A92-B679-15020C94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9A5C0-DED8-496E-AA4E-B906C20B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8D459-6FCE-4AD4-8204-48DDCDA4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FFEBE-36FB-4931-8B07-EADC880E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C3190-C04C-4203-B06C-5F66DD51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A8B37-B06D-45EF-A21D-A593593D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62252-3119-4BED-AEC4-5E0CFF5E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4A6C9-ECB3-49AB-B2A4-7ED716BB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47541-A38B-42E4-9AE6-BC4EFFF9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61985-0AE1-4606-B234-E9914FCB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B8D9E-308B-4781-AFB0-60AB8774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A1BAD-5233-4F7F-B168-0631CCD6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5ADC6-4C5C-4807-8DE7-53D659F4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270D0-7566-4B7D-95EE-A4B1DC4A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7CDEE-A264-4B32-8A4E-6B0C0A77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733C3-4B9B-4D0D-BA7D-A0FF5112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A530B-C086-4A3E-9587-2588E21F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C892F-5A13-4BA1-A7A9-BE9F8B07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B2E25-BC83-40A7-B194-879AA43B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01798-3E54-4612-837E-B90B1856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38215-8D12-4A18-94CB-4106EF2A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D7925-624F-41A0-9798-04A960CC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86B5F-2936-4132-B5B8-0F3B1F11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8C71D-B076-464B-81E6-CE6D2DC1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89EAD-B806-4C5B-AEA2-E3DC8700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27071-CF2E-4FEA-9372-DEA2DE68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52EC2-C3E8-4B3D-8D85-802865F0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63536-856D-4C55-A433-E604AC1F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1E407-EDAA-49DF-B7E7-F3272432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C511F-B2D6-4BAF-BB83-C88128EB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4C349-0806-44A3-BCF1-7B6920A8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40621-F6AD-4375-A1A5-C1676F54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6E836-ABCC-4BEB-973B-C9193079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051C3-DDD0-46D5-BC94-B45796D6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AA2DB-144D-402B-966B-B1D2098F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72806-D685-4FF4-9319-5D7B0837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2CE5E-A310-42E8-AC17-41C84DFF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126D1-6F47-4997-AA20-7A3AED82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82939-294A-4C1A-B260-00D4A4EB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8A94E-52AC-4925-8041-CA8C7476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1C7FE-621C-4291-B4B5-1EDBA77F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8215B-5BC8-4C08-9106-2E2F19AC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C9276-87D7-4424-B575-8BB2CEC9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5351D-0C61-4B23-8BB9-D5D58864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5B8C5-0C42-428B-BD4E-895E1274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4CC8-0F11-49D5-AD37-94F99907862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EA18-227C-42B0-9271-C03B3663ADF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0EF0-ECF0-4992-AD99-B38DAF88583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vinho.png"/>
          <p:cNvPicPr/>
          <p:nvPr/>
        </p:nvPicPr>
        <p:blipFill>
          <a:blip r:embed="rId4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F4E3-6877-41C5-AA66-5BD2565B04E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121E-0DB5-4C1D-BBF8-2333E6ACF48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34AD-96D7-4958-9D92-B62A54A76BA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A4FA-1C49-4FE0-9BF7-438A66CC1C2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2A4D-E0D9-4706-8B58-CF4FA6EDDAE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C6A5-0774-46D9-A14E-3D6FCD7CB6E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6C5C-ED72-4F7B-8A83-80FD9579B68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Processos Geren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Conector reto 3"/>
          <p:cNvSpPr/>
          <p:nvPr/>
        </p:nvSpPr>
        <p:spPr>
          <a:xfrm>
            <a:off x="7451640" y="5084640"/>
            <a:ext cx="0" cy="0"/>
          </a:xfrm>
          <a:prstGeom prst="line">
            <a:avLst/>
          </a:prstGeom>
          <a:ln w="22320">
            <a:solidFill>
              <a:srgbClr val="8d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ector reto 4"/>
          <p:cNvSpPr/>
          <p:nvPr/>
        </p:nvSpPr>
        <p:spPr>
          <a:xfrm flipH="1">
            <a:off x="1701720" y="5084640"/>
            <a:ext cx="583272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tângulo de cantos arredondados 5"/>
          <p:cNvSpPr/>
          <p:nvPr/>
        </p:nvSpPr>
        <p:spPr>
          <a:xfrm>
            <a:off x="3265560" y="4602240"/>
            <a:ext cx="2487600" cy="718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8" name="CaixaDeTexto 8"/>
          <p:cNvSpPr/>
          <p:nvPr/>
        </p:nvSpPr>
        <p:spPr>
          <a:xfrm>
            <a:off x="291960" y="730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Sistemas de Informação -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ângulo de cantos arredondados 9"/>
          <p:cNvSpPr/>
          <p:nvPr/>
        </p:nvSpPr>
        <p:spPr>
          <a:xfrm>
            <a:off x="3368520" y="1282680"/>
            <a:ext cx="2262240" cy="65556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3625920" y="13302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ângulo de cantos arredondados 11"/>
          <p:cNvSpPr/>
          <p:nvPr/>
        </p:nvSpPr>
        <p:spPr>
          <a:xfrm>
            <a:off x="631800" y="2225520"/>
            <a:ext cx="7939080" cy="3826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tângulo de cantos arredondados 12"/>
          <p:cNvSpPr/>
          <p:nvPr/>
        </p:nvSpPr>
        <p:spPr>
          <a:xfrm>
            <a:off x="3389400" y="2565360"/>
            <a:ext cx="2170080" cy="7192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ixaDeTexto 13"/>
          <p:cNvSpPr/>
          <p:nvPr/>
        </p:nvSpPr>
        <p:spPr>
          <a:xfrm>
            <a:off x="3552840" y="267804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Calibri"/>
              </a:rPr>
              <a:t>Organiz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tângulo de cantos arredondados 14"/>
          <p:cNvSpPr/>
          <p:nvPr/>
        </p:nvSpPr>
        <p:spPr>
          <a:xfrm>
            <a:off x="3306600" y="3500280"/>
            <a:ext cx="234504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ixaDeTexto 15"/>
          <p:cNvSpPr/>
          <p:nvPr/>
        </p:nvSpPr>
        <p:spPr>
          <a:xfrm>
            <a:off x="3440160" y="363528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cessa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Conector de seta reta 16"/>
          <p:cNvCxnSpPr/>
          <p:nvPr/>
        </p:nvCxnSpPr>
        <p:spPr>
          <a:xfrm>
            <a:off x="580680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7" name="Retângulo de cantos arredondados 17"/>
          <p:cNvSpPr/>
          <p:nvPr/>
        </p:nvSpPr>
        <p:spPr>
          <a:xfrm>
            <a:off x="6738840" y="3500280"/>
            <a:ext cx="15163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18"/>
          <p:cNvSpPr/>
          <p:nvPr/>
        </p:nvSpPr>
        <p:spPr>
          <a:xfrm>
            <a:off x="7122960" y="3645000"/>
            <a:ext cx="144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aí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ângulo de cantos arredondados 19"/>
          <p:cNvSpPr/>
          <p:nvPr/>
        </p:nvSpPr>
        <p:spPr>
          <a:xfrm>
            <a:off x="981000" y="3500280"/>
            <a:ext cx="12859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ixaDeTexto 20"/>
          <p:cNvSpPr/>
          <p:nvPr/>
        </p:nvSpPr>
        <p:spPr>
          <a:xfrm>
            <a:off x="1098720" y="3635280"/>
            <a:ext cx="143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Entr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aixaDeTexto 21"/>
          <p:cNvSpPr/>
          <p:nvPr/>
        </p:nvSpPr>
        <p:spPr>
          <a:xfrm>
            <a:off x="909720" y="4211640"/>
            <a:ext cx="151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in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ixaDeTexto 22"/>
          <p:cNvSpPr/>
          <p:nvPr/>
        </p:nvSpPr>
        <p:spPr>
          <a:xfrm>
            <a:off x="6773760" y="4251240"/>
            <a:ext cx="151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out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aixaDeTexto 23"/>
          <p:cNvSpPr/>
          <p:nvPr/>
        </p:nvSpPr>
        <p:spPr>
          <a:xfrm>
            <a:off x="3286080" y="472428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troaliment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ector reto 24"/>
          <p:cNvSpPr/>
          <p:nvPr/>
        </p:nvSpPr>
        <p:spPr>
          <a:xfrm flipV="1">
            <a:off x="7534440" y="4797360"/>
            <a:ext cx="0" cy="2872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Conector de seta reta 25"/>
          <p:cNvCxnSpPr/>
          <p:nvPr/>
        </p:nvCxnSpPr>
        <p:spPr>
          <a:xfrm flipV="1">
            <a:off x="1700640" y="4725360"/>
            <a:ext cx="2520" cy="361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6" name="CaixaDeTexto 26"/>
          <p:cNvSpPr/>
          <p:nvPr/>
        </p:nvSpPr>
        <p:spPr>
          <a:xfrm>
            <a:off x="3214800" y="531180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Calibri"/>
              </a:rPr>
              <a:t>(feedbac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Conector de seta reta 27"/>
          <p:cNvCxnSpPr/>
          <p:nvPr/>
        </p:nvCxnSpPr>
        <p:spPr>
          <a:xfrm>
            <a:off x="233964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8" name="Elipse 2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aixaDeTexto 2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aixaDeTexto 3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2:18Z</dcterms:created>
  <dc:creator>marcelo.raimo</dc:creator>
  <dc:description/>
  <dc:language>en-US</dc:language>
  <cp:lastModifiedBy>marcelo.raimo</cp:lastModifiedBy>
  <dcterms:modified xsi:type="dcterms:W3CDTF">2011-04-19T19:05:22Z</dcterms:modified>
  <cp:revision>5</cp:revision>
  <dc:subject/>
  <dc:title>Slide 1</dc:title>
</cp:coreProperties>
</file>