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1A799-5E44-45F3-8896-02883279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6A524-DA74-4D37-9920-5AC3D5E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19F5A7-33C3-4259-BF19-C8FBA84D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37849-BF53-4A47-9EF7-161967B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CDBE6-C018-43C4-A2D2-6AB5F00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EEF0F-A55B-494C-AE06-B6BCBEB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9A5AC-C3C7-486D-9181-91EBE31F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815AE-8725-4D36-ADE7-F8FB1DB0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91DBF-8DE9-4C3E-8935-180CC685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26D68-E3A8-42C8-BF1F-B233699B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5CBBA-685A-440F-A8BB-8CDB6730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E7DF2-7CB0-429C-AACF-BC59F28D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844BA-8275-4547-9397-E0376D58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01B6B4-BE91-4AEC-97F8-91C0095B2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FB12-1E5D-43A3-825A-18F5116F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8ED26-F532-4052-A789-05EF428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5042F8-A426-42AD-AE6C-6FA47F14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0295-A817-4FB4-B747-85F6FA62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50F2-9378-45B0-8406-0D210F4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1D5997-C432-4843-B79C-6B4C3C07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15C5C-8D31-419E-84A3-534E7284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C8FEC-422D-4B28-9FCB-72F90C40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EBBBD-7113-4E28-9351-F0DD6A61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E1BB4-246A-4B65-A20A-A7CCAD60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14685-FD56-48C6-A8FF-7750DE4B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61931-D55A-4753-AC0D-44E4C243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CA08F-67D3-47F2-892B-2D06CF43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6EB48-9C1F-4C46-AC2E-E9AE2FDD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570EB-6A01-4ED7-9620-0123B020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28503-1DC0-47CC-9F95-580842D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576E4-BFE9-4497-A1D9-5C1916C5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A5A97-EF0B-411F-812F-6A0F1689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C07FF2-565A-43DA-AF94-E3215423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C377E-6553-44BB-B081-1EB9E098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2255A-AC03-4213-B793-18177161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5D76A-0EAA-4443-9C40-D3B6AB9A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6456D-563B-417A-88AD-2345FCC3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6A3FC8-07E3-44DA-9501-B83FFC95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32B1C-7999-4115-BF0C-67F86EB8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88E0B-8012-4787-8403-10A93A0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63A52-823D-401D-B5EA-0798E6F5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386DC-CBFD-42A0-B561-F30237DF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8962E-1F68-4BA9-8210-85D7F981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68FBE-5254-4D36-97D9-70899963B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36338-3F87-4C86-8B3B-EAB8A147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8BD-FDB6-428F-BC14-FFFBD546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4AB-393A-4E5A-9B15-F81921B4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D395-E37B-4970-A6F2-10BB1DBA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FA19-7FF0-46E1-B9E7-53578DC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0AC-D726-4D3B-BF51-7691EEC1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193A-3C63-4DB8-A5FF-8B8D2FC30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F629-730D-4526-94F5-A11DC1F3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307-173C-4C55-B93D-8EDD479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E841-12B3-4B3A-9B6B-71DCF5C6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35A-3D5D-48ED-82C8-77D5FC21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20F8-4E3F-41E3-912A-BFFC8879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2584-7D66-4FED-887F-4A1C6B19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676C-E18E-4680-9241-2FB8A564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E778-5D76-4264-A95D-7D0F6C0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332-CEA6-49B8-BE8A-7BCA2AD5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3A43-ED12-410B-A241-453EFBCA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18DB-EDD7-4E39-BA4C-C12EC132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7144-EA01-40FE-B3E5-38F4CFE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8E7D-7154-4959-8159-251377A2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DA06-E4B4-4103-A8D1-0EC4C12C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2ED0-27BE-4820-B79A-FA303C4E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95BB-B6C6-4ECA-B6D6-7F8D1CA3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D39E-7432-4202-BD44-DBFCB717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566F-F906-4B74-AC1F-52B4B9D49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C5F40-F0DC-422C-BA40-C224123A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0049-3B32-4636-849B-73E6C767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00D25-58BD-47FF-B5DE-ADE1656E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8FB6-E201-441F-A5B6-7778D5F8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863FD-B232-49A2-B1FE-798161FD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DDDDC-0A24-4D0A-A992-0583CD6C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9BA1B-4F4E-4BDE-9B3A-D4607A7B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143B2-B699-4C2C-85A7-43982B8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4200B-7511-49F0-B1AB-69F5E9E6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D998-EDDF-4FD9-9315-F646A922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C107-EACE-4C28-9519-81B3A5AA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F4A8A-E861-496E-85DB-97E12BB6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5BF4-24D0-431A-BFFF-937FA3EF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BABE-6856-49C1-8700-A64EBB289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7350B-38C2-456D-8B1A-C6AF525B3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FE128-9FC5-4D1C-838A-6E0EA0CF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5F14-694C-4499-9F13-D023A877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B70B-1936-4045-911E-8766386B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3148F-CE08-49EE-BDA3-0E41D1CB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07D6-C67D-4A0D-B097-33E903B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43244-15AA-4FF7-B0AA-68ED25A2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EFEA0-F1C0-46A5-B1C2-96AE20C7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0BB0E-34DB-4EEC-B06C-BD8D1886F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D2F2B-AD9C-4598-AAC7-4C87A1772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2E4A7-84DC-4D04-96C6-421C8F4E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F6B35-BD5F-4D30-ADFB-530CA166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543C5-09EB-4853-BB6B-49C0998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B7325-3DFC-4951-9B8D-580579B5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8EAC9-A183-4E36-AB77-AC1938E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BF65-6BFC-492E-904B-9C31B268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030E7-74C3-462F-90C8-38A616B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68058-759B-4428-8794-893C5A9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2B6AF-9A84-468F-AE2C-5A162554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D3F0B-1631-4690-8858-226FB1F2F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61B00-A003-45FB-89FA-59B5AD75C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D3D3C-D8A9-4F8D-AA47-C57F13F20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833BF-098C-4145-9A1C-8668A0F7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B5B5C-A660-40D6-A9B3-BC603511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EB1A8-C253-421C-89BF-A35C0643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E87B-48B8-467A-8D85-EBDB9B62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8F639-AB1F-4ADF-A26E-42A2558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B3154-610E-4FFE-87A3-DCFD10D4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B88D-7D9E-4D2B-A0A6-2F3D7B8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1F208-F680-4842-8887-931ADEFD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B56C-AEA2-4599-B24B-4A10F654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6E39-7F88-4645-8CC4-5F2C2EEA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28DE1-DC3C-40CF-BD54-96F11CDE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4182D-6A6A-4331-89F6-6F0BD1AB5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DF329-77B4-4CB6-89DA-B81F3492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0791-9F2B-4C7A-9017-44C66A4E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5CECF-515E-46A6-B457-547BB650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88BE5-D03E-42E6-B718-1102C07F51F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AA68-4344-4B9C-9D06-BE2B01F9E40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A8BD-E812-4A06-B110-62CD5C52C26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vinho.png"/>
          <p:cNvPicPr/>
          <p:nvPr/>
        </p:nvPicPr>
        <p:blipFill>
          <a:blip r:embed="rId4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C43-4073-4EB2-8CBC-01B8B21DF17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CF62-DC37-4130-879F-A916F42390E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6AE-8AFE-446E-A472-F292A54EB55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4405-CE71-44BA-B675-55C2858F323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2F54-E5F9-405C-956E-27775DFC632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E119-1A4E-4222-A6C5-2A258E5FD47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vinho.png"/>
          <p:cNvPicPr/>
          <p:nvPr/>
        </p:nvPicPr>
        <p:blipFill>
          <a:blip r:embed="rId2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barra-vinho.png"/>
          <p:cNvPicPr/>
          <p:nvPr/>
        </p:nvPicPr>
        <p:blipFill>
          <a:blip r:embed="rId3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EC68-7109-4894-B53A-214E08982B7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82440" y="1514520"/>
            <a:ext cx="9396360" cy="1436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900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90002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Processos Geren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Conector reto 3"/>
          <p:cNvSpPr/>
          <p:nvPr/>
        </p:nvSpPr>
        <p:spPr>
          <a:xfrm>
            <a:off x="7451640" y="5084640"/>
            <a:ext cx="0" cy="0"/>
          </a:xfrm>
          <a:prstGeom prst="line">
            <a:avLst/>
          </a:prstGeom>
          <a:ln w="22320">
            <a:solidFill>
              <a:srgbClr val="8d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onector reto 4"/>
          <p:cNvSpPr/>
          <p:nvPr/>
        </p:nvSpPr>
        <p:spPr>
          <a:xfrm flipH="1">
            <a:off x="1701720" y="5084640"/>
            <a:ext cx="58327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tângulo de cantos arredondados 5"/>
          <p:cNvSpPr/>
          <p:nvPr/>
        </p:nvSpPr>
        <p:spPr>
          <a:xfrm>
            <a:off x="3265560" y="4602240"/>
            <a:ext cx="2487600" cy="7189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:\Documents and Settings\Marcelo.Raimo\Desktop\pps\tarjas\tarja-vinho.png"/>
          <p:cNvPicPr/>
          <p:nvPr/>
        </p:nvPicPr>
        <p:blipFill>
          <a:blip r:embed="rId1"/>
          <a:stretch/>
        </p:blipFill>
        <p:spPr>
          <a:xfrm>
            <a:off x="-133200" y="635148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C:\Documents and Settings\Marcelo.Raimo\Desktop\pps\tarjas\barra-vinho.png"/>
          <p:cNvPicPr/>
          <p:nvPr/>
        </p:nvPicPr>
        <p:blipFill>
          <a:blip r:embed="rId2"/>
          <a:stretch/>
        </p:blipFill>
        <p:spPr>
          <a:xfrm>
            <a:off x="0" y="-7452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8" name="CaixaDeTexto 8"/>
          <p:cNvSpPr/>
          <p:nvPr/>
        </p:nvSpPr>
        <p:spPr>
          <a:xfrm>
            <a:off x="291960" y="73080"/>
            <a:ext cx="55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- Sistemas de Informação - 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tângulo de cantos arredondados 9"/>
          <p:cNvSpPr/>
          <p:nvPr/>
        </p:nvSpPr>
        <p:spPr>
          <a:xfrm>
            <a:off x="3368520" y="1282680"/>
            <a:ext cx="2262240" cy="65556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3625920" y="13302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tângulo de cantos arredondados 11"/>
          <p:cNvSpPr/>
          <p:nvPr/>
        </p:nvSpPr>
        <p:spPr>
          <a:xfrm>
            <a:off x="631800" y="2225520"/>
            <a:ext cx="7939080" cy="3826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tângulo de cantos arredondados 12"/>
          <p:cNvSpPr/>
          <p:nvPr/>
        </p:nvSpPr>
        <p:spPr>
          <a:xfrm>
            <a:off x="3389400" y="2565360"/>
            <a:ext cx="2170080" cy="71928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aixaDeTexto 13"/>
          <p:cNvSpPr/>
          <p:nvPr/>
        </p:nvSpPr>
        <p:spPr>
          <a:xfrm>
            <a:off x="3552840" y="2678040"/>
            <a:ext cx="2808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ffffff"/>
                </a:solidFill>
                <a:latin typeface="Calibri"/>
              </a:rPr>
              <a:t>Organizaçã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tângulo de cantos arredondados 14"/>
          <p:cNvSpPr/>
          <p:nvPr/>
        </p:nvSpPr>
        <p:spPr>
          <a:xfrm>
            <a:off x="3306600" y="3500280"/>
            <a:ext cx="234504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CaixaDeTexto 15"/>
          <p:cNvSpPr/>
          <p:nvPr/>
        </p:nvSpPr>
        <p:spPr>
          <a:xfrm>
            <a:off x="3440160" y="3635280"/>
            <a:ext cx="2808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rocessa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Conector de seta reta 16"/>
          <p:cNvCxnSpPr/>
          <p:nvPr/>
        </p:nvCxnSpPr>
        <p:spPr>
          <a:xfrm>
            <a:off x="580680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7" name="Retângulo de cantos arredondados 17"/>
          <p:cNvSpPr/>
          <p:nvPr/>
        </p:nvSpPr>
        <p:spPr>
          <a:xfrm>
            <a:off x="6738840" y="3500280"/>
            <a:ext cx="15163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aixaDeTexto 18"/>
          <p:cNvSpPr/>
          <p:nvPr/>
        </p:nvSpPr>
        <p:spPr>
          <a:xfrm>
            <a:off x="7122960" y="3645000"/>
            <a:ext cx="1440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Saí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tângulo de cantos arredondados 19"/>
          <p:cNvSpPr/>
          <p:nvPr/>
        </p:nvSpPr>
        <p:spPr>
          <a:xfrm>
            <a:off x="981000" y="3500280"/>
            <a:ext cx="1285920" cy="720720"/>
          </a:xfrm>
          <a:prstGeom prst="roundRect">
            <a:avLst>
              <a:gd name="adj" fmla="val 16667"/>
            </a:avLst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CaixaDeTexto 20"/>
          <p:cNvSpPr/>
          <p:nvPr/>
        </p:nvSpPr>
        <p:spPr>
          <a:xfrm>
            <a:off x="1098720" y="3635280"/>
            <a:ext cx="1439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Entrad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CaixaDeTexto 21"/>
          <p:cNvSpPr/>
          <p:nvPr/>
        </p:nvSpPr>
        <p:spPr>
          <a:xfrm>
            <a:off x="909720" y="4211640"/>
            <a:ext cx="1512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in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CaixaDeTexto 22"/>
          <p:cNvSpPr/>
          <p:nvPr/>
        </p:nvSpPr>
        <p:spPr>
          <a:xfrm>
            <a:off x="6773760" y="4251240"/>
            <a:ext cx="151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300" spc="-1" strike="noStrike">
                <a:solidFill>
                  <a:srgbClr val="000000"/>
                </a:solidFill>
                <a:latin typeface="Calibri"/>
              </a:rPr>
              <a:t>(output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CaixaDeTexto 23"/>
          <p:cNvSpPr/>
          <p:nvPr/>
        </p:nvSpPr>
        <p:spPr>
          <a:xfrm>
            <a:off x="3286080" y="472428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Retroalimentaç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Conector reto 24"/>
          <p:cNvSpPr/>
          <p:nvPr/>
        </p:nvSpPr>
        <p:spPr>
          <a:xfrm flipV="1">
            <a:off x="7534440" y="4797360"/>
            <a:ext cx="0" cy="2872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5" name="Conector de seta reta 25"/>
          <p:cNvCxnSpPr/>
          <p:nvPr/>
        </p:nvCxnSpPr>
        <p:spPr>
          <a:xfrm flipV="1">
            <a:off x="1700640" y="4725360"/>
            <a:ext cx="2520" cy="361080"/>
          </a:xfrm>
          <a:prstGeom prst="straightConnector1">
            <a:avLst/>
          </a:prstGeom>
          <a:ln w="1908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6" name="CaixaDeTexto 26"/>
          <p:cNvSpPr/>
          <p:nvPr/>
        </p:nvSpPr>
        <p:spPr>
          <a:xfrm>
            <a:off x="3214800" y="5311800"/>
            <a:ext cx="25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Calibri"/>
              </a:rPr>
              <a:t>(feedbac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Conector de seta reta 27"/>
          <p:cNvCxnSpPr/>
          <p:nvPr/>
        </p:nvCxnSpPr>
        <p:spPr>
          <a:xfrm>
            <a:off x="2339640" y="3860280"/>
            <a:ext cx="864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8" name="Elipse 28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CaixaDeTexto 29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CaixaDeTexto 30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2:18Z</dcterms:created>
  <dc:creator>marcelo.raimo</dc:creator>
  <dc:description/>
  <dc:language>en-US</dc:language>
  <cp:lastModifiedBy>marcelo.raimo</cp:lastModifiedBy>
  <dcterms:modified xsi:type="dcterms:W3CDTF">2011-04-19T19:05:22Z</dcterms:modified>
  <cp:revision>5</cp:revision>
  <dc:subject/>
  <dc:title>Slide 1</dc:title>
</cp:coreProperties>
</file>