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22B7A-F891-4858-8B63-507A26DC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6F017-89A9-4203-9540-0CC9B309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A23EC-D525-470A-A0A2-AB49F2EF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FFCFB-F969-473A-A32C-F7260BC8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89054-335F-4B3A-9AA4-C40C51E2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E460E-E680-41D4-83DB-235DDFDB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D2A6A-8513-46A7-B78F-0B229E2D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B9ED2-19D7-41D3-9CD5-B7987D9C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DD9AC-4C95-4D5A-9FC2-6431E4C4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C912C-1F82-43B8-BE15-BD1EE098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50894-3860-41DE-8903-1C3CDD5A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BC2CA-1630-4D2F-B6FB-9F2B42AA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11DDD-7AF8-48A7-BEBF-A7B6CEB9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0D9CC-9B76-450C-AEDD-B8A8EDA3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97738-CA83-454E-82EB-43787AB7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77564-1D66-45D9-AF63-93622CCF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FF8EA-C705-477C-8092-98D154E5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69ACD-3B7F-4987-8FDB-B87A8D93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DDEEE-D927-4765-B797-9070EDAE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65A9A-DF28-4401-AE37-CE9A7A3F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476E2-E81E-4DEC-8B0A-E188D524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67F77-59B5-4A1F-B092-EB13C3F7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94F74-8D72-497E-932E-9241FF6F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61696-DFCA-407A-8A2F-2373BB20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A0EB6-BF2B-4CD5-80EE-40F933E9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B6636-017D-4DCE-BC81-5CB6280D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17945-C105-4857-A313-745F8E4C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131BD-3892-46B8-827C-BD16E566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A24AA-28AF-475E-9DED-4910148C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FB9EA-7FBC-475D-8B5E-89B45B6C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A3E08-5B10-47DF-8F0B-9EA22BB8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8DFA2-B51A-473A-A724-91AEBB3D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7132E-8205-40C9-9FC8-222FAF2B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194BD-7EB3-4866-AB67-4C12D7A1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8F875-788F-4BBA-82C2-1FEB5C67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746DD-A984-4BDF-A895-3EF6F82E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71AF0-067F-423D-8CA6-CFB1012B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B1E8A-E097-4489-8DBC-EC47C106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5B7F0-0DED-4820-969B-A0D01939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52363-5312-4F45-BD52-2F99CAE5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D1494-44CA-41E4-B593-B3E55C33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0F2B6-6494-4312-802C-F0194AF1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088D4-2577-4B0B-B6A8-CEC5DF91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835E8-6C10-4791-85A1-2604DA2B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1FF7E-8FF6-45FB-98E5-14B16819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4134-F370-45E6-974B-DBE1504B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A319-7141-461C-9C5C-15B1A6D7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5C91-7888-4D74-88C9-BF6C45F1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FF1-A3F2-4389-9070-64E59429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525-5C7E-4E6D-B053-C123AAE1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38B-8C91-448E-8EDD-193FC49A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2EB-7B4C-4607-9BA4-5BA04F8D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F5F-7085-4D85-8D43-93232BAC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5B1-DAC5-4333-993B-00FC2A1E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D261-C9E3-446C-A549-B1E028C8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9F3-214F-4704-9008-DFB13AAD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1BC-B1A0-45B0-8B27-F3E4A47B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55EB-D794-432A-BF78-7BB68C71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6944-D06C-4D8F-A5E8-2E7145D4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89A6-9115-49E3-B426-EA22492C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B24B-0D6F-43A6-9289-FD7DEB8D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8455-47A6-482B-9831-44638E5F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D05C-CC8E-4F5D-8B0D-C3D0D6BF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B6D3-3656-4A67-AF8C-C316D7E6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07FF-B353-410C-B6FB-8F7C6DEC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EE23-0A31-419F-80C4-C8AC93E8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587A-99B5-411C-A32C-4F6FC7A1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DC7D-8582-4711-A783-A8B90381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8239-992C-48E4-B0AA-68E913AD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52B42-CA97-4601-9E7E-2F15503A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C996E-0F96-4EA9-B63B-7E41F06E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0558F-A56F-4B28-84A8-C03CE444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0FDA0-5A7D-4911-A1E5-585554C4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BCB46-2BE2-4E0C-9523-4424C4A0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2931E-D6DE-415B-8FCA-38F0A611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3D3E7-C11F-4DC3-AF89-3E0F8273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4A78A-E4C7-437F-8FAB-FF385913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F3C9-A271-4E22-81B3-9417E1BC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4CAB2-42AE-49E3-9072-8804E317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F9B0D-0970-4238-A0D4-39D80706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B33CB-742E-4136-8873-438615D3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0A16C-5F18-4148-AA9C-5449E479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E48BC-B821-4FB1-8ADE-D4698B54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C942A-105F-4D10-B609-12A6609F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2566A-DA3F-450B-B70C-F5A6D61D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F9CDE-33E7-4748-B538-B53E54C1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8B38D-E57C-46C2-A209-F03AA80D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FA415-7C5A-47E8-9003-40798E51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B44D5-5BE1-422C-A02A-E710B326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FD5EB-84E7-4D1C-B265-90D4A1F8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4B9FC-61D0-431E-A8CE-EA5D819A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6CA36-EB5F-4EB6-AB9A-FB7B5621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18E7B-C12D-42E2-A6CC-5BC31EE7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97EED-C277-4C7B-BCB1-DC11E799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55EC8-522F-4A1E-AFC4-39F33D1C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CAEE6-52B6-4C13-88DB-1DEE542D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DE98F-D040-40BE-A7E4-004A9858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08828-EEF1-49F6-9974-26447CD1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1F249-4DB7-48FA-8A99-D5926189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B3DD9-333F-4F0B-838F-A35247DE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67878-526C-4832-A23F-EE3DCA9B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0A18F-DDEC-4931-9032-E0F67F4D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EE25E-CC4A-483C-B88F-20362674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62273-0C47-496D-A9A4-4AF423A0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B8497-0500-49F0-BAD9-90ED3282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442CA-6C75-45DC-9C7C-6904E0EB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99957-14C3-4B80-AEDC-89268E63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2C9F9-7F7A-46FB-B6BE-E60D5C76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F2C8B-89CB-4446-9257-31ACED25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FB0D0-6DF8-49E0-A2C4-041B1ACF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0CB52-BA8E-4211-A6AA-6E5D55EA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7FF94-769A-406A-9D1D-E55E74C9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1BA51-9291-44B3-87FA-92FE142B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94DA7-0A57-4627-BBC5-070DA9D9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A9799-8263-43ED-B236-D934FF93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8E676-93BC-4A07-B66D-6D82D466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8A92D-D214-4B35-BA78-05724A0B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04ECB-AC24-42B3-9498-47D61C9F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12017-4629-4FE0-AF72-825EDAFB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93C3F-6A90-4D04-8493-53815573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C8FF-5499-4A87-993C-EE5083943E6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D30B-6886-4DEA-964B-6A7AECCD1AB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3B9F-EA3E-41A3-AA13-9AF5CD181EB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vinho.png"/>
          <p:cNvPicPr/>
          <p:nvPr/>
        </p:nvPicPr>
        <p:blipFill>
          <a:blip r:embed="rId4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6E07-19F9-4344-B089-AEDBF6CA312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11A1-D923-4E61-9DE2-74B6EE672D5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5BF4-2626-4CA9-A4A9-FD965B85533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5E63-13CF-46BA-A742-EF886E54B7E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6B82-5565-497D-B9DB-A971E3E735D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613F-4E48-4A8F-B1B9-CA34065DE93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E1BB-70F2-4DA5-8183-149674A7288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Processos Geren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Conector reto 3"/>
          <p:cNvSpPr/>
          <p:nvPr/>
        </p:nvSpPr>
        <p:spPr>
          <a:xfrm>
            <a:off x="7451640" y="5084640"/>
            <a:ext cx="0" cy="0"/>
          </a:xfrm>
          <a:prstGeom prst="line">
            <a:avLst/>
          </a:prstGeom>
          <a:ln w="22320">
            <a:solidFill>
              <a:srgbClr val="8d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ector reto 4"/>
          <p:cNvSpPr/>
          <p:nvPr/>
        </p:nvSpPr>
        <p:spPr>
          <a:xfrm flipH="1">
            <a:off x="1701720" y="5084640"/>
            <a:ext cx="583272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tângulo de cantos arredondados 5"/>
          <p:cNvSpPr/>
          <p:nvPr/>
        </p:nvSpPr>
        <p:spPr>
          <a:xfrm>
            <a:off x="3265560" y="4602240"/>
            <a:ext cx="2487600" cy="718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8" name="CaixaDeTexto 8"/>
          <p:cNvSpPr/>
          <p:nvPr/>
        </p:nvSpPr>
        <p:spPr>
          <a:xfrm>
            <a:off x="291960" y="730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Sistemas de Informação -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ângulo de cantos arredondados 9"/>
          <p:cNvSpPr/>
          <p:nvPr/>
        </p:nvSpPr>
        <p:spPr>
          <a:xfrm>
            <a:off x="3368520" y="1282680"/>
            <a:ext cx="2262240" cy="65556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3625920" y="13302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ângulo de cantos arredondados 11"/>
          <p:cNvSpPr/>
          <p:nvPr/>
        </p:nvSpPr>
        <p:spPr>
          <a:xfrm>
            <a:off x="631800" y="2225520"/>
            <a:ext cx="7939080" cy="3826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tângulo de cantos arredondados 12"/>
          <p:cNvSpPr/>
          <p:nvPr/>
        </p:nvSpPr>
        <p:spPr>
          <a:xfrm>
            <a:off x="3389400" y="2565360"/>
            <a:ext cx="2170080" cy="7192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ixaDeTexto 13"/>
          <p:cNvSpPr/>
          <p:nvPr/>
        </p:nvSpPr>
        <p:spPr>
          <a:xfrm>
            <a:off x="3552840" y="267804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Calibri"/>
              </a:rPr>
              <a:t>Organiz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tângulo de cantos arredondados 14"/>
          <p:cNvSpPr/>
          <p:nvPr/>
        </p:nvSpPr>
        <p:spPr>
          <a:xfrm>
            <a:off x="3306600" y="3500280"/>
            <a:ext cx="234504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ixaDeTexto 15"/>
          <p:cNvSpPr/>
          <p:nvPr/>
        </p:nvSpPr>
        <p:spPr>
          <a:xfrm>
            <a:off x="3440160" y="363528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cessa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Conector de seta reta 16"/>
          <p:cNvCxnSpPr/>
          <p:nvPr/>
        </p:nvCxnSpPr>
        <p:spPr>
          <a:xfrm>
            <a:off x="580680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7" name="Retângulo de cantos arredondados 17"/>
          <p:cNvSpPr/>
          <p:nvPr/>
        </p:nvSpPr>
        <p:spPr>
          <a:xfrm>
            <a:off x="6738840" y="3500280"/>
            <a:ext cx="15163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18"/>
          <p:cNvSpPr/>
          <p:nvPr/>
        </p:nvSpPr>
        <p:spPr>
          <a:xfrm>
            <a:off x="7122960" y="3645000"/>
            <a:ext cx="144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aí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ângulo de cantos arredondados 19"/>
          <p:cNvSpPr/>
          <p:nvPr/>
        </p:nvSpPr>
        <p:spPr>
          <a:xfrm>
            <a:off x="981000" y="3500280"/>
            <a:ext cx="12859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ixaDeTexto 20"/>
          <p:cNvSpPr/>
          <p:nvPr/>
        </p:nvSpPr>
        <p:spPr>
          <a:xfrm>
            <a:off x="1098720" y="3635280"/>
            <a:ext cx="143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Entr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aixaDeTexto 21"/>
          <p:cNvSpPr/>
          <p:nvPr/>
        </p:nvSpPr>
        <p:spPr>
          <a:xfrm>
            <a:off x="909720" y="4211640"/>
            <a:ext cx="151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in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ixaDeTexto 22"/>
          <p:cNvSpPr/>
          <p:nvPr/>
        </p:nvSpPr>
        <p:spPr>
          <a:xfrm>
            <a:off x="6773760" y="4251240"/>
            <a:ext cx="151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out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aixaDeTexto 23"/>
          <p:cNvSpPr/>
          <p:nvPr/>
        </p:nvSpPr>
        <p:spPr>
          <a:xfrm>
            <a:off x="3286080" y="472428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troaliment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ector reto 24"/>
          <p:cNvSpPr/>
          <p:nvPr/>
        </p:nvSpPr>
        <p:spPr>
          <a:xfrm flipV="1">
            <a:off x="7534440" y="4797360"/>
            <a:ext cx="0" cy="2872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Conector de seta reta 25"/>
          <p:cNvCxnSpPr/>
          <p:nvPr/>
        </p:nvCxnSpPr>
        <p:spPr>
          <a:xfrm flipV="1">
            <a:off x="1700640" y="4725360"/>
            <a:ext cx="2520" cy="361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6" name="CaixaDeTexto 26"/>
          <p:cNvSpPr/>
          <p:nvPr/>
        </p:nvSpPr>
        <p:spPr>
          <a:xfrm>
            <a:off x="3214800" y="531180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Calibri"/>
              </a:rPr>
              <a:t>(feedbac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Conector de seta reta 27"/>
          <p:cNvCxnSpPr/>
          <p:nvPr/>
        </p:nvCxnSpPr>
        <p:spPr>
          <a:xfrm>
            <a:off x="233964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8" name="Elipse 2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aixaDeTexto 2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aixaDeTexto 3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2:18Z</dcterms:created>
  <dc:creator>marcelo.raimo</dc:creator>
  <dc:description/>
  <dc:language>en-US</dc:language>
  <cp:lastModifiedBy>marcelo.raimo</cp:lastModifiedBy>
  <dcterms:modified xsi:type="dcterms:W3CDTF">2011-04-19T19:05:22Z</dcterms:modified>
  <cp:revision>5</cp:revision>
  <dc:subject/>
  <dc:title>Slide 1</dc:title>
</cp:coreProperties>
</file>