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31AFB-86E0-45D2-AA22-7A0A2721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941D3-B02F-423F-B33C-482E6127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E724E-CF15-42F8-8F3D-FFE0C81D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D6329-36B9-48D3-9329-722FF29C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7CE9B-291A-4C3E-8B8C-D6ABD63D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CE357-A7C0-435E-BB0E-E1C80CE5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55018-4E85-45F1-9A50-5DDDC1DE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70DA4-FE0A-40E7-AAC2-CD79D699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9F93C-2B67-4511-9587-C409FCC3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30C37-BB7A-4CD3-9FCF-A138A17C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62B76-25E9-4501-9EC2-3312A8E4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0941D-F1F0-4DE8-9946-08CE76FB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AB6DD-EC80-4410-B8B3-A0EC9641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0BCFD-1E49-4830-B382-CE510FEA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12EE3-3515-4F41-BEB8-BA0C9497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E0EB4-3DDC-47A9-B15A-31C0DF25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ECF85-A03A-4A8D-8E90-84610A2C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6EF9E-92C9-43C5-A68E-B78B549E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89A93-37D6-4FC1-8B64-3B45FB4E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E5E18-B82F-45C3-A67D-6051B809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3F799-A763-4795-9B71-775B73AC6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07DF0-EB84-41B2-8272-83A2E18D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132CE-F85C-4DF8-BD3B-D8370920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5FF66-04AE-4F6D-8610-4C932725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54281-CECF-4510-A160-FD343FCC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459F6-413C-4250-8349-635CF4EA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6B279-2C6D-4FA1-AAD5-3345485F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5D379-5356-4612-9EFB-2AAA098F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32E27-C5D1-4DFF-865C-E910CDCA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859C3-16DA-4864-8BBF-2321CFEC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1577B-1876-4B9A-A3B7-C3A648AA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3F866-AA9A-4C96-9317-6E8F4E64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DB410-ED55-4396-91BF-BD94C625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5BE34-CB5D-433F-A2B4-B193D13B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CD66A-1333-4E30-8DF8-028DECCD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1EB0A-F060-4148-9155-0D472B0D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7644A-0E35-41A9-88EE-E8E9678C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2BFAD-8B92-446F-B815-444A6C92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69152-C97A-4021-8DD0-099AD824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2031B-FDCC-47E2-8DBC-AAB84857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8D158-C326-4684-A337-95883DDB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BB504-BE58-48F5-99B3-E7BED969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414BA-DF37-41F2-B9EC-FC402776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DEF26-8AF4-4A60-81E5-B3C34A91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7477A-0865-4998-B4B0-D39A9435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07E1-3ACE-4D2B-8670-A0663747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000D-1CC2-4A33-9456-47543231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4CA3-CE78-4F2C-9D09-D5A3AD5D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E8A4-6D0F-475B-B128-FF439266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C535-3784-4135-909D-6B8F1B86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3DC2-A9AC-46AA-9CC9-43E39C03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7B55-86C2-4D7A-AFC5-B76B9933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9F6C-84DD-4340-9654-839568A1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DDEB-3737-4347-A755-E5AE26FB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A7BA-EAFF-454A-91CC-A8D862BC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C89F-243D-4D57-9B59-4B6CBA6D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338A-3ADF-4DFE-A0BF-7E1F9114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0630-DC10-43E9-B169-9AE79316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2897-FD67-470E-9D41-C4FBD800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21AC-08D4-42AA-9204-0C61D335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18A0-C90E-467C-9E2A-31E6AEE5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049A-79CE-42FE-B74B-523031DB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2615-0778-4C1E-8C81-8BDA0974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ABFA-E476-4015-A1F2-F3950484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233F-EE6B-40F2-87D8-5D8A2768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52F9-CC99-4A0C-9C3F-39C833E2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2471-B097-4B6C-BFC7-1B884806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FB2A-91D5-4664-9F31-A1AC8FD8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0932-45E1-4CCD-919C-A8BF48E8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4CEE3-3A0D-4B87-96BB-7DC8495D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AEDCB-4252-4CBD-AC94-346BCC3D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62E90-8060-42CD-A560-6B92C704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21E9F-A799-46D6-908B-8D00E381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9440B-0E13-4769-92B3-96788955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7413C-61A5-46BE-BC27-39BED6AF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99636-ECEC-4819-92A4-E29936F4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8D99C-3FFD-46DF-A9A4-94E9A728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49013-95BC-41B5-B765-09A74336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576E7-B219-4E1C-81DB-09754BE2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9BD39-0819-45A5-B6ED-3D47B1DA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2D53E-37CD-40D9-B0D7-A82D09A1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5DC65-DE79-49DF-8D67-2EE9EBD0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6733F-3934-4EB3-BCE9-A854BCFF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820CE-538E-4F49-BE17-244E7B50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BB9FE-8503-4E4C-BA82-404C8282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D9EBE-C9A5-4F69-BB3E-21481351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16305-2950-4334-9ABE-ADE3791D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11CA4-4AE4-4D52-9DA5-759C6317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4F1F3-F0FC-409A-BFD0-39673C22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3B91E-9479-45D0-B618-A3B8FA5F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A1495-4752-4AAF-83BA-FCE4E129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FCC2F-04B4-43E2-B5B1-98680F6A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BC06B-9B6F-497D-930E-13E6C121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9CD4A-7340-47B1-977C-1281ECB5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E0452-5F7D-4A8B-8F64-A98B237A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C14EC-FA73-4ABC-882A-19135398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72498-2000-4A16-816C-4104FB3B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8D3C5-F798-4163-B36E-4E1AE579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96B11-2CA6-4F6F-83E3-9B2A0905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6F24E-C050-4F6C-A207-0833EEAF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35AAD-DC25-450F-A477-ABD52314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3B5C7-82E3-41F7-88D9-D000353A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C978B-55F0-4A37-BD2A-99922ACD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A2303-EA65-4BD8-A9DD-82D9C0BB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93C42-598B-4147-82A5-5A71A04A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AC559-2E1E-4B12-BF6B-1CBE86CA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001AD-8EDE-443A-A2A5-1FC71D21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71720-37A5-4978-8E62-76D0F6E7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F2B82-79B8-446A-8C49-E8B8AFE9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7FF73-9CD6-472B-AD3C-7233499D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C51F9-9C38-4560-A5AC-DAD1F2F6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EC3BF-D187-4976-8120-3E97E7F0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AD12D-8536-4334-BEC3-EB7128BA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8D9A4-4330-48B7-9E06-B1A5755A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8F2DA-6D8D-404E-87CE-1D396F93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69920-B8B8-4019-94C2-D6132DF5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4017D-4133-4EAE-BE9E-4D90570F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74B7A-9CE5-43BD-9246-A753D055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2F145-0808-423F-A274-F7B78EC4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2677B-0554-461A-8DAF-FC731E8D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AA08-C366-4A50-8CD2-15E6746465A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68FE-0460-4EEC-AFD8-FE3F03F51CE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9F06-0F36-4234-AAB2-4A3D9555F47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vermelha.png"/>
          <p:cNvPicPr/>
          <p:nvPr/>
        </p:nvPicPr>
        <p:blipFill>
          <a:blip r:embed="rId4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473F-66C4-4452-9539-6F529BBCD99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6935-E8A6-4087-B8C6-415B3BC6A7B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0F31-D203-4661-B616-61B8B044666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CF68-3EB7-4FD7-873B-44FE3724AC4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A049-30C7-4306-846E-88BA0BF8823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F706-97BA-4C52-8D73-72F1ED4B342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CD61-17C0-433E-AADA-C55ECDC83E9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95280" y="1836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2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eta para a direita 7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8:23Z</dcterms:created>
  <dc:creator>marcelo.raimo</dc:creator>
  <dc:description/>
  <dc:language>en-US</dc:language>
  <cp:lastModifiedBy>marcelo.raimo</cp:lastModifiedBy>
  <dcterms:modified xsi:type="dcterms:W3CDTF">2011-04-19T19:01:28Z</dcterms:modified>
  <cp:revision>4</cp:revision>
  <dc:subject/>
  <dc:title>Slide 1</dc:title>
</cp:coreProperties>
</file>