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5D544A-A81D-4086-8CCD-F8A9EE127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A3BADC-8728-4EB1-B9F3-3CA971B79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E20B98-BEAE-49BE-8AF4-6B2245FE0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C600E4-FC2E-4775-91E8-9B92981D6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E69AC8-B4F2-48E6-A85F-7820ACDA5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C57701-1722-4919-9A61-C463CEF41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28CB3B-5B36-4EEC-82C9-47F2DF036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4754B7-DCEF-4EB7-A5C5-4E93EBFCD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4EEE8F-63B5-4707-A7F9-A804FBF82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33161A-34B6-462D-AD34-9E88789AD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B2AFBE-5224-4962-BCD2-DB7A8530B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FA03A4-92EB-4B6D-BEC1-830E20A9C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F74AFB-F1B2-498A-BF04-8262EFE7C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1D13E9-F6F6-4313-AF28-3F15A00F4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05F887-239D-4A82-8B16-D0DE3DE3B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09D3D6-AF37-4C60-A907-1F923A834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A2B8FD-D6B2-48F4-9A75-268ADD9F1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F4CBB1-70E6-4D74-AA9D-D7196FFFB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043FED-8534-4F88-A1A9-30201AF81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C808E3-1580-47CC-8542-60A92CAB1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B82264-5DF4-4C71-A92F-D4D007F66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3759F6-E541-4272-9C9B-A5503153F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06582F-98B3-493D-8F32-880BD0A16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E4A1F9-E0B2-4468-B070-68805122B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D9A02E-B9C7-468F-9CBD-A4361AF27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6601FD-76FB-4C53-878A-C13A66879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045757-72C7-4532-ACDE-00C70F020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453B5B-4EC5-465B-9648-E772ADECE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22D94E-DC72-498E-90C5-7DA997DDE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356441-70C3-4F2D-9DD9-2605F6E78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8C8EAC-0647-496F-9FF1-CCE59B37D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D0544D-E1BA-42F5-8D40-0B1BD1EF6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8E8D96-7F03-49F4-9401-591C7F143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E370E9-81D1-4826-8D43-F8A9B27C6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FD7175-0E2E-4921-8E59-98496DF18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2E922B-1D71-4F77-839C-BFA0DD34F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87666D-1CE0-4860-971A-5223B2CFF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EA6C15-D461-4F84-A766-FF5612F1F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8109EE-EF8E-47D1-B762-94A96C30F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1E168F-0E29-4F1B-8B28-08D32686F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B7E4D0-9E01-49C2-B704-BCC8C0C1E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C4A390-5D91-4CCB-9B8A-741F1886A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F4E76C-C81D-416E-ABE2-FF3D9282C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7A34C8-AA50-41ED-B544-1C74D1944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019BFF-5586-4430-B30E-3F6B799A7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B75CB-85BA-4BDB-9156-EA7146744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DD149-35B7-409B-B4CA-873852265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20272-DD22-4FA0-920D-999D848A4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5A19F-6C76-430C-8D10-F587B2401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AFE93-450B-4BD1-8D7F-817A87933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7554C-5037-4EAE-BF4B-D4C819BC5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02219-04B2-4CB6-B730-2F14D236E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68FB4-F63C-4638-81AB-2D039DA58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C1A0B-7F20-4B46-8A7D-202284DB6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A1A8A-206E-4208-80E2-FB9F98879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DFA9A-6EB2-432E-B137-C05BAA4DE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5E460-94F1-4C59-80EE-7FD8A9FBF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7738D-D1D9-4712-9F47-73B8B6808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2E0A4-2129-4CDA-BA89-2FA373435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C8090-93CE-4C59-A9BC-0754199F3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8C4C6-0103-4B90-9577-F8B060BBE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8B135-CFDD-463F-B691-3C1195F52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531B5-AE6D-481A-87A4-40D35C5A3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B79B6-2864-42DA-B5DB-EF3B0C54F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9E633-06EE-4FBE-B31A-AE31F1DC4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20764-1785-4DBB-BCA2-EAA6071A6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A4A0B-907B-479F-915A-B08963E90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E65BC-C81A-40C5-B173-9AA9EFDC3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841AA-4B78-423C-89F9-A2DC8DF3D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4ABC62-A2A5-42D6-954E-DA0194786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D9E1F3-14D5-400D-AFB0-A912067A0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AEC0D7-9D7B-4881-98CF-7CF4BC7E6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EB494F-53EB-44E1-A833-FBE42CB8F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2D0CD5-0DAA-4E29-9297-510621769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E5AE17-1F73-46B1-8326-C8CE437FA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2B1386-090E-4863-BC77-08C58CA45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00411D-E788-447A-BEF2-DF911E69F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1F8A4C-30F1-47A6-B154-E45D38AE4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3BE04D-D4C1-4B09-A5C2-7EC24F163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E46CFB-6EB2-463C-8043-23E700099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42124F-08EE-4FE6-B297-ACBE8244A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B6F2E4-C0BC-4B0D-AD44-E86EB6252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F6EDE3-084E-43B6-8E53-3FB85E7FA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C9019C-ECBE-4EE0-BEA1-59F83DDD9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AC618C-C84A-41FE-8155-15F45C4ED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2EE2FD-EA4C-4CAF-BC14-D905AC4DA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C75683-8D25-4CCE-845D-394E707DE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725311-2A9A-4386-9BC7-FCAE84D7C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5F1F07-CA65-4BF0-9EC8-8E5A52949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5BB75B-F970-424B-89B7-28B580B6E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BDE7B2-4163-4DE8-8997-AE47ECDEB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D259C5-988B-43B4-B0AC-8806690E7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F27BDE-EA23-4271-9B24-B646A8F85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A095AE-9FA1-406F-9BC1-CC8716CD8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89F427-F945-4DEF-9563-0B3A035B3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6F5841-8373-4833-9FFE-46288340A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AEF412-2AE0-4CC1-BDD6-60BDD2C6A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63BAEB-6C90-495A-A153-D9BEBCEED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597B25-C012-45BA-877D-3F149484F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9076C3-CFD4-4D60-ADD0-99A0A89C6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16D52A-C221-4914-9A7D-A52325572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40EA17-DC0A-4172-BD14-2FE46F005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D2510E-10A9-42EC-B3A9-C6186DAD0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FFEF6B-0A88-4D8C-A6A8-40E5C5E8C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9AC5FC-1864-4616-A1A1-B8B731BFA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A794F4-6EF6-4CE5-BA07-6CB35FF05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C18F36-4B89-419B-B378-81440A0C9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1E457B-2BDA-4C11-BCA5-12027C7F0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59AE7B-CA06-4FAA-B1BB-338B1EAE6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5854E0-AD8F-43E2-B3E9-64B095287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E90D43-F29A-48FD-9139-377BB95E5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A22E71-AE9B-4008-8EAB-EF8CF721A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C54601-1CC5-4CE4-877B-0538E55FA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BE0376-19E5-41BE-9143-B19E5EB91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0888E6-00D9-45E1-A1A0-D42442BFE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B2A723-0BBC-41E7-82BC-834B85ABD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30F0D4-1858-4A8D-B3F7-E5AB32D78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657E7C-56E3-4AB2-B26F-1BBDB1A74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F880C6-B0AB-40CC-B506-3FD9E0F2B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1EE7AF-8411-4848-8CF6-2C09B29CF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C:\Documents and Settings\Marcelo.Raimo\Desktop\pps\tarjas\barra-vermelha.png"/>
          <p:cNvPicPr/>
          <p:nvPr/>
        </p:nvPicPr>
        <p:blipFill>
          <a:blip r:embed="rId2"/>
          <a:stretch/>
        </p:blipFill>
        <p:spPr>
          <a:xfrm>
            <a:off x="0" y="-12060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C:\Documents and Settings\Marcelo.Raimo\Desktop\pps\tarjas\tarja-vermelha.png"/>
          <p:cNvPicPr/>
          <p:nvPr/>
        </p:nvPicPr>
        <p:blipFill>
          <a:blip r:embed="rId3"/>
          <a:stretch/>
        </p:blipFill>
        <p:spPr>
          <a:xfrm>
            <a:off x="-127080" y="6402240"/>
            <a:ext cx="9325080" cy="1424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Picture 3" descr="C:\Documents and Settings\Marcelo.Raimo\Desktop\pps\tarjas\barra-vermelha.png"/>
          <p:cNvPicPr/>
          <p:nvPr/>
        </p:nvPicPr>
        <p:blipFill>
          <a:blip r:embed="rId2"/>
          <a:stretch/>
        </p:blipFill>
        <p:spPr>
          <a:xfrm>
            <a:off x="0" y="-12060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2" descr="C:\Documents and Settings\Marcelo.Raimo\Desktop\pps\tarjas\tarja-vermelha.png"/>
          <p:cNvPicPr/>
          <p:nvPr/>
        </p:nvPicPr>
        <p:blipFill>
          <a:blip r:embed="rId3"/>
          <a:stretch/>
        </p:blipFill>
        <p:spPr>
          <a:xfrm>
            <a:off x="-127080" y="6402240"/>
            <a:ext cx="9325080" cy="1424160"/>
          </a:xfrm>
          <a:prstGeom prst="rect">
            <a:avLst/>
          </a:prstGeom>
          <a:ln w="0">
            <a:noFill/>
          </a:ln>
        </p:spPr>
      </p:pic>
      <p:sp>
        <p:nvSpPr>
          <p:cNvPr id="370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E6129-3DD7-483D-BECE-492A43E5A973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3" descr="C:\Documents and Settings\Marcelo.Raimo\Desktop\pps\tarjas\barra-vermelha.png"/>
          <p:cNvPicPr/>
          <p:nvPr/>
        </p:nvPicPr>
        <p:blipFill>
          <a:blip r:embed="rId2"/>
          <a:stretch/>
        </p:blipFill>
        <p:spPr>
          <a:xfrm>
            <a:off x="0" y="-12060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2" descr="C:\Documents and Settings\Marcelo.Raimo\Desktop\pps\tarjas\tarja-vermelha.png"/>
          <p:cNvPicPr/>
          <p:nvPr/>
        </p:nvPicPr>
        <p:blipFill>
          <a:blip r:embed="rId3"/>
          <a:stretch/>
        </p:blipFill>
        <p:spPr>
          <a:xfrm>
            <a:off x="-127080" y="6402240"/>
            <a:ext cx="9325080" cy="1424160"/>
          </a:xfrm>
          <a:prstGeom prst="rect">
            <a:avLst/>
          </a:prstGeom>
          <a:ln w="0">
            <a:noFill/>
          </a:ln>
        </p:spPr>
      </p:pic>
      <p:sp>
        <p:nvSpPr>
          <p:cNvPr id="411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C1C68-5AEA-4958-AAEF-0CC6E27112A1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Picture 3" descr="C:\Documents and Settings\Marcelo.Raimo\Desktop\pps\tarjas\barra-vermelha.png"/>
          <p:cNvPicPr/>
          <p:nvPr/>
        </p:nvPicPr>
        <p:blipFill>
          <a:blip r:embed="rId2"/>
          <a:stretch/>
        </p:blipFill>
        <p:spPr>
          <a:xfrm>
            <a:off x="0" y="-12060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2" descr="C:\Documents and Settings\Marcelo.Raimo\Desktop\pps\tarjas\tarja-vermelha.png"/>
          <p:cNvPicPr/>
          <p:nvPr/>
        </p:nvPicPr>
        <p:blipFill>
          <a:blip r:embed="rId3"/>
          <a:stretch/>
        </p:blipFill>
        <p:spPr>
          <a:xfrm>
            <a:off x="-127080" y="6402240"/>
            <a:ext cx="9325080" cy="1424160"/>
          </a:xfrm>
          <a:prstGeom prst="rect">
            <a:avLst/>
          </a:prstGeom>
          <a:ln w="0">
            <a:noFill/>
          </a:ln>
        </p:spPr>
      </p:pic>
      <p:sp>
        <p:nvSpPr>
          <p:cNvPr id="452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AC1F6-1F40-47E4-A26D-BB18EB49B0BF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3" descr="C:\Documents and Settings\Marcelo.Raimo\Desktop\pps\tarjas\barra-vermelha.png"/>
          <p:cNvPicPr/>
          <p:nvPr/>
        </p:nvPicPr>
        <p:blipFill>
          <a:blip r:embed="rId2"/>
          <a:stretch/>
        </p:blipFill>
        <p:spPr>
          <a:xfrm>
            <a:off x="0" y="-12060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39" name="Picture 2" descr="C:\Documents and Settings\Marcelo.Raimo\Desktop\pps\tarjas\tarja-vermelha.png"/>
          <p:cNvPicPr/>
          <p:nvPr/>
        </p:nvPicPr>
        <p:blipFill>
          <a:blip r:embed="rId3"/>
          <a:stretch/>
        </p:blipFill>
        <p:spPr>
          <a:xfrm>
            <a:off x="-127080" y="6402240"/>
            <a:ext cx="9325080" cy="142416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2" descr="C:\Documents and Settings\Marcelo.Raimo\Desktop\pps\tarjas\tarja-vermelha.png"/>
          <p:cNvPicPr/>
          <p:nvPr/>
        </p:nvPicPr>
        <p:blipFill>
          <a:blip r:embed="rId4"/>
          <a:stretch/>
        </p:blipFill>
        <p:spPr>
          <a:xfrm>
            <a:off x="-50760" y="1521000"/>
            <a:ext cx="9325080" cy="1423800"/>
          </a:xfrm>
          <a:prstGeom prst="rect">
            <a:avLst/>
          </a:prstGeom>
          <a:ln w="0">
            <a:noFill/>
          </a:ln>
        </p:spPr>
      </p:pic>
      <p:sp>
        <p:nvSpPr>
          <p:cNvPr id="41" name="Retângulo 4"/>
          <p:cNvSpPr/>
          <p:nvPr/>
        </p:nvSpPr>
        <p:spPr>
          <a:xfrm>
            <a:off x="0" y="5229360"/>
            <a:ext cx="9144000" cy="1628640"/>
          </a:xfrm>
          <a:prstGeom prst="rect">
            <a:avLst/>
          </a:prstGeom>
          <a:solidFill>
            <a:srgbClr val="cf21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tângulo 5"/>
          <p:cNvSpPr/>
          <p:nvPr/>
        </p:nvSpPr>
        <p:spPr>
          <a:xfrm>
            <a:off x="0" y="1789200"/>
            <a:ext cx="9144000" cy="792000"/>
          </a:xfrm>
          <a:prstGeom prst="rect">
            <a:avLst/>
          </a:prstGeom>
          <a:solidFill>
            <a:srgbClr val="ff5353">
              <a:alpha val="8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3" descr="C:\Documents and Settings\Marcelo.Raimo\Desktop\pps\tarjas\barra-vermelha.png"/>
          <p:cNvPicPr/>
          <p:nvPr/>
        </p:nvPicPr>
        <p:blipFill>
          <a:blip r:embed="rId2"/>
          <a:stretch/>
        </p:blipFill>
        <p:spPr>
          <a:xfrm>
            <a:off x="0" y="-12060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" descr="C:\Documents and Settings\Marcelo.Raimo\Desktop\pps\tarjas\tarja-vermelha.png"/>
          <p:cNvPicPr/>
          <p:nvPr/>
        </p:nvPicPr>
        <p:blipFill>
          <a:blip r:embed="rId3"/>
          <a:stretch/>
        </p:blipFill>
        <p:spPr>
          <a:xfrm>
            <a:off x="-127080" y="6402240"/>
            <a:ext cx="9325080" cy="142416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80F27-A8D2-48AE-8B18-7A3DD9558D4B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3" descr="C:\Documents and Settings\Marcelo.Raimo\Desktop\pps\tarjas\barra-vermelha.png"/>
          <p:cNvPicPr/>
          <p:nvPr/>
        </p:nvPicPr>
        <p:blipFill>
          <a:blip r:embed="rId2"/>
          <a:stretch/>
        </p:blipFill>
        <p:spPr>
          <a:xfrm>
            <a:off x="0" y="-12060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2" descr="C:\Documents and Settings\Marcelo.Raimo\Desktop\pps\tarjas\tarja-vermelha.png"/>
          <p:cNvPicPr/>
          <p:nvPr/>
        </p:nvPicPr>
        <p:blipFill>
          <a:blip r:embed="rId3"/>
          <a:stretch/>
        </p:blipFill>
        <p:spPr>
          <a:xfrm>
            <a:off x="-127080" y="6402240"/>
            <a:ext cx="9325080" cy="142416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39F58-F489-44D6-98C5-86F51F6B2ED8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3" descr="C:\Documents and Settings\Marcelo.Raimo\Desktop\pps\tarjas\barra-vermelha.png"/>
          <p:cNvPicPr/>
          <p:nvPr/>
        </p:nvPicPr>
        <p:blipFill>
          <a:blip r:embed="rId2"/>
          <a:stretch/>
        </p:blipFill>
        <p:spPr>
          <a:xfrm>
            <a:off x="0" y="-12060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2" descr="C:\Documents and Settings\Marcelo.Raimo\Desktop\pps\tarjas\tarja-vermelha.png"/>
          <p:cNvPicPr/>
          <p:nvPr/>
        </p:nvPicPr>
        <p:blipFill>
          <a:blip r:embed="rId3"/>
          <a:stretch/>
        </p:blipFill>
        <p:spPr>
          <a:xfrm>
            <a:off x="-127080" y="6402240"/>
            <a:ext cx="9325080" cy="142416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82F08-6C92-47AC-92AE-97E00F0587A3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3" descr="C:\Documents and Settings\Marcelo.Raimo\Desktop\pps\tarjas\barra-vermelha.png"/>
          <p:cNvPicPr/>
          <p:nvPr/>
        </p:nvPicPr>
        <p:blipFill>
          <a:blip r:embed="rId2"/>
          <a:stretch/>
        </p:blipFill>
        <p:spPr>
          <a:xfrm>
            <a:off x="0" y="-12060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2" descr="C:\Documents and Settings\Marcelo.Raimo\Desktop\pps\tarjas\tarja-vermelha.png"/>
          <p:cNvPicPr/>
          <p:nvPr/>
        </p:nvPicPr>
        <p:blipFill>
          <a:blip r:embed="rId3"/>
          <a:stretch/>
        </p:blipFill>
        <p:spPr>
          <a:xfrm>
            <a:off x="-127080" y="6402240"/>
            <a:ext cx="9325080" cy="142416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5861F-0D3D-47DD-A980-18ABF8310083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3" descr="C:\Documents and Settings\Marcelo.Raimo\Desktop\pps\tarjas\barra-vermelha.png"/>
          <p:cNvPicPr/>
          <p:nvPr/>
        </p:nvPicPr>
        <p:blipFill>
          <a:blip r:embed="rId2"/>
          <a:stretch/>
        </p:blipFill>
        <p:spPr>
          <a:xfrm>
            <a:off x="0" y="-12060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2" descr="C:\Documents and Settings\Marcelo.Raimo\Desktop\pps\tarjas\tarja-vermelha.png"/>
          <p:cNvPicPr/>
          <p:nvPr/>
        </p:nvPicPr>
        <p:blipFill>
          <a:blip r:embed="rId3"/>
          <a:stretch/>
        </p:blipFill>
        <p:spPr>
          <a:xfrm>
            <a:off x="-127080" y="6402240"/>
            <a:ext cx="9325080" cy="142416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71062-AB82-488C-BF87-0706B47AB146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Picture 3" descr="C:\Documents and Settings\Marcelo.Raimo\Desktop\pps\tarjas\barra-vermelha.png"/>
          <p:cNvPicPr/>
          <p:nvPr/>
        </p:nvPicPr>
        <p:blipFill>
          <a:blip r:embed="rId2"/>
          <a:stretch/>
        </p:blipFill>
        <p:spPr>
          <a:xfrm>
            <a:off x="0" y="-12060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2" descr="C:\Documents and Settings\Marcelo.Raimo\Desktop\pps\tarjas\tarja-vermelha.png"/>
          <p:cNvPicPr/>
          <p:nvPr/>
        </p:nvPicPr>
        <p:blipFill>
          <a:blip r:embed="rId3"/>
          <a:stretch/>
        </p:blipFill>
        <p:spPr>
          <a:xfrm>
            <a:off x="-127080" y="6402240"/>
            <a:ext cx="9325080" cy="1424160"/>
          </a:xfrm>
          <a:prstGeom prst="rect">
            <a:avLst/>
          </a:prstGeom>
          <a:ln w="0">
            <a:noFill/>
          </a:ln>
        </p:spPr>
      </p:pic>
      <p:sp>
        <p:nvSpPr>
          <p:cNvPr id="288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12CBD-ED63-4F78-B5CA-D2BB5F8C67AB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Picture 3" descr="C:\Documents and Settings\Marcelo.Raimo\Desktop\pps\tarjas\barra-vermelha.png"/>
          <p:cNvPicPr/>
          <p:nvPr/>
        </p:nvPicPr>
        <p:blipFill>
          <a:blip r:embed="rId2"/>
          <a:stretch/>
        </p:blipFill>
        <p:spPr>
          <a:xfrm>
            <a:off x="0" y="-12060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2" descr="C:\Documents and Settings\Marcelo.Raimo\Desktop\pps\tarjas\tarja-vermelha.png"/>
          <p:cNvPicPr/>
          <p:nvPr/>
        </p:nvPicPr>
        <p:blipFill>
          <a:blip r:embed="rId3"/>
          <a:stretch/>
        </p:blipFill>
        <p:spPr>
          <a:xfrm>
            <a:off x="-127080" y="6402240"/>
            <a:ext cx="9325080" cy="1424160"/>
          </a:xfrm>
          <a:prstGeom prst="rect">
            <a:avLst/>
          </a:prstGeom>
          <a:ln w="0">
            <a:noFill/>
          </a:ln>
        </p:spPr>
      </p:pic>
      <p:sp>
        <p:nvSpPr>
          <p:cNvPr id="329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7A28F-FFB3-432F-A031-9236D523E1AD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1" name="Picture 3" descr="C:\Documents and Settings\Marcelo.Raimo\Desktop\pps\tarjas\barra-vermelha.png"/>
          <p:cNvPicPr/>
          <p:nvPr/>
        </p:nvPicPr>
        <p:blipFill>
          <a:blip r:embed="rId1"/>
          <a:stretch/>
        </p:blipFill>
        <p:spPr>
          <a:xfrm>
            <a:off x="0" y="-12060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492" name="Picture 2" descr="C:\Documents and Settings\Marcelo.Raimo\Desktop\pps\tarjas\tarja-vermelha.png"/>
          <p:cNvPicPr/>
          <p:nvPr/>
        </p:nvPicPr>
        <p:blipFill>
          <a:blip r:embed="rId2"/>
          <a:stretch/>
        </p:blipFill>
        <p:spPr>
          <a:xfrm>
            <a:off x="-50760" y="1521000"/>
            <a:ext cx="9325080" cy="1423800"/>
          </a:xfrm>
          <a:prstGeom prst="rect">
            <a:avLst/>
          </a:prstGeom>
          <a:ln w="0">
            <a:noFill/>
          </a:ln>
        </p:spPr>
      </p:pic>
      <p:sp>
        <p:nvSpPr>
          <p:cNvPr id="493" name="CaixaDeTexto 9"/>
          <p:cNvSpPr/>
          <p:nvPr/>
        </p:nvSpPr>
        <p:spPr>
          <a:xfrm>
            <a:off x="6296040" y="2925720"/>
            <a:ext cx="633564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Calibri"/>
              </a:rPr>
              <a:t>Profª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Retângulo 6"/>
          <p:cNvSpPr/>
          <p:nvPr/>
        </p:nvSpPr>
        <p:spPr>
          <a:xfrm>
            <a:off x="0" y="5229360"/>
            <a:ext cx="9144000" cy="1628640"/>
          </a:xfrm>
          <a:prstGeom prst="rect">
            <a:avLst/>
          </a:prstGeom>
          <a:solidFill>
            <a:srgbClr val="cf21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CaixaDeTexto 8"/>
          <p:cNvSpPr/>
          <p:nvPr/>
        </p:nvSpPr>
        <p:spPr>
          <a:xfrm>
            <a:off x="1430280" y="5400720"/>
            <a:ext cx="64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Calibri"/>
              </a:rPr>
              <a:t>Mercado global, Mídia e Relações de po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etângulo 8"/>
          <p:cNvSpPr/>
          <p:nvPr/>
        </p:nvSpPr>
        <p:spPr>
          <a:xfrm>
            <a:off x="0" y="1789200"/>
            <a:ext cx="9144000" cy="792000"/>
          </a:xfrm>
          <a:prstGeom prst="rect">
            <a:avLst/>
          </a:prstGeom>
          <a:solidFill>
            <a:srgbClr val="ff5353">
              <a:alpha val="8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CaixaDeTexto 8"/>
          <p:cNvSpPr/>
          <p:nvPr/>
        </p:nvSpPr>
        <p:spPr>
          <a:xfrm>
            <a:off x="395280" y="1836720"/>
            <a:ext cx="691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Calibri"/>
              </a:rPr>
              <a:t>Marke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Elipse 10"/>
          <p:cNvSpPr/>
          <p:nvPr/>
        </p:nvSpPr>
        <p:spPr>
          <a:xfrm>
            <a:off x="-96840" y="3147840"/>
            <a:ext cx="2305080" cy="23036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CaixaDeTexto 11"/>
          <p:cNvSpPr/>
          <p:nvPr/>
        </p:nvSpPr>
        <p:spPr>
          <a:xfrm>
            <a:off x="76320" y="3776760"/>
            <a:ext cx="1942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emplo Ca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CaixaDeTexto 12"/>
          <p:cNvSpPr/>
          <p:nvPr/>
        </p:nvSpPr>
        <p:spPr>
          <a:xfrm>
            <a:off x="93600" y="4842000"/>
            <a:ext cx="1943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Apenas para exemplo; descarte este slid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1" name="Picture 3" descr="C:\Documents and Settings\Marcelo.Raimo\Desktop\pps\tarjas\barra-vermelha.png"/>
          <p:cNvPicPr/>
          <p:nvPr/>
        </p:nvPicPr>
        <p:blipFill>
          <a:blip r:embed="rId1"/>
          <a:stretch/>
        </p:blipFill>
        <p:spPr>
          <a:xfrm>
            <a:off x="0" y="-12060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502" name="CaixaDeTexto 8"/>
          <p:cNvSpPr/>
          <p:nvPr/>
        </p:nvSpPr>
        <p:spPr>
          <a:xfrm>
            <a:off x="395280" y="34920"/>
            <a:ext cx="55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Calibri"/>
              </a:rPr>
              <a:t>- Esquem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CaixaDeTexto 15"/>
          <p:cNvSpPr/>
          <p:nvPr/>
        </p:nvSpPr>
        <p:spPr>
          <a:xfrm>
            <a:off x="965160" y="1341360"/>
            <a:ext cx="43275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Calibri"/>
              </a:rPr>
              <a:t>Premissas básica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CaixaDeTexto 15"/>
          <p:cNvSpPr/>
          <p:nvPr/>
        </p:nvSpPr>
        <p:spPr>
          <a:xfrm>
            <a:off x="826920" y="1981080"/>
            <a:ext cx="7921800" cy="28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- Os sistemas existem dentro dos sistema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- Os sistemas são </a:t>
            </a:r>
            <a:r>
              <a:rPr b="1" lang="pt-BR" sz="2600" spc="-1" strike="noStrike">
                <a:solidFill>
                  <a:srgbClr val="000000"/>
                </a:solidFill>
                <a:latin typeface="Calibri"/>
              </a:rPr>
              <a:t>abertos</a:t>
            </a: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 – um depende do outr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Ex: produção de camisetas (agricultura até o produto final transformado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- As </a:t>
            </a:r>
            <a:r>
              <a:rPr b="1" lang="pt-BR" sz="2600" spc="-1" strike="noStrike">
                <a:solidFill>
                  <a:srgbClr val="000000"/>
                </a:solidFill>
                <a:latin typeface="Calibri"/>
              </a:rPr>
              <a:t>funções</a:t>
            </a: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 de um sistema dependem da estrutur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Seta para a direita 7"/>
          <p:cNvSpPr/>
          <p:nvPr/>
        </p:nvSpPr>
        <p:spPr>
          <a:xfrm>
            <a:off x="436680" y="1486080"/>
            <a:ext cx="488880" cy="242640"/>
          </a:xfrm>
          <a:prstGeom prst="rightArrow">
            <a:avLst>
              <a:gd name="adj1" fmla="val 50000"/>
              <a:gd name="adj2" fmla="val 50044"/>
            </a:avLst>
          </a:prstGeom>
          <a:solidFill>
            <a:srgbClr val="cf21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6" name="Picture 2" descr="C:\Documents and Settings\Marcelo.Raimo\Desktop\pps\tarjas\tarja-vermelha.png"/>
          <p:cNvPicPr/>
          <p:nvPr/>
        </p:nvPicPr>
        <p:blipFill>
          <a:blip r:embed="rId2"/>
          <a:stretch/>
        </p:blipFill>
        <p:spPr>
          <a:xfrm>
            <a:off x="-127080" y="6402240"/>
            <a:ext cx="9325080" cy="1424160"/>
          </a:xfrm>
          <a:prstGeom prst="rect">
            <a:avLst/>
          </a:prstGeom>
          <a:ln w="0">
            <a:noFill/>
          </a:ln>
        </p:spPr>
      </p:pic>
      <p:sp>
        <p:nvSpPr>
          <p:cNvPr id="507" name="Elipse 9"/>
          <p:cNvSpPr/>
          <p:nvPr/>
        </p:nvSpPr>
        <p:spPr>
          <a:xfrm>
            <a:off x="6840360" y="765000"/>
            <a:ext cx="2303640" cy="23036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CaixaDeTexto 10"/>
          <p:cNvSpPr/>
          <p:nvPr/>
        </p:nvSpPr>
        <p:spPr>
          <a:xfrm>
            <a:off x="7012080" y="1393920"/>
            <a:ext cx="194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emplo Conteú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CaixaDeTexto 11"/>
          <p:cNvSpPr/>
          <p:nvPr/>
        </p:nvSpPr>
        <p:spPr>
          <a:xfrm>
            <a:off x="7029360" y="2457360"/>
            <a:ext cx="1944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Apenas para exemplo; descarte este slid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9T18:28:23Z</dcterms:created>
  <dc:creator>marcelo.raimo</dc:creator>
  <dc:description/>
  <dc:language>en-US</dc:language>
  <cp:lastModifiedBy>marcelo.raimo</cp:lastModifiedBy>
  <dcterms:modified xsi:type="dcterms:W3CDTF">2011-04-19T19:01:28Z</dcterms:modified>
  <cp:revision>4</cp:revision>
  <dc:subject/>
  <dc:title>Slide 1</dc:title>
</cp:coreProperties>
</file>