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6F55F-7A66-4335-8906-263E7AC1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989B6-ADAE-4040-B0EF-16569A92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7B3DB-A968-4C30-867C-76B70C62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A7D23-B684-43B6-B38E-926C2D78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1A014-B740-4288-8BED-BFCC613E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DFF61-E12B-4AD1-B84F-AF17AFD1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5A97A-0880-479A-BC41-296B5D2D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2C13C-FD79-45F9-AF00-7B2D737F5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DB420-8DE9-40BB-BAB5-B6F34349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C0785-4405-4683-B56C-E4598093C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2610B-20E1-4316-B661-E3DB6E70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19C31-15AA-4578-BE4E-E20A8B45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F3CA6-B6DB-4248-9515-842F969D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9DEB8-9C13-4B44-80CF-62AE75D6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7D5A1-7BE2-44C3-8026-7A10BCB2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9914A-4B1F-41E5-BBC5-BB67E965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21212-76EC-42C5-B95F-876E91AA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FA1D7-A419-477D-A03D-36934BC9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FE4B3-EF6D-4B05-A4FA-2AAE68B3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5861F-AD94-40E3-9CEC-F9B34D48E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99D48-0F27-4337-8D4A-9329F6D2E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C9B04A-21C1-4ED7-A84A-E1FEE8B44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1010B-7E0C-406B-95BF-A4E38998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981E9-EB94-44C7-AF2C-5FCB4EDB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FD76E-DDFD-414C-A376-FF90BEB2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67280-CC00-46C2-83A6-0F526F13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F1D68-E647-4E18-8100-251D8F06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CB69B-26FD-4DC2-ADCE-3C6CEB91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D3F94-807D-42B5-86FE-F6246757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71511-9B88-4138-9B55-B851110A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BF3A4-3A6D-4CAE-8AE6-2F881181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949C32-243B-42E0-A810-D17754206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483B80-7333-48E6-AF32-2F0F80E25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05751-A3D4-4604-8ACD-CEE1F904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2D19ED-7647-45CE-B5C1-D3F582E7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172289-8B1D-4E04-8B23-C9ACBFCB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C2B799-92F7-45C8-97A5-96F43353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A09E9F-3EA5-4468-AFA1-7D4B2A1D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100F6-4D7E-4776-952D-58D84EE1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18E4E-6427-4F41-B912-DE4488DC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734A48-C57D-496B-B12C-4F93557C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04DA01-A383-4A2B-8AD8-2C5283B5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ABD028-5997-4E8B-8396-455F99D5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8893C2-016E-4C34-ACA9-D4DEFCA44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62DEE2-DE89-4172-9588-9570D726B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72D8-4B97-4C2D-A9DF-9A568DAF3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7338-BDA1-48E2-84C5-73BA2976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57EE-BF85-44D3-9149-3499C9D7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760E-2E6D-44E3-9923-5820BB31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802F-9817-489A-9BDC-B637042B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6E1E-AD6E-4A18-BBF3-900E5D05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0BE2-7C9E-4FE7-BBAD-FA95E398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B690-F588-4787-8C65-897F1140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C949-B2C5-4953-AB93-A0120CA1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84BA-CBD6-4A7B-A6EA-25CBD246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08AC-4ACF-4980-874D-DFECD409C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DA26-322A-452F-A04B-7FCD9A8DC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DC5C-288E-43A0-B070-97B9BCAEF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762B-ACAA-4E6D-BE01-7A923861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FA0D-3E0D-4E29-B12F-2E47E1ED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0909-D056-4E4A-9B7F-356F8B23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6EF6-7582-4088-81BA-EB907F26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F5C4-41A7-4DCC-89B0-94FDCF8C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25BC-BAB9-4591-AE10-08B7FA18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BF07-CE4E-4838-9C4A-76197EBA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2D6C-F975-45CC-8F9A-007A6FBE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4A37-B70F-46C8-9289-7907A047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7F50-700F-401B-A0F7-19C2C2937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903A-0C72-4EEF-A894-C8F831366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8410A-63A4-4107-AB2E-D96E793EF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9E167-69C1-4FB4-BB9C-0CAC504C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40BE6-D53B-4C76-8DD8-562AFEBD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4E303-2CBA-49EE-960F-B57A768B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7ACA9-418C-4040-A4CD-84EF8CDB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0438A-CA8B-4176-8FD1-F31AE462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1B8F8-5874-464C-8158-1CCEE4E3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F0994-FDE6-48ED-AE38-0FCDDD26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A028C-F687-4097-A87A-ADBF073D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80F9A-62A0-4104-A07B-337F1BE3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3C109-0566-4778-B7AD-EED7108F9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0A736-7571-4CFB-B9D3-26742F216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78608-AFF3-4AF4-88ED-FE5026ECB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3D3F4-D883-42A1-886A-87744978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8F4EB-9DA4-41F9-8B3F-33E59795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B7751-3113-4E4B-89C9-2F86B82A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6E1A7-8472-4882-AFD7-CEFE44E0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396CF-DFEF-4002-AC38-867F8306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EAFBD-7EC2-45E4-92B6-B2B3AE81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CB274-CA72-4BFF-B3C2-7F238C3C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B6814-0B45-492D-93EB-364F9845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198E7-DA69-4235-BA35-98F97537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E6C64-63A9-490E-BDAB-5C570E057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AA819-A3F7-44B2-8C9D-CD147A37E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6974F-BE62-4093-99AB-5F6107870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98300-4A06-45C8-893F-3D5D7DD3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96FF3-F4B7-469B-B1CA-75073125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506C0-5416-4C22-AA59-7BE71B14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43804-414A-4678-BB72-1374E610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447B3-6F9C-4623-85A9-614CC072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6E1D6-B742-4E63-A252-7C20F7B5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EE36E-36F9-40B4-911B-ABD46BE6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CB038-B6C3-4DD9-9A83-A821B742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2149A-5EA2-43A5-A7BC-18A8B178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124C2-DCC5-4B41-BB19-5613EF88D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5D480-AC80-4120-A771-F946DBD0A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0AE62-8311-47FC-BF7E-3681A53A0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CABD2-A101-4CE7-B8B2-35FE313A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E341F-4DA9-4900-BA9F-823D6823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59F9D-BF1F-4D31-9781-DB2AB652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83446-8E32-424A-8411-1CC70C3D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7C327-3EC9-4B3F-8862-7CB5FC3B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A267C-DB1A-4665-B342-EBFF154D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0DF08-3F16-4121-9410-3DBFA35E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3EED3-F231-4831-A17D-9C5262D3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1F558-7AB2-4DAC-8DC8-761C364E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70BA0-7132-43B3-8017-05AAD482E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D6BED-B557-42DD-BC6B-51A098CB4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7F052-9D48-481E-ADA3-4619B9B36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4F355-E4F6-489C-8E48-204165C0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F957B-3CDD-4C1C-81BA-16096EBF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791B-8FB7-4385-A2DA-8DDEC0F37E8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6158-EE53-4547-8091-0BDB7CDE450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E425-AEFD-4AF5-ACD1-3DF0B71C6B5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vermelha.png"/>
          <p:cNvPicPr/>
          <p:nvPr/>
        </p:nvPicPr>
        <p:blipFill>
          <a:blip r:embed="rId4"/>
          <a:stretch/>
        </p:blipFill>
        <p:spPr>
          <a:xfrm>
            <a:off x="-50760" y="1521000"/>
            <a:ext cx="9325080" cy="14238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f535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4459-6C46-484D-A58F-F221F5BC91A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E6FF-343B-451C-967E-519F8D36881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F7E8-7F0C-4D83-AE42-08EBEB29089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83E7-4866-40B8-B53B-D060319E23C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30F3-7545-4034-90F6-9F647797158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7F5A-3142-4D6A-9875-4C3E394A266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88CB-B5E5-4F60-B028-2B28D49543A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barra-vermelha.png"/>
          <p:cNvPicPr/>
          <p:nvPr/>
        </p:nvPicPr>
        <p:blipFill>
          <a:blip r:embed="rId1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tarja-vermelha.png"/>
          <p:cNvPicPr/>
          <p:nvPr/>
        </p:nvPicPr>
        <p:blipFill>
          <a:blip r:embed="rId2"/>
          <a:stretch/>
        </p:blipFill>
        <p:spPr>
          <a:xfrm>
            <a:off x="-50760" y="1521000"/>
            <a:ext cx="9325080" cy="1423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f535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95280" y="183672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ark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barra-vermelha.png"/>
          <p:cNvPicPr/>
          <p:nvPr/>
        </p:nvPicPr>
        <p:blipFill>
          <a:blip r:embed="rId1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2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826920" y="1981080"/>
            <a:ext cx="7921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eta para a direita 7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2" descr="C:\Documents and Settings\Marcelo.Raimo\Desktop\pps\tarjas\tarja-vermelha.png"/>
          <p:cNvPicPr/>
          <p:nvPr/>
        </p:nvPicPr>
        <p:blipFill>
          <a:blip r:embed="rId2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28:23Z</dcterms:created>
  <dc:creator>marcelo.raimo</dc:creator>
  <dc:description/>
  <dc:language>en-US</dc:language>
  <cp:lastModifiedBy>marcelo.raimo</cp:lastModifiedBy>
  <dcterms:modified xsi:type="dcterms:W3CDTF">2011-04-19T19:01:28Z</dcterms:modified>
  <cp:revision>4</cp:revision>
  <dc:subject/>
  <dc:title>Slide 1</dc:title>
</cp:coreProperties>
</file>