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ECFEC-EEEB-4D5B-87E7-AD85A6AF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60C7B-2B67-4F91-9338-50077474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47C47-FC27-41BB-A5D7-C854815D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93B13-BB29-48CB-8166-6B08DB09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8F582-21B7-42DA-9ACF-D59D6866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BF04F-EB83-4708-88AC-37875369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F4F5B-C5B5-4C89-AF5A-E4BD0915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A0D22-D503-49FD-953D-02768AC19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3DCC7-350A-499F-AF91-6192AA7AC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ECC43-86D7-4D6F-927D-A1EF1EEAB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E78DB-027D-49AC-9E2C-B2E1DA19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FFD81-EC05-4E86-BF46-A922CB8B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1A9A2-646E-4388-9970-B9CFA680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39458-D9F3-49A8-89A0-3A3BB87F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8212B-53AE-4D72-84DD-D8A40DE7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2B9E8-2634-4DEE-8990-8A40F127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CC49D-FDDD-4CD5-A0A0-735E6D94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DD3CF-C035-4804-9F3E-43C661FD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FBB62-21C3-40BB-8A37-8965EDAA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ED760-08D5-4BAE-91F8-4B4B621E6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40E22-B6D5-4CE4-94AC-6E7943807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D79BEA-6855-4E27-9BF1-3EB72AF61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0993C9-FB98-4049-86AC-184C47C0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1BD87-3D9F-4E97-BCC5-6CB8B585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87414F-B916-4267-A783-425F4887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52681-04A5-46DF-9ABF-F5F8DC8F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9D0A4A-6DAA-4C20-A40D-A674E3E2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104241-A05F-4CDA-81B3-259AABB3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9654C8-257D-41F3-9254-9E27521A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24A291-F75C-409F-A77D-DDB73938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C8BFCF-A005-441A-B5D0-CD5B0830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27D01D-6A9F-4286-9BB5-3AD773A14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53344A-1A21-4B5C-AA81-9F80D398E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B2B1F-3B4D-491B-961E-1FEEA7275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4612E2-E383-494D-9B53-C9AAC2CB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D48CB4-69CC-4AB6-9D33-C8368989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0BA2D1-0883-4C67-B862-EF5E0921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F2AFEF-9F4B-4A33-9F93-EFA5411D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49F39C-4C94-4E3D-8B84-CA79E8E8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A845D2-378B-4826-8BCD-42ED4A7F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CCF3AB-CF89-4689-9131-B3CAD8ED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CAE1DA-2644-44B9-BB9F-E1A9396F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B0F2C-9167-4F87-B07A-FD7F7DDF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E29526-804C-465B-874F-2BB3CFB6F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844C78-981A-451A-AE73-993E9709C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1680-33F1-44C3-9607-344E04EDD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4B31-8C0F-4B24-B2BF-3255FA01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8D0D-7C9C-4E2C-A6E0-F02E35FA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EB41-0925-41DA-87AA-E3EC6777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892A-3D2A-47DE-984D-E8B991B8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95B0-2428-4190-B1AF-FDA05403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1725-165C-44DF-BA9A-145E1F65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266F-A93D-4064-A40B-C95D9FA4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60CA-6CE5-4A28-9CBE-381EEEB3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AB41-3BA2-45D4-8BE5-3A64658A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C9E1-C097-4095-9721-0FE0F9D6B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D325-0562-45E0-A352-E39077FBF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430E6-C7AC-44F9-A977-C9926F59B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9CF8-CD2B-45B7-A81A-19F140C4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DE2E-2C7E-4C9F-9CF2-A49D4D07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966B4-FC37-45E3-9B05-4E8B4134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BB81-F9D2-4E5F-9BD2-EC388C9A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2DD0-A5E9-4089-95C6-2BEE9F5A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3DA4-FFB5-4D9F-A788-57064D90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F962-0B08-4E8D-9EFC-28594280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E639-F5EC-4EAD-8FE9-FF92181C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B91F-5F77-4A20-9340-85129082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876AA-301F-480A-9688-88D83FB21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102BB-4143-4A32-B202-7224AB06C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AE73B-002B-4080-9839-B98A6952C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397C8-0B33-45A1-9E2D-D1B6636F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9B9C1-282A-46F9-971C-E05BA7D7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A9BDF-CEEE-4AE2-9314-8EA4F8A8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7EA57-BBDC-4049-95B4-5FAC0826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56BD8-FCEC-4C8B-8089-5CF5FEAB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9BB1B-ACE6-4ECC-8A37-E3C4DE7A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94F1B-315E-4AE0-9583-CF0E4F83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CF357-C6BB-45F0-8338-2A44479E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AE4A4-30B0-4B30-A8CC-9CFB9669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9CC60-76CC-4314-AADA-826BED681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5C57F-C4AB-4448-8EEB-DE7D3A965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758C5-3C58-4447-A6D7-55A6A4CEC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03CAE-D8B3-4713-A3EE-21BABC49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51CBC-FA2D-4BC7-84A2-C79AB185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272E3-7919-48ED-B20C-79282EE8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3D61A-9A70-4F5D-A3AF-65AFA12C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B4E52-0E24-4E00-BD9A-D8C1F29B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1D5D6-7EB7-4520-B511-58382327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A87EE-846C-4161-B884-15239AB0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3F78E-5E31-4FB3-80D1-BF43AB17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D75FC-9E34-4C49-846A-E9CF5B87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D61DE-6E4F-4A47-9E55-97BA4BA57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6C1CE-5D57-44A4-ABFC-A30BC5CFA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7147A-80BD-4D16-AFB6-5E5D50D37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E34B3-BDAF-497E-995D-374638AB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EB051-5040-4567-AA7C-9C4A5DF4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FE62A-21C6-4105-B150-639C0635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EBCC3-4597-4094-BE63-54BA78E2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B377B-547B-4CE8-BF8C-34868A2A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ACEF7-FD1F-411B-A2FC-3E88460D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707F9-1DD6-4710-8C70-370BED97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8DF7A-52BC-4650-8B6E-2776CBE3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FBA73-FFB8-4C2B-94ED-81A738D7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FF239-70B5-4DB5-B733-5BBB443B9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3B41A-FFCA-4D37-8F06-F9B96F49F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F9F52-5FD2-444B-9C38-33418468B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E7822-E477-43A9-847E-906D20C9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05C0A-13CC-480D-9A12-006CF9C4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2F5E6-E13E-4A80-B02B-FE88BCA9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1D655-0B43-4BB9-9918-B12CA6AF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39307-08A1-4137-9828-6E9D60F3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F4B12-C770-452A-94A4-40E0C26C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A74AC-8E2D-4833-9D30-3C106395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E70D2-2EE2-496A-8379-53678E50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1CCEF-9D52-4652-8DA6-9DCE718D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10BDB-C2CE-45EA-B27B-65F7EE7F9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4A04E-E1B7-4B8A-982E-9A802006F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A2FD0-FB3B-4AC7-ADDB-345CB207B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060D7-E10F-4E82-BC4D-127FAAB4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578F9-8FBA-411C-99C2-A8ACD39B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6E8B-3875-4610-B613-D572C6142CC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00AF-946C-41B6-A51E-E53C01DBF63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3BFB-2349-4410-97DC-DCE2B127FD0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40" name="Retângulo 3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599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:\Documents and Settings\Marcelo.Raimo\Desktop\pps\tarjas\tarja-verde.png"/>
          <p:cNvPicPr/>
          <p:nvPr/>
        </p:nvPicPr>
        <p:blipFill>
          <a:blip r:embed="rId4"/>
          <a:stretch/>
        </p:blipFill>
        <p:spPr>
          <a:xfrm>
            <a:off x="0" y="1514520"/>
            <a:ext cx="9144000" cy="1396800"/>
          </a:xfrm>
          <a:prstGeom prst="rect">
            <a:avLst/>
          </a:prstGeom>
          <a:ln w="0">
            <a:noFill/>
          </a:ln>
        </p:spPr>
      </p:pic>
      <p:sp>
        <p:nvSpPr>
          <p:cNvPr id="42" name="Retângulo 5"/>
          <p:cNvSpPr/>
          <p:nvPr/>
        </p:nvSpPr>
        <p:spPr>
          <a:xfrm>
            <a:off x="0" y="1773360"/>
            <a:ext cx="9144000" cy="792000"/>
          </a:xfrm>
          <a:prstGeom prst="rect">
            <a:avLst/>
          </a:prstGeom>
          <a:solidFill>
            <a:srgbClr val="46ce87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917F-6355-461E-B3DB-7A05067B7EB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0209-2D80-49ED-9DE1-AFCD2B2C8DF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BD33-8201-4923-B6D5-21DE42B90C2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01E3-A1DB-4076-83D0-B6DC2334980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D415-B736-45F9-BEED-1627FC471A8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4FC3-C798-4BE1-AAEB-8790CFE4913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9343-3C0E-4CFD-86EF-28F30155919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tângulo 3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599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10" descr="C:\Documents and Settings\Marcelo.Raimo\Desktop\pps\tarjas\tarja-verde.png"/>
          <p:cNvPicPr/>
          <p:nvPr/>
        </p:nvPicPr>
        <p:blipFill>
          <a:blip r:embed="rId1"/>
          <a:stretch/>
        </p:blipFill>
        <p:spPr>
          <a:xfrm>
            <a:off x="0" y="1514520"/>
            <a:ext cx="9144000" cy="139680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e1c11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tângulo 7"/>
          <p:cNvSpPr/>
          <p:nvPr/>
        </p:nvSpPr>
        <p:spPr>
          <a:xfrm>
            <a:off x="0" y="1773360"/>
            <a:ext cx="9144000" cy="792000"/>
          </a:xfrm>
          <a:prstGeom prst="rect">
            <a:avLst/>
          </a:prstGeom>
          <a:solidFill>
            <a:srgbClr val="46ce87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CaixaDeTexto 8"/>
          <p:cNvSpPr/>
          <p:nvPr/>
        </p:nvSpPr>
        <p:spPr>
          <a:xfrm>
            <a:off x="395280" y="18334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Gestão Ambie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-17136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8" descr="C:\Documents and Settings\Marcelo.Raimo\Desktop\pps\tarjas\barra-verde.png"/>
          <p:cNvPicPr/>
          <p:nvPr/>
        </p:nvPicPr>
        <p:blipFill>
          <a:blip r:embed="rId1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502" name="Elipse 3"/>
          <p:cNvSpPr/>
          <p:nvPr/>
        </p:nvSpPr>
        <p:spPr>
          <a:xfrm>
            <a:off x="6840360" y="826920"/>
            <a:ext cx="2303640" cy="23050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CaixaDeTexto 4"/>
          <p:cNvSpPr/>
          <p:nvPr/>
        </p:nvSpPr>
        <p:spPr>
          <a:xfrm>
            <a:off x="7012080" y="145728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5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9" descr="C:\Documents and Settings\Marcelo.Raimo\Desktop\pps\imagens-estudos\palm.png"/>
          <p:cNvPicPr/>
          <p:nvPr/>
        </p:nvPicPr>
        <p:blipFill>
          <a:blip r:embed="rId2"/>
          <a:stretch/>
        </p:blipFill>
        <p:spPr>
          <a:xfrm>
            <a:off x="3780000" y="2500200"/>
            <a:ext cx="5364000" cy="402444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507" name="CaixaDeTexto 15"/>
          <p:cNvSpPr/>
          <p:nvPr/>
        </p:nvSpPr>
        <p:spPr>
          <a:xfrm>
            <a:off x="363600" y="1336680"/>
            <a:ext cx="61531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d0d0d"/>
                </a:solidFill>
                <a:latin typeface="Calibri"/>
              </a:rPr>
              <a:t>- Conjunto de partes que interagem entre si, integrando-se para atingir um objetivo ou resultad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d0d0d"/>
                </a:solidFill>
                <a:latin typeface="Calibri"/>
              </a:rPr>
              <a:t>- Partes interagentes e interdependentes  que conjuntamente formam um todo unitário com  determinados objetivos e que efetuam determinadas funções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8"/>
          <p:cNvSpPr/>
          <p:nvPr/>
        </p:nvSpPr>
        <p:spPr>
          <a:xfrm>
            <a:off x="144360" y="150840"/>
            <a:ext cx="86407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ffffff"/>
                </a:solidFill>
                <a:latin typeface="Calibri"/>
              </a:rPr>
              <a:t>- Conceitos genéricos de sistem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5"/>
          <p:cNvSpPr/>
          <p:nvPr/>
        </p:nvSpPr>
        <p:spPr>
          <a:xfrm>
            <a:off x="826920" y="2790720"/>
            <a:ext cx="5113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Economista escocês do século XVIII escreveu “A Riqueza das Nações”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aixaDeTexto 15"/>
          <p:cNvSpPr/>
          <p:nvPr/>
        </p:nvSpPr>
        <p:spPr>
          <a:xfrm>
            <a:off x="466560" y="28544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12:26Z</dcterms:created>
  <dc:creator>marcelo.raimo</dc:creator>
  <dc:description/>
  <dc:language>en-US</dc:language>
  <cp:lastModifiedBy>marcelo.raimo</cp:lastModifiedBy>
  <dcterms:modified xsi:type="dcterms:W3CDTF">2011-04-19T18:57:43Z</dcterms:modified>
  <cp:revision>2</cp:revision>
  <dc:subject/>
  <dc:title>Slide 1</dc:title>
</cp:coreProperties>
</file>