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62C27-99C6-4DF5-AF2A-795E5032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17D27-4751-4689-B3A0-608CE9F2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87704-B0E0-4563-A5AA-D38D1C5C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07872-1410-4A6B-AA91-A28B8CA2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6E289-E521-425F-96AF-122A1359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A5498-EA1C-48A3-BF39-58C3B1CC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9B9AB-9717-45B9-B5F7-87D65829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586CF-7911-4E44-8C23-DABA91D66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E22FD-E2C6-48BA-AA00-77F15F361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B65D9-D486-4BB8-8054-8C516074E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5A762-8291-4F48-A6F8-CBB7266F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999F9-A085-49B6-B851-7479DDB3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6CF93-2DCA-4678-A1A1-76785045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B79B6-E2F2-465F-B814-3C188E1E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0DE1D-D06C-4A98-9D53-39BDFBBC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2C0FB-2C40-41F0-B6F6-F0C1B7CC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4995E-A9CB-4349-A511-99595397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F0A3E-0778-4C0A-9CA9-257FACFC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5583E-BDEB-493C-8FF7-8F35CD8E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B4849-14A7-48B5-9EEA-036A6C5DA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4854A-0C91-45B8-8004-2E7A6E1D4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D0D3D-3743-4A85-A552-3A1CA508E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F6ACDC-E4EC-47F8-8459-9223E3F3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F6A62-833B-48AE-BF1D-452FEC78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CF45C5-C0E6-46D2-B17A-2A7483FB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28E4D-3439-4961-AA49-20CA4256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449F0-5FD0-410E-9311-327B96A0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5A1A86-ED0C-47E5-BA09-57E11939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BF411D-9933-4978-B92F-86E2ADD5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FC2044-C9DF-4B13-97D4-1C9D3246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B3EAFC-97DA-4372-8E5D-43FDE513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3151E1-3410-419F-823F-87431E6D4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9B8937-9BF4-48E3-A729-CBAD235F4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8EB0F9-79BD-4814-BBA0-9249EE3CC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3BD5ED-8C61-455D-85F6-3DDA6BF0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7AAFDD-B811-4B3C-9A43-54EB3285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F3BA46-C86B-4BB1-9DAD-0B7CDBBA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946F26-F6DF-45D5-91A0-86A05991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9AAB24-F303-4555-8372-84B46F6D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4B3614-E311-4009-92AA-E10D5C18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158029-7D80-473B-810D-6F13D220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501DB2-461E-443A-9A97-65F8E6C1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0B0585-74C9-4226-AA21-40B5D5F9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A92B3E-5216-4AA4-9964-F107C27FD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017654-51BA-4DD7-9BA1-8A03897A0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68E4-FE90-496D-9C9D-78D9D4D2E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ACE8-58B2-4F9E-BAA7-5FACC426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17B4-77AB-448B-8F79-29C73154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2993-066F-4E51-9117-82707FE7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3F10-D684-49EE-A8E9-328B741E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9369-F539-43FD-B019-2E7448C0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EE9C-941A-4FE5-B300-D6BE4D2D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4646-406C-43F0-B329-ED1A1413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CC02-99E5-413C-9808-0C729B7D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FF11-D4A3-4E1B-9685-69E47769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5320-83E3-40BC-A84A-5B4CD5022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23B3-F946-4F30-A492-485BC2EEE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3E75-BE22-4B25-9315-0E5E0E567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D59F-D430-4A62-9B55-109BF7D0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6F909-682E-448F-AED1-D2739BD8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5A8D6-938F-45DB-8821-5341BB505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9E64-CA4A-491E-A40C-E990EC4E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A995-3F1D-4D51-BDDB-FDBB23B9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5232-258B-47CA-99BB-A47B24D0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54E4-B3D8-4FCD-A683-C629EF46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EEA7-E217-4008-B7E8-2E197C08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9CF5-01CA-4A42-871F-60661795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10560-0530-4919-A8B8-770EA95BB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5739-8F31-40FF-B1E3-9EEC4192A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52733-B47E-4230-BF06-A70A5F9DA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AF646-9135-4CEA-A961-D8B4EBB7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069DE-7351-4899-B173-26241FBF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E1EB4-A11C-48C7-8DC5-CEBAB766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36B48-BBAA-42D3-AABE-E381B5EF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58D01-C191-4224-9FFE-CD08DE82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5DE55-8125-4378-8EDF-EEA4FFC3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D6451-451C-4C36-9FCB-C7E525C0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4C177-1644-4893-8992-6A176D2D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21EBB-227A-47AF-AE9A-817EE310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5F6C0-014A-4C49-9B3B-CB3E73BC0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FFFE2-4676-4A11-B250-8F0E82910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FBB66-9158-49A6-9EB4-9FE8EF8D2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57967-20E9-46B6-A3C7-446F27FF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B2FF7-0163-481C-A4AB-BA2619D8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39BD0-F03A-474F-86B1-FB5D6086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8F706-A938-444F-90E2-153476A3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8F4DE-5F98-4BD1-AF0B-FE3F4551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93851-C46F-470B-B23F-DDA6643A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E1A34-2C97-4461-99E0-85F45857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83D64-23FB-4647-BD7E-FD346ED3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7D5CE-FE84-433A-AEFF-547FDBD7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C4A6E-D049-4BE9-8F79-017150132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52B08-15FE-4396-820C-FA62F6B1F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EC794-B7C2-4029-9478-1B3AEA575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2DB46-4F0C-48B0-AA21-7C9AF395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8E9CD-87D0-462B-9304-BED844AA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212F4-8ED9-4A95-B3D5-D3B1F1D1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C32C4-F4C0-48FF-B3A0-557B28F1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1CBC7-BC8E-4623-9AB6-9B9D0B3B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34758-4199-44DE-83E2-FC8CCCA2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42692-DE8F-4C5B-AE72-17D8BA17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825A8-E267-48C7-8683-039A6A5A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DFD1A-027E-4B13-86B5-8940663B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33952-DC74-4858-8D7F-1FAB52A3B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CC0E6-0E65-481A-9ABB-E47BAC342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B4BA4-5DC9-4992-A276-64AD80847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8232E-B0E5-4DF3-AFB3-F30E36C5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DB2A2-58A9-4242-8F09-F801EB60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B9B42-79D3-4952-B372-F635D68D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67C4E-BE2C-4A85-B4A6-3DB49130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4B857-96BC-4D85-B97F-B4A2E75E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19374-B389-4B7D-B1EA-CBC87D35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3A211-CF78-4545-B91B-0A7DACD9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002BD-35B2-4C86-9C5D-FB18EC74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CC2F8-86AB-4827-BCC1-94F38444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BF776-6B42-44C0-A40D-6E7F91569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ADA52-E21E-4ACC-A24E-18C3C8380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D0028-5094-410E-8003-E8D6000B6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C0B8D-5A3E-4AA6-9940-359B9507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D1774-3810-4D57-8230-4BD5AE67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BFE0-8383-493F-98E2-D3700D2967B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E349-B77D-423B-B29F-2B097553541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465B-9B1B-4D83-8404-9B4CE3EA0E6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40" name="Retângulo 3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599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:\Documents and Settings\Marcelo.Raimo\Desktop\pps\tarjas\tarja-verde.png"/>
          <p:cNvPicPr/>
          <p:nvPr/>
        </p:nvPicPr>
        <p:blipFill>
          <a:blip r:embed="rId4"/>
          <a:stretch/>
        </p:blipFill>
        <p:spPr>
          <a:xfrm>
            <a:off x="0" y="1514520"/>
            <a:ext cx="9144000" cy="1396800"/>
          </a:xfrm>
          <a:prstGeom prst="rect">
            <a:avLst/>
          </a:prstGeom>
          <a:ln w="0">
            <a:noFill/>
          </a:ln>
        </p:spPr>
      </p:pic>
      <p:sp>
        <p:nvSpPr>
          <p:cNvPr id="42" name="Retângulo 5"/>
          <p:cNvSpPr/>
          <p:nvPr/>
        </p:nvSpPr>
        <p:spPr>
          <a:xfrm>
            <a:off x="0" y="1773360"/>
            <a:ext cx="9144000" cy="792000"/>
          </a:xfrm>
          <a:prstGeom prst="rect">
            <a:avLst/>
          </a:prstGeom>
          <a:solidFill>
            <a:srgbClr val="46ce87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C233-BB7C-49FC-B064-5C967D33A1D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5690-E999-44D4-8403-8F128CD8F2B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27BD-8A71-46B4-AA43-D4BF02AE417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B604-A9B7-4CB0-B1EB-886A1AEB23B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577A-9DA1-432F-B59C-C3A6B109485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8137-C849-42A6-AC94-8CC7441789F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C869-5777-4C2D-A9F2-C6A269791AC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tângulo 3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599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10" descr="C:\Documents and Settings\Marcelo.Raimo\Desktop\pps\tarjas\tarja-verde.png"/>
          <p:cNvPicPr/>
          <p:nvPr/>
        </p:nvPicPr>
        <p:blipFill>
          <a:blip r:embed="rId1"/>
          <a:stretch/>
        </p:blipFill>
        <p:spPr>
          <a:xfrm>
            <a:off x="0" y="1514520"/>
            <a:ext cx="9144000" cy="139680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e1c11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tângulo 7"/>
          <p:cNvSpPr/>
          <p:nvPr/>
        </p:nvSpPr>
        <p:spPr>
          <a:xfrm>
            <a:off x="0" y="1773360"/>
            <a:ext cx="9144000" cy="792000"/>
          </a:xfrm>
          <a:prstGeom prst="rect">
            <a:avLst/>
          </a:prstGeom>
          <a:solidFill>
            <a:srgbClr val="46ce87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CaixaDeTexto 8"/>
          <p:cNvSpPr/>
          <p:nvPr/>
        </p:nvSpPr>
        <p:spPr>
          <a:xfrm>
            <a:off x="395280" y="18334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Gestão Ambie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-17136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8" descr="C:\Documents and Settings\Marcelo.Raimo\Desktop\pps\tarjas\barra-verde.png"/>
          <p:cNvPicPr/>
          <p:nvPr/>
        </p:nvPicPr>
        <p:blipFill>
          <a:blip r:embed="rId1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502" name="Elipse 3"/>
          <p:cNvSpPr/>
          <p:nvPr/>
        </p:nvSpPr>
        <p:spPr>
          <a:xfrm>
            <a:off x="6840360" y="826920"/>
            <a:ext cx="2303640" cy="23050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CaixaDeTexto 4"/>
          <p:cNvSpPr/>
          <p:nvPr/>
        </p:nvSpPr>
        <p:spPr>
          <a:xfrm>
            <a:off x="7012080" y="145728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5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9" descr="C:\Documents and Settings\Marcelo.Raimo\Desktop\pps\imagens-estudos\palm.png"/>
          <p:cNvPicPr/>
          <p:nvPr/>
        </p:nvPicPr>
        <p:blipFill>
          <a:blip r:embed="rId2"/>
          <a:stretch/>
        </p:blipFill>
        <p:spPr>
          <a:xfrm>
            <a:off x="3780000" y="2500200"/>
            <a:ext cx="5364000" cy="402444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507" name="CaixaDeTexto 15"/>
          <p:cNvSpPr/>
          <p:nvPr/>
        </p:nvSpPr>
        <p:spPr>
          <a:xfrm>
            <a:off x="363600" y="1336680"/>
            <a:ext cx="61531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d0d0d"/>
                </a:solidFill>
                <a:latin typeface="Calibri"/>
              </a:rPr>
              <a:t>- Conjunto de partes que interagem entre si, integrando-se para atingir um objetivo ou resultad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d0d0d"/>
                </a:solidFill>
                <a:latin typeface="Calibri"/>
              </a:rPr>
              <a:t>- Partes interagentes e interdependentes  que conjuntamente formam um todo unitário com  determinados objetivos e que efetuam determinadas funções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8"/>
          <p:cNvSpPr/>
          <p:nvPr/>
        </p:nvSpPr>
        <p:spPr>
          <a:xfrm>
            <a:off x="144360" y="150840"/>
            <a:ext cx="86407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ffffff"/>
                </a:solidFill>
                <a:latin typeface="Calibri"/>
              </a:rPr>
              <a:t>- Conceitos genéricos de sistem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5"/>
          <p:cNvSpPr/>
          <p:nvPr/>
        </p:nvSpPr>
        <p:spPr>
          <a:xfrm>
            <a:off x="826920" y="2790720"/>
            <a:ext cx="5113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Economista escocês do século XVIII escreveu “A Riqueza das Nações”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aixaDeTexto 15"/>
          <p:cNvSpPr/>
          <p:nvPr/>
        </p:nvSpPr>
        <p:spPr>
          <a:xfrm>
            <a:off x="466560" y="28544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12:26Z</dcterms:created>
  <dc:creator>marcelo.raimo</dc:creator>
  <dc:description/>
  <dc:language>en-US</dc:language>
  <cp:lastModifiedBy>marcelo.raimo</cp:lastModifiedBy>
  <dcterms:modified xsi:type="dcterms:W3CDTF">2011-04-19T18:57:43Z</dcterms:modified>
  <cp:revision>2</cp:revision>
  <dc:subject/>
  <dc:title>Slide 1</dc:title>
</cp:coreProperties>
</file>