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94399-2A76-4EDF-BCEC-4F5147CD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A99AA-2F14-43E6-9D02-48BDB103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3D295-955C-41F0-A995-8393BDCB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61947-1FF2-40F2-B91A-D603BBC1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12A57-0B71-4398-A506-4E2B7894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7B074-BE43-4600-B7C7-D62502AB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90E96-808D-4B0D-885B-F635C388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32501-3E00-4B55-B7E7-C12008ADB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A777D-25D3-43D8-B4EF-DAB2F838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43B07-F3C5-487F-8710-63A1083A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9C8A9-6B93-4301-9E55-1BA36FAD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C7545-BEF8-48A5-8F56-04DC486A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78475-D19E-4011-99C2-5F2C6035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8995D-3E95-4A42-B3D1-B92CBBDE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360EF-5914-4930-B41D-AE449B3D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F9CFA-F9CA-43FD-80EE-5CBD86EE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52235-75B5-4AB9-8D6B-5D607E43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E7671-763B-454B-BA8A-0BA5D3AE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A4EAA-EDDE-41FD-8B93-949C5C96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B1900-244B-45AB-8839-DC1574CA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656E1-0743-4BE0-A28D-A569F7E1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B7A88-EEE8-4CA2-99F2-21F1C4CE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79768-3482-437C-968E-A7609183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B4071-E089-4C39-934F-CF68F827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67DE7-7109-492F-A9BF-246CC468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44CF0-2B10-4604-9088-4F0BFEE3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6AE45-C581-46A4-88F1-54A065C0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C0869-8B80-458A-9DA7-FD50858B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5E8CC-FDA6-48C0-AD88-7534A019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CFFFB-D2BA-4549-876D-B864C5B4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B85F5-0766-49E5-9199-9B6B1899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3CAB3-8AAF-49BA-8957-7024B158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0053D-0908-4066-81A6-1307B9E70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43ABA-AF51-4FE8-8D3E-DBF8D5E7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DC7D2-D765-45BA-8BD9-CF19A33C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A9556-54A3-45FD-B1B7-4EC0EA60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E2C9F-2685-46F3-B56C-B6295FEF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6EE40-FAEC-46CE-8665-1B616E77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78522-6767-4E3C-AAD7-D568708A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58F93-3F42-436E-A0BA-E078AE5D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65856-E817-4F5D-95C9-9180D462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7E6BC-06DD-4D77-9AFC-A4E03609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C9B1E-233E-4E35-BB50-392860E1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C74BB-0C64-46F3-B72D-9DB3E853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9D626-26D5-4BF4-B9F0-FB397493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CFF7-5BAC-42FA-9B36-FEB6A24B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09E3-9064-4944-BDD0-D79F25AB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29C-1E87-4B2C-BFEB-E198ACC1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A34F-8B6D-4717-9418-4D98734C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E64D-1C8F-4E44-A2E1-D62F44F7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0403-16AD-42AC-B318-D8B70A33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3FA1-37B5-4EF7-B57D-B898A8FE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CE31-39B7-404D-BAFF-0A6C6D55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2029-683E-45AD-9443-27B16CD0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1C1F-745A-4E9C-B156-11517E32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767E-2108-4392-8DEC-A9AC5F16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D587-4E9C-4183-9065-891315B2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EA57-FD93-44B3-9FDA-200D4C55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5419-7BB7-4C67-9A65-6A554679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9A79-4593-49EC-9AFE-1EC35A0F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A414-188C-4860-81FB-4FFD96FD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EDB9-DFA1-4662-A2C4-ECD28ABF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04D6-5545-48DD-9164-D5691E7C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66C0-5762-478D-80C5-CABD0A18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7E51-5457-4CE0-AA2C-8FA03180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14B4-8D64-4DE4-B8F6-61377DFE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B80D-5557-4810-8214-A51F2010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E175-7E2F-4267-8928-3578782A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907E-2C5C-4CB8-816D-16777F9A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A8A96-452A-4E3D-8859-D6380798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BD5C5-E617-4DD4-AF77-3EF7086B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C9BAF-4808-41FF-97B2-5B935543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5126E-0966-4D20-B76B-CC1A0962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A6048-D3B3-4492-9F57-110B5A3F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5D1DD-D583-4990-80E7-AAE2CB0E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100AA-B7DA-45E6-B860-A9B69B9D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B56DD-3F14-4873-85BF-C82F1B9A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D0480-B512-4B5B-BDFA-CCD1F322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5C7A3-6460-453E-B8D4-C5EB1F68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ABC6C-595E-45D2-98B5-2855F068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6DD92-C503-41DC-A798-A8A2C488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C1FED-49DD-472B-B1A4-390AC974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510B5-898E-4996-B688-F2A2347D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4856F-4B5F-4B39-A3C2-1CB1800A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F9A27-6731-4DBC-A141-9FD717A4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DC541-96F6-4642-93D1-EC925BD1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4CCC9-D64F-417F-9AE8-5C760D01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2DBC7-1936-4B40-887C-3DAFBC96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38E04-9D17-4D36-99E0-A2B5842E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A932A-2B9E-4AA8-9600-3E90AC7B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78DDA-E063-4780-B8F7-3FDFC16D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8D82F-D37A-4058-8BE7-98269F4D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5DA0C-2520-4AF7-B8EC-55D1868D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91D8F-10DD-4162-82CB-6260E8F3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44873-FB5B-46FD-B444-03A5A9D8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AD892-BB69-4DD1-BEB0-3E413A73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B241D-AA28-4668-ADD4-A3CCAE39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6CBB9-2202-4C3B-85BC-F20D6CA2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55E65-35F0-4121-950E-CD774191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D64C7-1A99-4245-A9DE-F575D90E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5B546-6D4F-4B4A-9458-08E0857B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D9467-CECF-4C35-80EA-75FD379F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546BD-0E8C-470A-9D8B-A9A909A5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3B427-FA21-4BDB-A06C-F2699516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6384B-74B3-4EDE-B072-5699C498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7E805-B90F-404D-B24C-19432DEC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B454E-B7C2-4A38-89B4-80050EA0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5A487-C821-4230-8CC7-DF96CDB9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0D1A3-A6F5-4673-9CAD-4D7DA51C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4CC02-9F50-498D-97EE-3B544359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86E59-6708-431F-8601-D19DB600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FAA79-291F-4B92-B6EF-5497E650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30927-9E7B-4B9C-9EA7-F17D1B19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CA049-29FB-416D-8A33-FC5AC4CE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BFA75-A5F1-4BEF-9279-B8F394FE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0A61F-DFAE-433D-AE05-65836659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2A335-BA7A-47EB-A768-EFB2EA57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D5E20-AE9D-41D5-A739-A2534E2E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6D46D-1195-4766-9FAB-13921042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31BFB-46DF-4CE7-B35F-40A89676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05B4-7151-4E65-AC71-D29EA2F3FB0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DAD0-0CCA-4CC1-9EE1-F8EBA18171D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EC2F-96D8-47D8-9D56-857F3F8BF34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0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59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:\Documents and Settings\Marcelo.Raimo\Desktop\pps\tarjas\tarja-verde.png"/>
          <p:cNvPicPr/>
          <p:nvPr/>
        </p:nvPicPr>
        <p:blipFill>
          <a:blip r:embed="rId4"/>
          <a:stretch/>
        </p:blipFill>
        <p:spPr>
          <a:xfrm>
            <a:off x="0" y="1514520"/>
            <a:ext cx="914400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solidFill>
            <a:srgbClr val="46ce8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A058-56A6-46FE-A6F9-9A12450599F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9648-CBD1-4DB0-908F-7865CFAF6C2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DDE7-CD48-40E5-B81F-7A8BF6A1616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AC86-8C2F-418C-B188-7C1F1E76A02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D3BD-031B-462C-B22B-CCC4969C02E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5489-A850-44E0-A917-40EEFAC7F03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D58E-9686-4EF2-A061-C4C57A6FB79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59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0" descr="C:\Documents and Settings\Marcelo.Raimo\Desktop\pps\tarjas\tarja-verde.png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1396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e1c11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7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solidFill>
            <a:srgbClr val="46ce8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Gestão Ambi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-17136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8" descr="C:\Documents and Settings\Marcelo.Raimo\Desktop\pps\tarjas\barra-verde.png"/>
          <p:cNvPicPr/>
          <p:nvPr/>
        </p:nvPicPr>
        <p:blipFill>
          <a:blip r:embed="rId1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502" name="Elipse 3"/>
          <p:cNvSpPr/>
          <p:nvPr/>
        </p:nvSpPr>
        <p:spPr>
          <a:xfrm>
            <a:off x="6840360" y="826920"/>
            <a:ext cx="2303640" cy="23050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4"/>
          <p:cNvSpPr/>
          <p:nvPr/>
        </p:nvSpPr>
        <p:spPr>
          <a:xfrm>
            <a:off x="7012080" y="145728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5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9" descr="C:\Documents and Settings\Marcelo.Raimo\Desktop\pps\imagens-estudos\palm.png"/>
          <p:cNvPicPr/>
          <p:nvPr/>
        </p:nvPicPr>
        <p:blipFill>
          <a:blip r:embed="rId2"/>
          <a:stretch/>
        </p:blipFill>
        <p:spPr>
          <a:xfrm>
            <a:off x="3780000" y="2500200"/>
            <a:ext cx="5364000" cy="40244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507" name="CaixaDeTexto 15"/>
          <p:cNvSpPr/>
          <p:nvPr/>
        </p:nvSpPr>
        <p:spPr>
          <a:xfrm>
            <a:off x="363600" y="1336680"/>
            <a:ext cx="61531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d0d0d"/>
                </a:solidFill>
                <a:latin typeface="Calibri"/>
              </a:rPr>
              <a:t>- Conjunto de partes que interagem entre si, integrando-se para atingir um objetivo ou resultad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d0d0d"/>
                </a:solidFill>
                <a:latin typeface="Calibri"/>
              </a:rPr>
              <a:t>- Partes interagentes e interdependentes  que conjuntamente formam um todo unitário com  determinados objetivos e que efetuam determinadas funções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8"/>
          <p:cNvSpPr/>
          <p:nvPr/>
        </p:nvSpPr>
        <p:spPr>
          <a:xfrm>
            <a:off x="144360" y="150840"/>
            <a:ext cx="8640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ffffff"/>
                </a:solidFill>
                <a:latin typeface="Calibri"/>
              </a:rPr>
              <a:t>- Conceitos genéricos de sistem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5"/>
          <p:cNvSpPr/>
          <p:nvPr/>
        </p:nvSpPr>
        <p:spPr>
          <a:xfrm>
            <a:off x="826920" y="2790720"/>
            <a:ext cx="511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conomista escocês do século XVIII escreveu “A Riqueza das Naçõe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5"/>
          <p:cNvSpPr/>
          <p:nvPr/>
        </p:nvSpPr>
        <p:spPr>
          <a:xfrm>
            <a:off x="466560" y="28544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2:26Z</dcterms:created>
  <dc:creator>marcelo.raimo</dc:creator>
  <dc:description/>
  <dc:language>en-US</dc:language>
  <cp:lastModifiedBy>marcelo.raimo</cp:lastModifiedBy>
  <dcterms:modified xsi:type="dcterms:W3CDTF">2011-04-19T18:57:43Z</dcterms:modified>
  <cp:revision>2</cp:revision>
  <dc:subject/>
  <dc:title>Slide 1</dc:title>
</cp:coreProperties>
</file>