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2DE25-A71F-4EF6-BE04-21D67573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4BBC5-84EF-4874-BBE4-7162FB4F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07631C-772E-4495-AB93-87C9C1AA2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EBF02-E443-4716-A30E-7FA9F7EE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03CEC-E422-497C-AC47-DEA5CE4C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29C0A-E7E8-4CD2-A2DE-A660918E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5DD05-CAC6-4C43-9C0E-4D90E96A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DB5F9-4460-42FA-B4D9-4A73DDB6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B8E4C-FB70-4CB0-BFA7-4F82E580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B5103-C4BD-49B6-B21A-09A141432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E9208-7DE1-48C4-9D4D-630439FF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3BF17-1966-4291-991F-1EE7F3E1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B60C1-18E1-4CE4-83DA-EDBC321B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259E7-0D90-4470-A7EF-2EBD3E8C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AB821-793C-41AB-A552-E07793B8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6A3B7-EACE-471F-9773-7A4C6026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D3856-0ABB-4C75-82C0-D5660579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4406E-F495-45D1-9627-2567378A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92981-E6A6-4115-809F-2D3B5C58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77254-29F0-4C2C-B631-B553E2F6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195EF-39A3-4E58-9D79-2D5E6440C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ED010-B33A-4184-9CBF-5890D17C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88E10-23D9-4F2E-AD91-C7E61461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C0EE3-6FCD-4AE7-91CC-957B178D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A4D04-8921-4B13-83DE-C0D34C16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10681-D3DC-469A-AF5E-6E99BBD9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DE02C9-6659-4F7A-8D47-B8057193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2BA73-FA02-406A-A4AD-E5E5AEE7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4EC3B-546E-4110-81A3-4BFF998B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B475A-045E-4FE4-9365-E13AE171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CE7FB-3EB7-4A4F-B07B-E08BC3EB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3094D-0AF0-4AD4-8529-4199CC5BE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1AEDE2-2CD6-4FBF-B90C-73419D61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97A80-B1E3-4C04-9206-98CB1E8BE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9ADDF-D347-49E8-9AA8-CC4A3EBC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EC6F2-BAEF-4935-ABF3-4094D6D7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1120E-71EB-4BB6-917C-5CE1AB56B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1A70D-C546-4BAE-95C9-757C22AD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DA2FA-DF80-4E72-A897-88A797222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7C069-C4A2-4683-BDCA-6F3CDA99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F70FC-84AA-4934-8F03-16AE8D5E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40907-20E5-4845-924F-27710EEF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F094D-1C88-400F-84A5-6DAAA98C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CBD9A9-4500-4C73-A4BF-F6F982F2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20AF3-084E-4DBA-BCF8-4CFE9B6E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7AD-B98C-4165-AE00-80F9E7C8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6207-DE96-40B7-BC74-F55404D8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2F6-78DE-4807-BC5F-0102C98C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4603-4990-4050-B984-01C4FBFA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03EA-915A-4DE1-83B9-8CEA77A9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CBA2-EC8F-417C-9BA8-B17F9774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20C-5F0F-4749-90B7-DA68D0A5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5D29-D8B9-45F5-B2D6-AC2ECEEB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DA0-49ED-4432-9813-8CE59E1E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982F-A821-44C1-A724-A766BAB4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2C50-8632-4513-8702-AD8F13BA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3B1F-2238-4CEE-BB6C-E2FD8D06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01BC-F867-40D0-925E-A8F71A1E5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ED81-868E-4C17-8960-A8353A4E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1124-6194-4866-96BD-275918E9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DE08-26DA-42E1-B625-49EB8ADA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B85A-51DF-4757-97BB-231F8684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CBFC-4C3D-4EF8-9FC9-2A9543CA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5B772-74F7-4093-840A-477BB2A9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FC23-D4AB-4CD8-A47C-66B4778B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A1BB-47F1-49BB-B402-A02A69C1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2529-4B9B-42EF-AB57-745FBD93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B0B0-0D9E-49C0-B260-9EA50A34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A37A-4275-4B25-9194-0BBB5C55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7A80-0FD8-43A5-8B4E-AEB88D0C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2E14C-F0F2-44CF-BD25-D5CEFF34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3A30F-66B6-4C77-8A51-F7548229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3F2F2-A754-42E9-8E83-E87F5C73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D571F-5D73-4A49-97FC-DBE223E1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41313-0EBA-47D4-9006-65AA1151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C3D67-C716-42DD-BEDF-61E86550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F94E0-E771-4B58-BEA0-7A7AE9EA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ACC92-C2D2-4A19-8F79-1EE73E72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095BE-7E3D-4D8A-AA2C-119E2809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8129B-65F0-4C1B-B51B-76CF9303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852E3-F85A-48D0-81A1-7FB86F1A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4455E-06F8-4D76-A667-59311DE17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5F05C-F6A9-4D7E-89ED-F0DE9B0A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C3E6F-B68B-4009-92C2-4BB07D0C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3C410-884A-47D8-9D18-3633362C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4276E-37B7-4474-817A-11C5F192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41786-D938-4C3B-B661-59710E52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D38E8-23E4-471A-B757-C8F6235F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EC933-2188-4011-8070-5E2E07FF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CCB6F-0E99-4C8C-95D4-4699BAEB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BE55B-FBE8-481F-BB7F-DD2337E3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1FD97-50E6-498F-AFFF-365BBD1F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79965-5083-4D77-A885-D987B2CA1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6BA91-23BC-4D04-BE01-9B7B5038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10CDB-555C-4A94-99AC-1F000885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2FEF9-9BF7-4E05-A23F-20525330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E265A-E9D4-42BA-836F-19A27B8C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D27D7-CC0B-4965-9694-745A03FD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33A39-9274-4876-9D73-A7BE4EFC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D93D8-6F4B-4E9D-BC7E-47DE0C70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D00CC-BF5A-46CD-9FC7-11C7D1E2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5EDF5-2C02-47AA-B2C3-79C65288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56918-3335-478F-8670-D3AE47A3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44B76-3B3B-4075-9006-33EB2BFC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CD88F-F2CF-43FA-9E27-3301EB85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B3520-DE5A-4D88-AD73-2ACDC091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5110E-60A6-4EA0-9BEB-3D4CAF9C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33FE7-38E8-4BE8-9E93-7F9CF5DD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F4967-CCBD-48FA-9950-FDAD3533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5BFF4-5568-4EF3-B29D-72CEA090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17A72-6D3D-4219-9813-6E4BBA33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699D1-26DE-4EA1-AAAE-0040586E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3D6BD-2A8E-4385-A174-9F950F91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E4F6F-3ADB-4A76-B467-FD1D989B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08AB5-5D6A-4118-93FD-0B3B0E2C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AA909-F340-4BD4-B62A-5743FDD3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936B7-980C-49A7-B51F-DEB81A22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3E291-583B-4880-BC12-D3A84C00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B68C7-F0DD-406A-9C7D-7A62AEC5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34989F-5F0F-4092-883C-18489BB8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4D68-AE76-4E86-9232-DC068DD7BE5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19FF-0936-4A61-A345-05A607B21A5B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D671-168E-49DD-840E-AF860466EDA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40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0" descr="C:\Documents and Settings\Marcelo.Raimo\Desktop\pps\tarjas\tarja-verde.png"/>
          <p:cNvPicPr/>
          <p:nvPr/>
        </p:nvPicPr>
        <p:blipFill>
          <a:blip r:embed="rId4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Retângulo 5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2CD3-9BA5-4CDF-8562-82920213A32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3155-D39F-4556-BB31-A441550A1F8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5BAB-B712-4361-88EE-83395A5C946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4744-2105-4913-885B-EC33E776235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537A-E805-4E27-8D65-6102E154FA5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DDF7-3461-43ED-8F63-27CB91A0129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1BA1-DE4E-4F01-82F5-C8422D27F27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tângulo 3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5990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0" descr="C:\Documents and Settings\Marcelo.Raimo\Desktop\pps\tarjas\tarja-verde.png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1396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e1c11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tângulo 7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solidFill>
            <a:srgbClr val="46ce87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ixaDeTexto 8"/>
          <p:cNvSpPr/>
          <p:nvPr/>
        </p:nvSpPr>
        <p:spPr>
          <a:xfrm>
            <a:off x="395280" y="183348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alibri"/>
              </a:rPr>
              <a:t>Gestão Amb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8" descr="C:\Documents and Settings\Marcelo.Raimo\Desktop\pps\tarjas\barra-verde.png"/>
          <p:cNvPicPr/>
          <p:nvPr/>
        </p:nvPicPr>
        <p:blipFill>
          <a:blip r:embed="rId2"/>
          <a:srcRect l="0" t="0" r="0" b="22445"/>
          <a:stretch/>
        </p:blipFill>
        <p:spPr>
          <a:xfrm>
            <a:off x="0" y="-17136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8" descr="C:\Documents and Settings\Marcelo.Raimo\Desktop\pps\tarjas\barra-verde.png"/>
          <p:cNvPicPr/>
          <p:nvPr/>
        </p:nvPicPr>
        <p:blipFill>
          <a:blip r:embed="rId1"/>
          <a:srcRect l="0" t="0" r="0" b="22445"/>
          <a:stretch/>
        </p:blipFill>
        <p:spPr>
          <a:xfrm>
            <a:off x="0" y="0"/>
            <a:ext cx="9144000" cy="792000"/>
          </a:xfrm>
          <a:prstGeom prst="rect">
            <a:avLst/>
          </a:prstGeom>
          <a:ln w="0">
            <a:noFill/>
          </a:ln>
        </p:spPr>
      </p:pic>
      <p:sp>
        <p:nvSpPr>
          <p:cNvPr id="502" name="Elipse 3"/>
          <p:cNvSpPr/>
          <p:nvPr/>
        </p:nvSpPr>
        <p:spPr>
          <a:xfrm>
            <a:off x="6840360" y="826920"/>
            <a:ext cx="2303640" cy="23050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4"/>
          <p:cNvSpPr/>
          <p:nvPr/>
        </p:nvSpPr>
        <p:spPr>
          <a:xfrm>
            <a:off x="7012080" y="145728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5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9" descr="C:\Documents and Settings\Marcelo.Raimo\Desktop\pps\imagens-estudos\palm.png"/>
          <p:cNvPicPr/>
          <p:nvPr/>
        </p:nvPicPr>
        <p:blipFill>
          <a:blip r:embed="rId2"/>
          <a:stretch/>
        </p:blipFill>
        <p:spPr>
          <a:xfrm>
            <a:off x="3780000" y="2500200"/>
            <a:ext cx="5364000" cy="40244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10" descr="C:\Documents and Settings\Marcelo.Raimo\Desktop\pps\tarjas\tarja-verde.png"/>
          <p:cNvPicPr/>
          <p:nvPr/>
        </p:nvPicPr>
        <p:blipFill>
          <a:blip r:embed="rId3"/>
          <a:stretch/>
        </p:blipFill>
        <p:spPr>
          <a:xfrm>
            <a:off x="-285840" y="6284880"/>
            <a:ext cx="9950400" cy="1521000"/>
          </a:xfrm>
          <a:prstGeom prst="rect">
            <a:avLst/>
          </a:prstGeom>
          <a:ln w="0">
            <a:noFill/>
          </a:ln>
        </p:spPr>
      </p:pic>
      <p:sp>
        <p:nvSpPr>
          <p:cNvPr id="507" name="CaixaDeTexto 15"/>
          <p:cNvSpPr/>
          <p:nvPr/>
        </p:nvSpPr>
        <p:spPr>
          <a:xfrm>
            <a:off x="363600" y="1336680"/>
            <a:ext cx="6153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d0d0d"/>
                </a:solidFill>
                <a:latin typeface="Calibri"/>
              </a:rPr>
              <a:t>- Conjunto de partes que interagem entre si, integrando-se para atingir um objetivo ou resultad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d0d0d"/>
                </a:solidFill>
                <a:latin typeface="Calibri"/>
              </a:rPr>
              <a:t>- Partes interagentes e interdependentes  que conjuntamente formam um todo unitário com  determinados objetivos e que efetuam determinadas funções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8"/>
          <p:cNvSpPr/>
          <p:nvPr/>
        </p:nvSpPr>
        <p:spPr>
          <a:xfrm>
            <a:off x="144360" y="150840"/>
            <a:ext cx="864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ffffff"/>
                </a:solidFill>
                <a:latin typeface="Calibri"/>
              </a:rPr>
              <a:t>- Conceitos genéricos de sistem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5"/>
          <p:cNvSpPr/>
          <p:nvPr/>
        </p:nvSpPr>
        <p:spPr>
          <a:xfrm>
            <a:off x="826920" y="2790720"/>
            <a:ext cx="5113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conomista escocês do século XVIII escreveu “A Riqueza das Nações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5"/>
          <p:cNvSpPr/>
          <p:nvPr/>
        </p:nvSpPr>
        <p:spPr>
          <a:xfrm>
            <a:off x="466560" y="28544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12:26Z</dcterms:created>
  <dc:creator>marcelo.raimo</dc:creator>
  <dc:description/>
  <dc:language>en-US</dc:language>
  <cp:lastModifiedBy>marcelo.raimo</cp:lastModifiedBy>
  <dcterms:modified xsi:type="dcterms:W3CDTF">2011-04-19T18:57:43Z</dcterms:modified>
  <cp:revision>2</cp:revision>
  <dc:subject/>
  <dc:title>Slide 1</dc:title>
</cp:coreProperties>
</file>