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46675-7BE4-47D3-87AA-7E4F2DF2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BCE1E-40BD-4C7A-A0D0-3B12E51A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2CC89-3B28-4AD8-96DA-9104BE80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A0D6A-9E93-48AB-8930-8726A9ED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4893D-248A-4128-B552-87FBC230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0C5A1-48DE-4E6A-9B16-8358D466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6715F-6D8A-4D2E-83AA-748C4D43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09054-A514-4D67-BE89-93EBB5D5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67C46-8721-4D4A-AE20-D4C1ABD0F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CC3E7-A7CA-4160-90ED-6C75A01A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70232-0B83-42AF-B1A3-8804E3E0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F8BC0-4F34-440A-A9DB-DB11DFF0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C55D8-8F64-4D18-A4D4-C8026C6F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9F213-5D94-4FEA-8AE7-F3D6F4B5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92CD4-E70A-4FEE-8EA0-F7C392EF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23BF2-C40B-40B0-8074-3DB9A367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AB70E-1628-438C-9C4F-7FDE86AC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5FEFC-B63A-49F7-B261-467F7087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A4A7A-655B-43FE-A54F-52CDEAA0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DCE8D-28B3-477D-8BC9-8434E1C08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DB9F3-6856-4DA5-9610-C426D597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F1E22-7473-40FC-BED7-9A69974F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7B87A-5D79-4BA8-A655-3591EB09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64B40-D288-44D8-BBD6-C711A6D2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5F380-43BC-49C3-B4F0-A46A80BC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FCE30-1867-47FC-819E-4148479D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20253-F7E6-4824-85B9-D88529C4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66257-3C3F-4F3D-AF4F-E13E8256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1564C-6FAD-461C-A2ED-66FB3FEB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0FEAE-368A-48DE-9C2D-084145F3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62209-EF14-4D4B-A43F-E2A56A30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F49B4-2EE8-4BAA-AA96-3CA588F3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7449D-2258-4365-B30B-8137909B8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E2AFA-9312-4913-86EC-7A1220EB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37297-E493-4664-8773-577F81F1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4C9EA7-1F69-4C9F-A9A9-4DDA1D33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DAAD2-0FD5-4CB5-837F-ECBCF699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379B6-11E4-4A48-80EB-014E2544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9A94D-7032-457A-82E6-8BE35830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58E97-7CF3-4255-8B9A-12EA9C32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97BD8E-A316-4241-A492-F56FDE1A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1D50F-AFDE-4AAD-A975-FFA2BD80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DB0181-202E-499E-BDF1-35DCE918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2DB60-5590-40C6-979F-7CA32B3C5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DA1D3-47EE-4C6A-8F78-9D529274E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AB28-6C0E-45BD-BF2D-48F48DAEE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1C8A-9ACF-47AB-B170-EEEAB637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41EF-8180-4D22-B14A-0AABB959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8715-7B86-4499-94E0-D81CBB28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A59F-5FBE-4EED-A6E1-31AE1774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CFEC-6984-4602-A44D-BA1F5247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D182-B725-4CEB-B503-0EE913F5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1249-9B9B-4357-87FF-303CA8DD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BBE3-51DE-445D-AC33-04D4E401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0914-E082-4C34-ABDE-668ECA06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D1BE-8FBB-4061-B9DD-9570D8AB7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CEDB-5234-41B1-ABB4-7513EE90C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4702-3EB3-4458-A8F7-306E01F8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CC13-28E2-4EB3-8392-4F43A408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A0BB-4654-4E9A-9F18-2CEE8E45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C97D-0C94-4B14-BBAC-F93F41D3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8497-E846-492C-AAAD-6081BF74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9668-AAF2-4A18-A12B-DC71AAFF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D712-10ED-490E-963E-52077EC8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4792-3D1D-451D-BE5E-0ED4C0FD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4F32-990A-4CA3-B568-FD3EAAE9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09ED-1994-4261-A445-66A37EB9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EB12-4096-4C58-9DCE-B4B46FCD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0304-7AC3-4712-905B-E27F98208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C7247-A728-4E83-986B-FEC45406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9C158-07E8-4EC5-B652-384A3D74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8512A-1B18-44A2-8EC1-251585B4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1A35B-5B17-4B12-8464-830EDACF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79787-8D07-4F35-8D78-88DC9386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589C1-F847-4BC6-9EDE-D4DF3AA2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752D9-AFB3-4C3E-A54A-D26EE902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AF055-ABC8-4097-9AB7-74524944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F044C-BC86-4D82-8C0A-BDC305C2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BD7EA-4780-4980-BD3D-4406EC6C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1D7FC-E801-4385-9192-31F5F37B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DD3FB-8E3E-46C3-85E8-5FB898E75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296B8-40EA-4E15-A23C-93662BD1E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90048-67D7-4C0A-A188-ABB50EFD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AE8AE-1B75-4AFB-93F1-CFAA501B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0BCC3-26D7-476F-88C1-E21CC644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E0AA6-673E-4D28-8CA2-42437249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FABAD-471F-4C4D-8083-9956A604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76F7A-1240-4E4E-9FAA-D202212D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17409-F408-4AB5-96A3-169DCF6F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21FE6-911A-43C1-BF29-BDF07780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05EF6-70A0-42B6-90F7-14A6C1E2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7E632-742F-49E0-A973-A5BE6CEA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194A2-2FCB-4054-9DAB-B9DC9B95A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980DE-57DE-4B93-BA49-5AC45B21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A03CF-D030-4F0B-AA0B-F98F4F5F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CC866-8A3E-44D8-A6E7-754FFF3E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D84A2-5FBB-419D-BAE3-60B6B4F6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29D0A-2D14-4483-954A-E1D267B8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9792C-CDA0-4B1E-A836-0D4A6BF2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86505-3592-4AF4-80E2-221F1F5B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63C67-C275-4E5E-88DE-68226FD6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92A58-B6BC-46B3-B2EF-4B937631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E256A-CB88-4D08-91D0-D19EEDC6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EFDE2-0298-44F0-B0D7-CBE3A9D7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977D4-49E2-4B74-B196-B1882F6F3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D24F0-BD0E-439F-BF75-E9A3228F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10847-0A26-4087-98EA-D870543A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EA44F-4775-41E0-A96F-2A4FE15A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B8DD5-3A8D-44FA-8EB6-0D60A4EE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84848-7372-4971-9F59-CEE589BA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C2717-8A5D-4405-9AD0-7B61470F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B61F7-52D0-4D90-9F4F-760CE35F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4CDA5-8195-4D5C-B04A-88393BF6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5139C-3039-4EB9-899F-38A70814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D20B8-16B8-4C6F-AC05-19DB77B9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9D1CB-4F58-4695-AD9E-A982CC57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C2AF4-A646-4735-B7AB-C3AC6DAF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A3729-F25A-41F0-9D1B-0214C470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59CD4-21BF-4F6C-A8F7-4CF4DB01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DAAC7-8AD7-48AF-A1FF-63101081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7823-0368-41F7-A8CA-7AB485C4029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0405-EDA4-4DCD-8F8A-4A68ADB91CF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25FD-C807-4D5E-91FD-320D68B024A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0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59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:\Documents and Settings\Marcelo.Raimo\Desktop\pps\tarjas\tarja-verde.png"/>
          <p:cNvPicPr/>
          <p:nvPr/>
        </p:nvPicPr>
        <p:blipFill>
          <a:blip r:embed="rId4"/>
          <a:stretch/>
        </p:blipFill>
        <p:spPr>
          <a:xfrm>
            <a:off x="0" y="1514520"/>
            <a:ext cx="914400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Retângulo 5"/>
          <p:cNvSpPr/>
          <p:nvPr/>
        </p:nvSpPr>
        <p:spPr>
          <a:xfrm>
            <a:off x="0" y="1773360"/>
            <a:ext cx="9144000" cy="792000"/>
          </a:xfrm>
          <a:prstGeom prst="rect">
            <a:avLst/>
          </a:prstGeom>
          <a:solidFill>
            <a:srgbClr val="46ce87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49EF-95A5-4D10-A955-5B9D3CAE554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0124-B6A2-4EB3-958E-A853735E720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FA7B-D712-4B90-9285-D0C113A21CD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7CC6-20B6-4567-A030-1AD15C34E2C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FC42-CED5-4FC2-860D-9451C52483E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5087-6440-4CEE-A8E2-28DDEEA5C47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E196-CD0D-4C7E-BB5D-55F3672B880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59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0" descr="C:\Documents and Settings\Marcelo.Raimo\Desktop\pps\tarjas\tarja-verde.png"/>
          <p:cNvPicPr/>
          <p:nvPr/>
        </p:nvPicPr>
        <p:blipFill>
          <a:blip r:embed="rId1"/>
          <a:stretch/>
        </p:blipFill>
        <p:spPr>
          <a:xfrm>
            <a:off x="0" y="1514520"/>
            <a:ext cx="9144000" cy="1396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e1c11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tângulo 7"/>
          <p:cNvSpPr/>
          <p:nvPr/>
        </p:nvSpPr>
        <p:spPr>
          <a:xfrm>
            <a:off x="0" y="1773360"/>
            <a:ext cx="9144000" cy="792000"/>
          </a:xfrm>
          <a:prstGeom prst="rect">
            <a:avLst/>
          </a:prstGeom>
          <a:solidFill>
            <a:srgbClr val="46ce87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Gestão Ambi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-17136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8" descr="C:\Documents and Settings\Marcelo.Raimo\Desktop\pps\tarjas\barra-verde.png"/>
          <p:cNvPicPr/>
          <p:nvPr/>
        </p:nvPicPr>
        <p:blipFill>
          <a:blip r:embed="rId1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502" name="Elipse 3"/>
          <p:cNvSpPr/>
          <p:nvPr/>
        </p:nvSpPr>
        <p:spPr>
          <a:xfrm>
            <a:off x="6840360" y="826920"/>
            <a:ext cx="2303640" cy="23050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aixaDeTexto 4"/>
          <p:cNvSpPr/>
          <p:nvPr/>
        </p:nvSpPr>
        <p:spPr>
          <a:xfrm>
            <a:off x="7012080" y="145728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5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9" descr="C:\Documents and Settings\Marcelo.Raimo\Desktop\pps\imagens-estudos\palm.png"/>
          <p:cNvPicPr/>
          <p:nvPr/>
        </p:nvPicPr>
        <p:blipFill>
          <a:blip r:embed="rId2"/>
          <a:stretch/>
        </p:blipFill>
        <p:spPr>
          <a:xfrm>
            <a:off x="3780000" y="2500200"/>
            <a:ext cx="5364000" cy="40244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507" name="CaixaDeTexto 15"/>
          <p:cNvSpPr/>
          <p:nvPr/>
        </p:nvSpPr>
        <p:spPr>
          <a:xfrm>
            <a:off x="363600" y="1336680"/>
            <a:ext cx="61531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d0d0d"/>
                </a:solidFill>
                <a:latin typeface="Calibri"/>
              </a:rPr>
              <a:t>- Conjunto de partes que interagem entre si, integrando-se para atingir um objetivo ou resultad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d0d0d"/>
                </a:solidFill>
                <a:latin typeface="Calibri"/>
              </a:rPr>
              <a:t>- Partes interagentes e interdependentes  que conjuntamente formam um todo unitário com  determinados objetivos e que efetuam determinadas funções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8"/>
          <p:cNvSpPr/>
          <p:nvPr/>
        </p:nvSpPr>
        <p:spPr>
          <a:xfrm>
            <a:off x="144360" y="150840"/>
            <a:ext cx="86407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ffffff"/>
                </a:solidFill>
                <a:latin typeface="Calibri"/>
              </a:rPr>
              <a:t>- Conceitos genéricos de sistem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5"/>
          <p:cNvSpPr/>
          <p:nvPr/>
        </p:nvSpPr>
        <p:spPr>
          <a:xfrm>
            <a:off x="826920" y="2790720"/>
            <a:ext cx="5113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Economista escocês do século XVIII escreveu “A Riqueza das Nações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5"/>
          <p:cNvSpPr/>
          <p:nvPr/>
        </p:nvSpPr>
        <p:spPr>
          <a:xfrm>
            <a:off x="466560" y="28544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2:26Z</dcterms:created>
  <dc:creator>marcelo.raimo</dc:creator>
  <dc:description/>
  <dc:language>en-US</dc:language>
  <cp:lastModifiedBy>marcelo.raimo</cp:lastModifiedBy>
  <dcterms:modified xsi:type="dcterms:W3CDTF">2011-04-19T18:57:43Z</dcterms:modified>
  <cp:revision>2</cp:revision>
  <dc:subject/>
  <dc:title>Slide 1</dc:title>
</cp:coreProperties>
</file>