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7A221-57FD-4B3B-87BD-4F78FA54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0F8FB-5C29-4CEE-9BE0-8DDF2210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986D9-26E4-45D8-B094-67CAC38A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EDDF4-884D-4D2A-8506-08BA7DE9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DAEF8-C614-42BF-B174-2657B0AE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25612-FC2A-4B86-8F77-8990B328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ECFF8-5AD8-434A-AD31-988BBF9C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F6E3C-3C4A-4143-AADA-17DE1C2EB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9E080-3D2B-48D7-8614-3F7D02DD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F9D48-E8C9-40EB-8061-B62A56200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915A1-0A49-46E0-A70C-F98731D7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BDDB3-0BF2-4FA7-AB17-A646961D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9BB3D-9BEF-4C8D-B7A6-898ED601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422D0-2EF0-4797-9E99-7FD6F088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AA933-D5D7-45A8-A7B8-2A4ED292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4C0EE-33DA-4642-B61C-8333EA7F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26DB0-A331-44E7-A6E4-9F55C8CA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71BEE-EB37-43E8-A59C-E91E6624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2881C-039A-457B-A4B3-51D4E662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EF611-7060-432B-AB05-97B9F17D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1AD21-3F4C-4E4B-BC13-6A4478BE8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CBE92-A518-4997-B0B3-05574AE5C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2CB54-E8BB-4C94-9309-0F911053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23F62-CDFC-45EE-B7DB-9BB4AB3F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9A26D-5B99-45D1-91BB-03C1AEDB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A942A-6923-4A41-A8AE-2600A317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BFA67-0BD3-452D-B5DC-E7F7105D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8A0C9-6F88-4DEA-9A31-170D58E2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97F33-9D5B-4EAB-91CF-03524341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B49C5-072E-45A8-9E62-6BFBE3E1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3F50B-FBBE-44D6-A902-5C31B6D4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9C09C-281D-4156-B88F-2935E0AC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D8112-046F-465C-8301-4F63B894D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4C564-2622-447C-973F-C13C699B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1D1D5-1551-4921-A9EB-C7A9E7CB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FECCD1-3DB0-4D58-A846-CF758779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84F87-FA59-4DF8-95E3-8788ABBB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9BCC4-37A7-46A9-AC9D-C3531686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C8C02-29C9-468D-9ACE-876F782D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BE5E3-77DA-4C9D-92B7-5D917A55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67FFF8-5B32-44C9-B075-5B80C1F4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5AE25-5A16-476A-AAB9-FE23A828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06D1A-54B2-4C08-87AA-238B2BE4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FF8CA4-36C2-4F4B-B804-735C6FBE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43763-89A8-42E8-9D35-8FD8E4F1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349E-B8AB-4BA5-886F-73B669CC2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F85E-668F-4761-A505-AA30C792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03CE-DCF2-4245-A8A2-3A97B711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2464-076F-4540-9965-C98F0519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8263-D6E2-4CFD-B669-DA7C436D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A3E4-9C28-4526-A584-32AC177A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9545-2183-47D9-B539-ECFDB1D3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B2FB-6CE1-4594-AC86-2E1C42CB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9BAC-B504-442A-BAE9-6A55D46C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1B62-BC72-46FD-9F7D-93920F23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A482-08C6-4C75-8DC6-8495A51B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DEF8-576B-4F22-B147-7B48DEDC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F860-F85A-4C27-B9DD-2BB6E3FC2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4719-6C73-4BAE-9197-4675A1CA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28A3-39E0-451E-A7BE-FD854C3C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04D3-02CE-4FAC-A2EF-E2219621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0FC0-BE9B-4E3E-BF50-51318D16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A851-CED5-44CE-9C01-026BF1B0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2472-7A0D-4F95-B606-6CED6039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D787-85BF-4735-8157-F42B9C98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7904-9AB0-4F5D-8F91-59E2A275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EBC7-3EBC-43C8-8DC0-810B98CA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A9CD-9A21-46BF-A3B1-F973828FB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E278-5C4F-4ED1-8EEC-635A69B2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74518-368C-42F9-A6DC-A99020360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C0C3E-A026-408A-9056-28BD9D0F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01D38-B576-4B57-9D1D-DF7FB7BA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09DF8-833F-44BA-ACEA-9D323E33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0775E-1C84-4409-BDB0-91FCB248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98363-4EF9-47E6-928F-55591EAF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31ADD-F823-4BEE-B45C-EE8E273B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8BD87-8107-4357-B639-218341AC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2089E-A430-4A07-8197-214E7E55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8EC50-E2D0-4657-885D-0429B8CF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ECF19-DA4E-4626-BDD1-E4824D5E2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89715-91D3-4444-A646-1CD96633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37B63-A1FF-44A8-9D76-7636E3F9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B7DBD-0849-485F-B9AB-350CD323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5A5C3-09E7-40C7-AE9C-1D897DED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B2126-FA31-417B-85A0-51FD7D5E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6F282-F747-44D2-9176-5D677262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E6201-2278-43C2-978E-5BDE98E9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A878F-700E-4EC2-B7C0-D3270224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A38EE-D8D8-4AB1-A6A2-2ACE0493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5756F-9E40-4D9F-8AEE-D6C0D80D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9E9D2-02A8-4592-AA4A-FC224BE1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A6A98-CE31-4A2F-BEA1-9E329F159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BAC00-9CC5-4262-821E-0679AC328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7919B-4056-4F3B-8BEE-4F230B10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F7EA8-668E-4F1B-81A4-061E1739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2D0C6-ABB0-477B-87ED-B25FA87B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3179A-5F4E-4DFA-8863-8E4A2999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1CEE4-4928-499D-BAA6-AE66797D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8D482-F925-4310-8EDB-3089E2B8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98C1B-576D-4F07-9A00-9184385F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8A6A2-444D-4393-A4EB-A1D2638E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DB212-1E74-46A2-8C8B-F5D8CA65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E2A21-4254-4B4D-B181-1A570F8C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8811C-92F0-4745-9458-5FFACA50D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F2BC6-2EEC-4FC8-99C8-5710D54B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F8DFA-2136-425E-893A-64C6725C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53D5A-6675-4E76-B526-53F7A735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202BD-CF11-4C01-B99F-21013C26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F0C25-F9AD-4958-95AF-FB91A9B0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78C11-D8F0-4EA9-834C-015853A1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B750A-F453-4447-8AD3-9FC55828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60A0C-1D5D-44B3-BD2C-4005B5F1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1AE63-9827-469C-ABA0-FF047B19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11AAC-A996-4562-9E89-81178F07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4C990-7552-4869-BA8B-2B44F659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0168D-A444-4628-9EC9-4ABA21AA9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E9354-CBB9-49E3-BE74-E74DE36F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C8606-00C4-4BE5-B468-E5FF07EC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CCF2B-7F95-43AA-A306-D59B25CB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9F570-19C6-4A18-877A-7BE0E4D1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D975-DD11-4BA1-A371-39D96D0BECF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60FC-3A55-4C74-AF94-9098A311D3D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DAE8-D15E-4AB3-A5E0-1A479EC2B54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turquesa.png"/>
          <p:cNvPicPr/>
          <p:nvPr/>
        </p:nvPicPr>
        <p:blipFill>
          <a:blip r:embed="rId4"/>
          <a:stretch/>
        </p:blipFill>
        <p:spPr>
          <a:xfrm>
            <a:off x="-95400" y="1515960"/>
            <a:ext cx="9239400" cy="141156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d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40e0d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8797-967F-4A84-8FF0-911297FA800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1667-FD47-4558-90E8-1CCDCEB08BC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4832-03B2-4D9C-BBEC-986D9EDDAD8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BA1B-2DE6-4A37-BFA2-BB943C8F6B4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9112-236C-4D3E-9496-200773F6842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0E65-A9D8-4BA3-86D0-669638EB0F9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1A89-4A1A-43BA-B2F3-95B7393E2DC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tarja-turquesa.png"/>
          <p:cNvPicPr/>
          <p:nvPr/>
        </p:nvPicPr>
        <p:blipFill>
          <a:blip r:embed="rId1"/>
          <a:stretch/>
        </p:blipFill>
        <p:spPr>
          <a:xfrm>
            <a:off x="-95400" y="1515960"/>
            <a:ext cx="9239400" cy="14115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barra-turquesa.png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d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40e0d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Gestão Públ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tarja-turquesa.png"/>
          <p:cNvPicPr/>
          <p:nvPr/>
        </p:nvPicPr>
        <p:blipFill>
          <a:blip r:embed="rId1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" descr="C:\Documents and Settings\Marcelo.Raimo\Desktop\pps\tarjas\barra-turquesa.png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5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98560" y="2066760"/>
            <a:ext cx="7921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8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21c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1:27Z</dcterms:created>
  <dc:creator>marcelo.raimo</dc:creator>
  <dc:description/>
  <dc:language>en-US</dc:language>
  <cp:lastModifiedBy>marcelo.raimo</cp:lastModifiedBy>
  <dcterms:modified xsi:type="dcterms:W3CDTF">2011-04-19T19:04:19Z</dcterms:modified>
  <cp:revision>4</cp:revision>
  <dc:subject/>
  <dc:title>Slide 1</dc:title>
</cp:coreProperties>
</file>