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11EDB9-80D0-4764-9787-9710869C7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81C232-7635-47BA-8B22-D0957C6B7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769467-3427-4FD3-BCFF-E3C9665BB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1C1C1D-5223-4D3F-BDDB-F60A7DD56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D1AA3E-05D9-40E7-85F6-0CA85D24A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C3073F-701E-4838-AD12-DF50C54E7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F3F3FB-A01A-4D4E-9269-F94992425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19AF95-786B-480D-90A5-F4672777F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891C65-46BE-497B-B7F9-392AA73C7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089BE8-3E81-4648-B6B6-FDA88F56D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A7A874-7EC8-4186-965F-C935B4599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FEEE5E-008A-4F03-9D74-1C1AFCE6E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C6521C-CE98-4072-BA59-1926F9156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D0F161-C29A-4FFF-8C41-99A399617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090394-4335-42B4-8EE2-82F4D9362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FB18DD-31BB-4E78-BAD6-39F083F04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DFC712-0DC0-4777-B06B-56118FB78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A17AAB-F396-4C34-993B-63990AC90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AE5EB7-20EA-4584-B72C-901CBF3F7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82286C-3491-424E-8661-D4A304EA7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D2F64A-F03B-4DD5-92FA-5E6C2561A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EB4234-4DC8-428D-ACEF-F68B6E59E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ECB907-A933-407C-A59E-793AF7C0D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23514A-C1C2-4967-AD33-7366306BC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00B71F-7696-467A-9311-39A30EF02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D638A0-3802-4091-9968-D3A9A1385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D91E91-56EE-4D6E-A4E5-8BF0ACDE7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4B5BBC-915D-4E2F-A59B-084C621FA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BB63A2-D190-47B7-914E-0FC33F61E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50A3BB-5CA0-4475-9B96-CF473DE9B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274E88-36B7-42BF-B180-FB181D051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D8FE18-0B21-4B63-88C0-D1506540F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7E5F5D-73B6-4E78-B012-20A628D3C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C49E80-7BAB-4CAD-8CF4-B3B7C25FF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DE9160-0F17-4BE4-9B75-FBFA52104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E1CEEB-9B87-47B7-B06F-B26E754AD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363564-E7AF-4556-96B1-AD415CCED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037A5B-0C90-44B9-91B0-89588D505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C27AD2-CC7E-4339-AEF4-F3CA60484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98A26A-2FD5-439E-A0F0-ED2B0F74B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688E61-787B-4BB6-B65B-D99426C27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AC81BE-3612-496A-B33E-8D1DE0A90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F932F4-321A-4D75-80DC-D1EE94251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7C9F0F-13FD-4269-8D13-F09DE5AE1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EF4C37-919C-4B1D-B6FC-3D5CF67B3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1A87-4795-4462-B3C3-809DDED74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1605-4C71-4488-8FF3-BC7DD362B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7288-BEB3-48C6-8E78-16CA8EBAA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9F07-86DC-4D40-8577-866BB4746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FF96-E909-4B0E-B8F3-A63DCE745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23B6-8592-4014-A67F-31684D5FF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DDAF-CEDC-4135-AAF7-1C9421173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EABF-6573-47B8-A664-9EBDEAA28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54CA-F193-412D-91A1-1EB47DAEC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A43A-A086-436F-B001-264E4DD0C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E9BC-C7BE-4C4B-9EEE-7FB15F66B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D20F-DA74-41B6-A8D8-CA75BC549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4CC25-CC50-415A-A7CF-EB1F3672A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D4378-F365-48D0-BA1E-EB0CB2A22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305A7-6845-4C6B-B3AF-61DD7C709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21FAE-8BBF-4370-BF01-E0C27814B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4DCE3-5F05-442C-8A3A-984AE1850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A4BFD-F4C9-4CC7-BAC7-4056987E6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3BACA-165B-405E-BDB7-B569737B2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C4E51-94A5-4713-910C-171C5EBE9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24AE2-8522-4739-A350-A582AAF9B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62550-0041-4425-A609-33A15995B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A239F-585C-40C6-AA40-78592A517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53767-00B8-4131-88CA-A4200B628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522612-9B17-47A8-A6B5-B98AB98E0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09EFB0-F648-4B5D-A068-AEEB9F6A3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B48EE9-2CAD-41ED-B02C-0386AC7BD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A22E84-4E69-43B5-9984-DD963E3F9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A4D886-041E-4C40-8A59-8143F1EB1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4E4277-4000-4017-89CC-E55B027EE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C53D13-A5C2-42F2-94B0-0FFB90688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4CC0B0-AB9E-4D17-A0B2-35DA5D1BB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C334F0-87DD-4735-BE45-8007FC9EA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2CDB69-6208-4824-B750-2163F9E86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06F252-096B-439C-B5CA-017761316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763DE3-2885-4F97-9413-500ABA259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DCD217-8CE8-4AB5-9E43-A255F8743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413619-111E-4D86-8A36-DB4DEF226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57ABD7-DAF8-40C1-9215-9AFC74C52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5F5BBC-D3C8-462D-B172-6F9B70DAB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1F516C-56DF-43D6-8628-5029DDB37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D8A222-CDCC-412B-9DB7-1EE7C3F95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D63C17-D29B-4FCB-ADB1-35A3D47B5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F99414-A883-4378-A1B4-B6ED35A2B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C22B68-3904-4691-9C07-BF008F2D1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FF4FA4-7779-4ECD-898E-FACD9B654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E6CBA8-EE69-4A63-90D5-A347FF755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A36C59-486C-4B52-A1F8-AEC6C76D5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673223-C94B-4C58-9E9A-651560059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A291A3-E2F4-4236-97C0-050AAF678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B21932-5970-4829-A7E0-119C9DC71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7AAEA6-734E-485B-A6E7-D966F8466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270868-4997-4681-BFC9-6A69D0350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3FA6F4-D64D-4F0E-823A-B7B0C16F5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6A0DEB-909E-4BF8-A497-3F7B43190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4EA928-1C49-4F53-8344-6B21209A4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74894E-EE88-4F3A-B153-B260FF347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4B80A8-BCE5-4641-9D19-607DE7918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C493A3-4089-4F31-AD0F-D06469CAD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63243F-E78D-49F2-8AD1-299930AA1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5EA5EC-E040-43CB-B2F3-0101E56E4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1CC836-9E1F-4B12-B2B2-78728DAF0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93CB98-9D87-4543-99ED-9FF993F8A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0436FF-C432-42DF-AFD3-B69FDF393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1F5354-4EC2-448C-B89A-8B5745483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AD2AE4-B8A8-4560-885B-CDAAEEE1A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CBED8A-6EB3-441F-AF63-29D2FD44C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790E29-C866-4F4B-8948-D25151257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FAE8DB-EAA0-4666-9E63-D530F74BE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0F0C4D-FD3A-4356-A2B3-A961C5CA4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FFC40F-83EF-4BD5-95FD-498CB16A1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5752B2-1E0B-4AF8-A8DF-B7F64B4EF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351DF9-E938-4281-91C3-AF1541745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EA4CE3-21B7-4373-87E6-C48A515A2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6EB8D1-4318-4B82-AB9C-CF4E0C8E0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C:\Documents and Settings\Marcelo.Raimo\Desktop\pps\tarjas\tarja-turquesa.png"/>
          <p:cNvPicPr/>
          <p:nvPr/>
        </p:nvPicPr>
        <p:blipFill>
          <a:blip r:embed="rId2"/>
          <a:stretch/>
        </p:blipFill>
        <p:spPr>
          <a:xfrm>
            <a:off x="-95400" y="6308640"/>
            <a:ext cx="9239400" cy="14112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C:\Documents and Settings\Marcelo.Raimo\Desktop\pps\tarjas\barra-turquesa.png"/>
          <p:cNvPicPr/>
          <p:nvPr/>
        </p:nvPicPr>
        <p:blipFill>
          <a:blip r:embed="rId3"/>
          <a:stretch/>
        </p:blipFill>
        <p:spPr>
          <a:xfrm>
            <a:off x="0" y="-95400"/>
            <a:ext cx="9144000" cy="1020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3" descr="C:\Documents and Settings\Marcelo.Raimo\Desktop\pps\tarjas\tarja-turquesa.png"/>
          <p:cNvPicPr/>
          <p:nvPr/>
        </p:nvPicPr>
        <p:blipFill>
          <a:blip r:embed="rId2"/>
          <a:stretch/>
        </p:blipFill>
        <p:spPr>
          <a:xfrm>
            <a:off x="-95400" y="6308640"/>
            <a:ext cx="9239400" cy="141120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2" descr="C:\Documents and Settings\Marcelo.Raimo\Desktop\pps\tarjas\barra-turquesa.png"/>
          <p:cNvPicPr/>
          <p:nvPr/>
        </p:nvPicPr>
        <p:blipFill>
          <a:blip r:embed="rId3"/>
          <a:stretch/>
        </p:blipFill>
        <p:spPr>
          <a:xfrm>
            <a:off x="0" y="-9540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DD528-CB6B-4EB3-B462-82B118AF8C0A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3" descr="C:\Documents and Settings\Marcelo.Raimo\Desktop\pps\tarjas\tarja-turquesa.png"/>
          <p:cNvPicPr/>
          <p:nvPr/>
        </p:nvPicPr>
        <p:blipFill>
          <a:blip r:embed="rId2"/>
          <a:stretch/>
        </p:blipFill>
        <p:spPr>
          <a:xfrm>
            <a:off x="-95400" y="6308640"/>
            <a:ext cx="9239400" cy="141120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2" descr="C:\Documents and Settings\Marcelo.Raimo\Desktop\pps\tarjas\barra-turquesa.png"/>
          <p:cNvPicPr/>
          <p:nvPr/>
        </p:nvPicPr>
        <p:blipFill>
          <a:blip r:embed="rId3"/>
          <a:stretch/>
        </p:blipFill>
        <p:spPr>
          <a:xfrm>
            <a:off x="0" y="-9540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4BC0A-DFA7-4F8D-AEB2-5650E9F103EB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3" descr="C:\Documents and Settings\Marcelo.Raimo\Desktop\pps\tarjas\tarja-turquesa.png"/>
          <p:cNvPicPr/>
          <p:nvPr/>
        </p:nvPicPr>
        <p:blipFill>
          <a:blip r:embed="rId2"/>
          <a:stretch/>
        </p:blipFill>
        <p:spPr>
          <a:xfrm>
            <a:off x="-95400" y="6308640"/>
            <a:ext cx="9239400" cy="141120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2" descr="C:\Documents and Settings\Marcelo.Raimo\Desktop\pps\tarjas\barra-turquesa.png"/>
          <p:cNvPicPr/>
          <p:nvPr/>
        </p:nvPicPr>
        <p:blipFill>
          <a:blip r:embed="rId3"/>
          <a:stretch/>
        </p:blipFill>
        <p:spPr>
          <a:xfrm>
            <a:off x="0" y="-9540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45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63ADC-511E-45A5-8B8E-909DDB515B75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3" descr="C:\Documents and Settings\Marcelo.Raimo\Desktop\pps\tarjas\tarja-turquesa.png"/>
          <p:cNvPicPr/>
          <p:nvPr/>
        </p:nvPicPr>
        <p:blipFill>
          <a:blip r:embed="rId2"/>
          <a:stretch/>
        </p:blipFill>
        <p:spPr>
          <a:xfrm>
            <a:off x="-95400" y="6308640"/>
            <a:ext cx="9239400" cy="141120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2" descr="C:\Documents and Settings\Marcelo.Raimo\Desktop\pps\tarjas\barra-turquesa.png"/>
          <p:cNvPicPr/>
          <p:nvPr/>
        </p:nvPicPr>
        <p:blipFill>
          <a:blip r:embed="rId3"/>
          <a:stretch/>
        </p:blipFill>
        <p:spPr>
          <a:xfrm>
            <a:off x="0" y="-95400"/>
            <a:ext cx="9144000" cy="102096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3" descr="C:\Documents and Settings\Marcelo.Raimo\Desktop\pps\tarjas\tarja-turquesa.png"/>
          <p:cNvPicPr/>
          <p:nvPr/>
        </p:nvPicPr>
        <p:blipFill>
          <a:blip r:embed="rId4"/>
          <a:stretch/>
        </p:blipFill>
        <p:spPr>
          <a:xfrm>
            <a:off x="-95400" y="1515960"/>
            <a:ext cx="9239400" cy="1411560"/>
          </a:xfrm>
          <a:prstGeom prst="rect">
            <a:avLst/>
          </a:prstGeom>
          <a:ln w="0">
            <a:noFill/>
          </a:ln>
        </p:spPr>
      </p:pic>
      <p:sp>
        <p:nvSpPr>
          <p:cNvPr id="41" name="Retângulo 4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33d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tângulo 5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40e0d0">
              <a:alpha val="8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3" descr="C:\Documents and Settings\Marcelo.Raimo\Desktop\pps\tarjas\tarja-turquesa.png"/>
          <p:cNvPicPr/>
          <p:nvPr/>
        </p:nvPicPr>
        <p:blipFill>
          <a:blip r:embed="rId2"/>
          <a:stretch/>
        </p:blipFill>
        <p:spPr>
          <a:xfrm>
            <a:off x="-95400" y="6308640"/>
            <a:ext cx="9239400" cy="14112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C:\Documents and Settings\Marcelo.Raimo\Desktop\pps\tarjas\barra-turquesa.png"/>
          <p:cNvPicPr/>
          <p:nvPr/>
        </p:nvPicPr>
        <p:blipFill>
          <a:blip r:embed="rId3"/>
          <a:stretch/>
        </p:blipFill>
        <p:spPr>
          <a:xfrm>
            <a:off x="0" y="-9540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81F3E-AD63-4EEB-AE43-58F1FD831ACE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3" descr="C:\Documents and Settings\Marcelo.Raimo\Desktop\pps\tarjas\tarja-turquesa.png"/>
          <p:cNvPicPr/>
          <p:nvPr/>
        </p:nvPicPr>
        <p:blipFill>
          <a:blip r:embed="rId2"/>
          <a:stretch/>
        </p:blipFill>
        <p:spPr>
          <a:xfrm>
            <a:off x="-95400" y="6308640"/>
            <a:ext cx="9239400" cy="14112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" descr="C:\Documents and Settings\Marcelo.Raimo\Desktop\pps\tarjas\barra-turquesa.png"/>
          <p:cNvPicPr/>
          <p:nvPr/>
        </p:nvPicPr>
        <p:blipFill>
          <a:blip r:embed="rId3"/>
          <a:stretch/>
        </p:blipFill>
        <p:spPr>
          <a:xfrm>
            <a:off x="0" y="-9540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86CCF-A806-4F9A-9A2C-15BF4404BE62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3" descr="C:\Documents and Settings\Marcelo.Raimo\Desktop\pps\tarjas\tarja-turquesa.png"/>
          <p:cNvPicPr/>
          <p:nvPr/>
        </p:nvPicPr>
        <p:blipFill>
          <a:blip r:embed="rId2"/>
          <a:stretch/>
        </p:blipFill>
        <p:spPr>
          <a:xfrm>
            <a:off x="-95400" y="6308640"/>
            <a:ext cx="9239400" cy="14112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" descr="C:\Documents and Settings\Marcelo.Raimo\Desktop\pps\tarjas\barra-turquesa.png"/>
          <p:cNvPicPr/>
          <p:nvPr/>
        </p:nvPicPr>
        <p:blipFill>
          <a:blip r:embed="rId3"/>
          <a:stretch/>
        </p:blipFill>
        <p:spPr>
          <a:xfrm>
            <a:off x="0" y="-9540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A44C5-B502-4F28-AE18-D76F6DF6169B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3" descr="C:\Documents and Settings\Marcelo.Raimo\Desktop\pps\tarjas\tarja-turquesa.png"/>
          <p:cNvPicPr/>
          <p:nvPr/>
        </p:nvPicPr>
        <p:blipFill>
          <a:blip r:embed="rId2"/>
          <a:stretch/>
        </p:blipFill>
        <p:spPr>
          <a:xfrm>
            <a:off x="-95400" y="6308640"/>
            <a:ext cx="9239400" cy="14112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" descr="C:\Documents and Settings\Marcelo.Raimo\Desktop\pps\tarjas\barra-turquesa.png"/>
          <p:cNvPicPr/>
          <p:nvPr/>
        </p:nvPicPr>
        <p:blipFill>
          <a:blip r:embed="rId3"/>
          <a:stretch/>
        </p:blipFill>
        <p:spPr>
          <a:xfrm>
            <a:off x="0" y="-9540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92C11-AEDC-4A28-B4C4-7502ACB028BC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3" descr="C:\Documents and Settings\Marcelo.Raimo\Desktop\pps\tarjas\tarja-turquesa.png"/>
          <p:cNvPicPr/>
          <p:nvPr/>
        </p:nvPicPr>
        <p:blipFill>
          <a:blip r:embed="rId2"/>
          <a:stretch/>
        </p:blipFill>
        <p:spPr>
          <a:xfrm>
            <a:off x="-95400" y="6308640"/>
            <a:ext cx="9239400" cy="14112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2" descr="C:\Documents and Settings\Marcelo.Raimo\Desktop\pps\tarjas\barra-turquesa.png"/>
          <p:cNvPicPr/>
          <p:nvPr/>
        </p:nvPicPr>
        <p:blipFill>
          <a:blip r:embed="rId3"/>
          <a:stretch/>
        </p:blipFill>
        <p:spPr>
          <a:xfrm>
            <a:off x="0" y="-9540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25A57-6FC1-4561-9050-BBC255AAAC1D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3" descr="C:\Documents and Settings\Marcelo.Raimo\Desktop\pps\tarjas\tarja-turquesa.png"/>
          <p:cNvPicPr/>
          <p:nvPr/>
        </p:nvPicPr>
        <p:blipFill>
          <a:blip r:embed="rId2"/>
          <a:stretch/>
        </p:blipFill>
        <p:spPr>
          <a:xfrm>
            <a:off x="-95400" y="6308640"/>
            <a:ext cx="9239400" cy="141120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2" descr="C:\Documents and Settings\Marcelo.Raimo\Desktop\pps\tarjas\barra-turquesa.png"/>
          <p:cNvPicPr/>
          <p:nvPr/>
        </p:nvPicPr>
        <p:blipFill>
          <a:blip r:embed="rId3"/>
          <a:stretch/>
        </p:blipFill>
        <p:spPr>
          <a:xfrm>
            <a:off x="0" y="-9540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FFA6F-FB91-4E45-9606-0BAC87CEFFE4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3" descr="C:\Documents and Settings\Marcelo.Raimo\Desktop\pps\tarjas\tarja-turquesa.png"/>
          <p:cNvPicPr/>
          <p:nvPr/>
        </p:nvPicPr>
        <p:blipFill>
          <a:blip r:embed="rId2"/>
          <a:stretch/>
        </p:blipFill>
        <p:spPr>
          <a:xfrm>
            <a:off x="-95400" y="6308640"/>
            <a:ext cx="9239400" cy="14112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2" descr="C:\Documents and Settings\Marcelo.Raimo\Desktop\pps\tarjas\barra-turquesa.png"/>
          <p:cNvPicPr/>
          <p:nvPr/>
        </p:nvPicPr>
        <p:blipFill>
          <a:blip r:embed="rId3"/>
          <a:stretch/>
        </p:blipFill>
        <p:spPr>
          <a:xfrm>
            <a:off x="0" y="-9540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EF352-046E-4D3E-9F3A-64C41DCC151C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Picture 3" descr="C:\Documents and Settings\Marcelo.Raimo\Desktop\pps\tarjas\tarja-turquesa.png"/>
          <p:cNvPicPr/>
          <p:nvPr/>
        </p:nvPicPr>
        <p:blipFill>
          <a:blip r:embed="rId1"/>
          <a:stretch/>
        </p:blipFill>
        <p:spPr>
          <a:xfrm>
            <a:off x="-95400" y="1515960"/>
            <a:ext cx="9239400" cy="141156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2" descr="C:\Documents and Settings\Marcelo.Raimo\Desktop\pps\tarjas\barra-turquesa.png"/>
          <p:cNvPicPr/>
          <p:nvPr/>
        </p:nvPicPr>
        <p:blipFill>
          <a:blip r:embed="rId2"/>
          <a:stretch/>
        </p:blipFill>
        <p:spPr>
          <a:xfrm>
            <a:off x="0" y="-9540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493" name="CaixaDeTexto 9"/>
          <p:cNvSpPr/>
          <p:nvPr/>
        </p:nvSpPr>
        <p:spPr>
          <a:xfrm>
            <a:off x="6296040" y="2925720"/>
            <a:ext cx="633564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Profª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tângulo 6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33d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CaixaDeTexto 8"/>
          <p:cNvSpPr/>
          <p:nvPr/>
        </p:nvSpPr>
        <p:spPr>
          <a:xfrm>
            <a:off x="1430280" y="5400720"/>
            <a:ext cx="64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10253f"/>
                </a:solidFill>
                <a:latin typeface="Calibri"/>
              </a:rPr>
              <a:t>Mercado global, Mídia e Relações de po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tângulo 8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40e0d0">
              <a:alpha val="8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CaixaDeTexto 8"/>
          <p:cNvSpPr/>
          <p:nvPr/>
        </p:nvSpPr>
        <p:spPr>
          <a:xfrm>
            <a:off x="351000" y="1860480"/>
            <a:ext cx="69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10253f"/>
                </a:solidFill>
                <a:latin typeface="Calibri"/>
              </a:rPr>
              <a:t>Gestão Públ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Elipse 10"/>
          <p:cNvSpPr/>
          <p:nvPr/>
        </p:nvSpPr>
        <p:spPr>
          <a:xfrm>
            <a:off x="-96840" y="3147840"/>
            <a:ext cx="230508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CaixaDeTexto 11"/>
          <p:cNvSpPr/>
          <p:nvPr/>
        </p:nvSpPr>
        <p:spPr>
          <a:xfrm>
            <a:off x="76320" y="3776760"/>
            <a:ext cx="194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a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CaixaDeTexto 12"/>
          <p:cNvSpPr/>
          <p:nvPr/>
        </p:nvSpPr>
        <p:spPr>
          <a:xfrm>
            <a:off x="93600" y="4842000"/>
            <a:ext cx="1943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Picture 3" descr="C:\Documents and Settings\Marcelo.Raimo\Desktop\pps\tarjas\tarja-turquesa.png"/>
          <p:cNvPicPr/>
          <p:nvPr/>
        </p:nvPicPr>
        <p:blipFill>
          <a:blip r:embed="rId1"/>
          <a:stretch/>
        </p:blipFill>
        <p:spPr>
          <a:xfrm>
            <a:off x="-95400" y="6308640"/>
            <a:ext cx="9239400" cy="141120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2" descr="C:\Documents and Settings\Marcelo.Raimo\Desktop\pps\tarjas\barra-turquesa.png"/>
          <p:cNvPicPr/>
          <p:nvPr/>
        </p:nvPicPr>
        <p:blipFill>
          <a:blip r:embed="rId2"/>
          <a:stretch/>
        </p:blipFill>
        <p:spPr>
          <a:xfrm>
            <a:off x="0" y="-9540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503" name="CaixaDeTexto 5"/>
          <p:cNvSpPr/>
          <p:nvPr/>
        </p:nvSpPr>
        <p:spPr>
          <a:xfrm>
            <a:off x="395280" y="3492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10253f"/>
                </a:solidFill>
                <a:latin typeface="Calibri"/>
              </a:rPr>
              <a:t>- Esque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CaixaDeTexto 15"/>
          <p:cNvSpPr/>
          <p:nvPr/>
        </p:nvSpPr>
        <p:spPr>
          <a:xfrm>
            <a:off x="965160" y="1341360"/>
            <a:ext cx="4327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Calibri"/>
              </a:rPr>
              <a:t>Premissas básica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CaixaDeTexto 15"/>
          <p:cNvSpPr/>
          <p:nvPr/>
        </p:nvSpPr>
        <p:spPr>
          <a:xfrm>
            <a:off x="898560" y="2066760"/>
            <a:ext cx="792144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- Os sistemas existem dentro dos sistem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- Os sistemas são </a:t>
            </a:r>
            <a:r>
              <a:rPr b="1" lang="pt-BR" sz="2600" spc="-1" strike="noStrike">
                <a:solidFill>
                  <a:srgbClr val="000000"/>
                </a:solidFill>
                <a:latin typeface="Calibri"/>
              </a:rPr>
              <a:t>abertos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 – um depende do outr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Ex: produção de camisetas (agricultura até o produto final transformado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- As </a:t>
            </a:r>
            <a:r>
              <a:rPr b="1" lang="pt-BR" sz="2600" spc="-1" strike="noStrike">
                <a:solidFill>
                  <a:srgbClr val="000000"/>
                </a:solidFill>
                <a:latin typeface="Calibri"/>
              </a:rPr>
              <a:t>funções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 de um sistema dependem da estrutur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eta para a direita 8"/>
          <p:cNvSpPr/>
          <p:nvPr/>
        </p:nvSpPr>
        <p:spPr>
          <a:xfrm>
            <a:off x="436680" y="1486080"/>
            <a:ext cx="488880" cy="242640"/>
          </a:xfrm>
          <a:prstGeom prst="rightArrow">
            <a:avLst>
              <a:gd name="adj1" fmla="val 50000"/>
              <a:gd name="adj2" fmla="val 50044"/>
            </a:avLst>
          </a:prstGeom>
          <a:solidFill>
            <a:srgbClr val="21c9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Elipse 9"/>
          <p:cNvSpPr/>
          <p:nvPr/>
        </p:nvSpPr>
        <p:spPr>
          <a:xfrm>
            <a:off x="6840360" y="765000"/>
            <a:ext cx="230364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CaixaDeTexto 10"/>
          <p:cNvSpPr/>
          <p:nvPr/>
        </p:nvSpPr>
        <p:spPr>
          <a:xfrm>
            <a:off x="7012080" y="1393920"/>
            <a:ext cx="194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onteú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CaixaDeTexto 11"/>
          <p:cNvSpPr/>
          <p:nvPr/>
        </p:nvSpPr>
        <p:spPr>
          <a:xfrm>
            <a:off x="7029360" y="2457360"/>
            <a:ext cx="1944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8:31:27Z</dcterms:created>
  <dc:creator>marcelo.raimo</dc:creator>
  <dc:description/>
  <dc:language>en-US</dc:language>
  <cp:lastModifiedBy>marcelo.raimo</cp:lastModifiedBy>
  <dcterms:modified xsi:type="dcterms:W3CDTF">2011-04-19T19:04:19Z</dcterms:modified>
  <cp:revision>4</cp:revision>
  <dc:subject/>
  <dc:title>Slide 1</dc:title>
</cp:coreProperties>
</file>