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E5C4AE-99D4-419A-9E4C-5E8FD5C0F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FD8FEA-0E68-4E48-ABF3-B7DE9B3F6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623C23-C444-4E5D-9D9C-9C4F235CC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4D0B6-65C8-4771-AE65-7ECEDB55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EFD1D-D839-4644-9265-1C061814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CE4AF-AEBA-48A8-827B-A1BEA0FF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281CB-8C0D-4AAE-B0C6-86FA18F75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CD31A-CF39-47AD-9A74-A484113D5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586093-AA83-487E-8B77-A5240105B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92C0C8-021A-4F72-8202-59E815CCC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B4633C-FFD9-40E7-AE99-89E52E811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924564-D44F-4272-8CF4-A01908BF5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D6925F-3DD2-4ED9-BF3D-34BEED685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54B0EB-7C96-4A89-9C63-EE864EEA1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96CDBC-D071-4A1E-AA84-CB6BFDABD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2618C0-EC12-43D8-9AC3-E16C02B6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D25EA7-6D7C-45A2-8A52-2ED6DF13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F3B113-CE18-433C-8B8C-9E1EF699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3162BF-4878-40B0-B741-0F76D9298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8500C7-8FD6-4229-9C5F-C4794627A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73F966-70CD-4CF3-8A1E-4906886D9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5BC9E4-3761-4350-B3BC-C36785CEA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414350-3A01-4C3A-B75B-8AF1F7EEF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232277-D3CE-4C7B-AF6A-D5812E23F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8B4B65-59C3-4B04-A0B6-8088ADCA1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775468-9601-4106-99C4-92048E867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440EA4-5D2C-4076-B7B5-E6A72F577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B09094-E345-405F-84B6-F5B0C3CC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B97FC1-E5E1-47EF-BBFF-E1F3235D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56626D-6EA6-4D52-AE80-B033E389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EA1BF1-61F2-4C32-A7DF-6B1E44DA0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4010D2-5095-4A4D-96D8-1067F1C06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D30AE2-DB5D-411C-9CFA-58C9B606F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466559-1194-4119-9175-E526C2B74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802001-6128-45F1-9B8D-9C2CE788E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5A438F-30CA-4404-BCE5-E2227DE6B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BC3E47-6654-43FF-88A8-6B6BA7717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1D683B-31E8-4693-8942-E413EC318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09E076-CBF2-4FAA-82D0-FDF6EC461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C3F87F-CB07-439E-A6E0-20FB1F39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A18937-CED3-42FD-A0EF-5241AE4B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20D6D6-3ED1-434B-8239-CC6C68FD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79F720-5918-4D6E-805F-0F88E3FD5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258393-DF14-4121-A13F-C7D8A8251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6779BC-7C6C-499F-89B6-07B847ED9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AF4D-EB27-4E02-900F-64D0EA085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B489-451A-4E9B-8B9A-9C363037F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1DAF-E9D7-4DC8-8EF4-EAD385F10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F69D-200E-41F2-8B38-CCA44218B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2EEF-958E-4DF8-AB8C-89900B61C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3840-0496-4F40-8A8E-A5281F21E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5C04-0275-4C96-8FBB-F9648191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463B-FFB7-4064-B49C-590E01FC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307F-83F1-4295-B3CA-813C312A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2D11-1B11-4D8F-9DB8-D5B20A3CC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D9D8-ADFA-4DC1-8CC4-9D163BCF7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1A6B-2767-4FCA-8EBF-085C69174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851FE-A823-4C68-94ED-3E19008D1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F5E5F-8463-4D35-8662-CCDE38F2B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2D815-34EC-4C3C-88CC-332A86CEE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DFBE7-0472-4BE2-946B-F29A809A3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58B8F-C9E9-4292-9BF2-D1C27BDA9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69D04-0B16-47C4-A375-D11297464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159CB-F2D2-4324-9372-4ECE2776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01127-F708-4E2F-8993-DBC628F8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CF5CF-6F5D-474E-93CC-8DFD161C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9DF65-5183-499E-A319-300BC7F33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280D5-0EFF-4824-9952-03347A17F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511FA-3164-423F-9871-8A844F5BD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40D6B-BB20-4B1A-8786-EA458BE87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7575D-86C8-41E6-9316-9B8EE4EC7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0ABEE-34C7-4B54-88D2-8765EEC97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1F87C-7DFC-4C09-8AE2-0636511CA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665DD-4090-42A1-BBEF-93F667CEE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FEC69-BE60-4614-BA4B-E38820A20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E7746-95F9-494B-AFFC-93E199E0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15AD5-FFF7-4EEC-B26B-A566F162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92A69-8B54-42B9-8B48-2FDD6BF4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CCE67-2768-4E6B-BE1D-DA42DFCF0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379EE-F2E7-44B0-B20A-F9F3179FB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641EF-D0B0-4AAE-9511-F32626447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34B94-38DD-48D9-A498-BA2B115AA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F2610-A916-43E2-87B7-1E61E1F4C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29CCF-6E60-495C-8791-6CE1098D1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3CD0B-2B08-4FA7-8091-52CE1CDAB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81AA0-3459-46EB-A49C-C6FC7A0DE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7ABE7-607D-4149-BEF0-18E56B026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8BBAF-235B-4827-B507-C2EF304B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87239-A0A1-43B5-A7FB-32BEF6A5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FE8E5-E32D-4862-B1DA-7E6897ED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BD42E-0097-44B5-A236-16C2CACA8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4B04E-7F53-4A63-9E2F-5D6767C18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9DFDF-B782-47BC-B500-C11A8D8B4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2F220-DDB0-4C92-A6F1-FC37EEF72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3C1C9-47E4-4542-959C-993F4A211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5105D-E5EC-4EFE-BD2F-573B67373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59123-1CAB-4974-8699-4594A0AC8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EA21C-3A3F-454D-8223-3C06049EE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0D334-8BBC-4AC4-B203-18E192919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34AB2-3725-411F-A56E-2A5676AC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0D2BD-81FA-4CDF-9184-A0C1C312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A5283-044F-4C6B-9B8F-D436C9DE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C0770-0AB6-4301-B495-5DCF89C72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56F3C-FF74-4D35-B127-69712250C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436E4-E666-4453-B96A-04EF2400E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53418-6BD4-4A15-87B5-0AABBBCC8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1F19C-44FA-41B5-B828-A539781FB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7DC30-B4CE-46D3-8215-512622910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8F313-830B-4CF4-BD48-444600BAA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70907-8B0B-4FDA-B47E-C10CA7E62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8C790-AF9B-48C3-BEF3-A3B336F31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CCCB0-501E-4133-B5CB-AB90A3B6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9D018-A24C-404E-8372-2C4615F2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ADE2B4-708A-429A-B522-A4E82AF0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25E5E-2B93-451B-A216-6916EA869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61A2D-0150-47E5-B1D7-5D9883F3C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35910-086C-410F-BFEE-83E5202CF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DFFF41-750E-4F32-91B8-BF1EE8172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57E8BB-8A28-4806-88DD-D637FBC5D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1E209C-46EA-438C-A4FD-92A1029CC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55AAB-96E5-4191-B518-05BF10A6818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3F516-5DBA-4A43-A7A5-9BA7B18F35E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C2B80-93D3-414F-A8CE-C077333DDE54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3" descr="C:\Documents and Settings\Marcelo.Raimo\Desktop\pps\tarjas\tarja-turquesa.png"/>
          <p:cNvPicPr/>
          <p:nvPr/>
        </p:nvPicPr>
        <p:blipFill>
          <a:blip r:embed="rId4"/>
          <a:stretch/>
        </p:blipFill>
        <p:spPr>
          <a:xfrm>
            <a:off x="-95400" y="1515960"/>
            <a:ext cx="9239400" cy="141156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33d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40e0d0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429F2-6101-4AC0-8178-B5FBE96CE5B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A5C56-47C1-4B32-A033-F810CA4EE99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9018E-1873-45DB-BD75-2A39E8D5306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B8C43-809B-4427-8260-B07CA9D2D3E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594FC-E45B-4C85-8791-9972BD388A5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F082C-50D8-466D-8301-5EEC354BE9E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645A3-C3B5-49CB-B7C8-3FB42A63E01C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3" descr="C:\Documents and Settings\Marcelo.Raimo\Desktop\pps\tarjas\tarja-turquesa.png"/>
          <p:cNvPicPr/>
          <p:nvPr/>
        </p:nvPicPr>
        <p:blipFill>
          <a:blip r:embed="rId1"/>
          <a:stretch/>
        </p:blipFill>
        <p:spPr>
          <a:xfrm>
            <a:off x="-95400" y="1515960"/>
            <a:ext cx="9239400" cy="14115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" descr="C:\Documents and Settings\Marcelo.Raimo\Desktop\pps\tarjas\barra-turquesa.png"/>
          <p:cNvPicPr/>
          <p:nvPr/>
        </p:nvPicPr>
        <p:blipFill>
          <a:blip r:embed="rId2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93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33d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10253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40e0d0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351000" y="1860480"/>
            <a:ext cx="69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10253f"/>
                </a:solidFill>
                <a:latin typeface="Calibri"/>
              </a:rPr>
              <a:t>Gestão Públ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3" descr="C:\Documents and Settings\Marcelo.Raimo\Desktop\pps\tarjas\tarja-turquesa.png"/>
          <p:cNvPicPr/>
          <p:nvPr/>
        </p:nvPicPr>
        <p:blipFill>
          <a:blip r:embed="rId1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2" descr="C:\Documents and Settings\Marcelo.Raimo\Desktop\pps\tarjas\barra-turquesa.png"/>
          <p:cNvPicPr/>
          <p:nvPr/>
        </p:nvPicPr>
        <p:blipFill>
          <a:blip r:embed="rId2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503" name="CaixaDeTexto 5"/>
          <p:cNvSpPr/>
          <p:nvPr/>
        </p:nvSpPr>
        <p:spPr>
          <a:xfrm>
            <a:off x="395280" y="349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10253f"/>
                </a:solidFill>
                <a:latin typeface="Calibri"/>
              </a:rPr>
              <a:t>- Esqu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15"/>
          <p:cNvSpPr/>
          <p:nvPr/>
        </p:nvSpPr>
        <p:spPr>
          <a:xfrm>
            <a:off x="965160" y="1341360"/>
            <a:ext cx="432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Premissas básic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aixaDeTexto 15"/>
          <p:cNvSpPr/>
          <p:nvPr/>
        </p:nvSpPr>
        <p:spPr>
          <a:xfrm>
            <a:off x="898560" y="2066760"/>
            <a:ext cx="792144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existem dentro dos sistem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são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aberto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– um depende do out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Ex: produção de camisetas (agricultura até o produto final transformad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As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funçõe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de um sistema dependem da estrutur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eta para a direita 8"/>
          <p:cNvSpPr/>
          <p:nvPr/>
        </p:nvSpPr>
        <p:spPr>
          <a:xfrm>
            <a:off x="436680" y="1486080"/>
            <a:ext cx="488880" cy="242640"/>
          </a:xfrm>
          <a:prstGeom prst="rightArrow">
            <a:avLst>
              <a:gd name="adj1" fmla="val 50000"/>
              <a:gd name="adj2" fmla="val 50044"/>
            </a:avLst>
          </a:prstGeom>
          <a:solidFill>
            <a:srgbClr val="21c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Elipse 9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10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aixaDeTexto 11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31:27Z</dcterms:created>
  <dc:creator>marcelo.raimo</dc:creator>
  <dc:description/>
  <dc:language>en-US</dc:language>
  <cp:lastModifiedBy>marcelo.raimo</cp:lastModifiedBy>
  <dcterms:modified xsi:type="dcterms:W3CDTF">2011-04-19T19:04:19Z</dcterms:modified>
  <cp:revision>4</cp:revision>
  <dc:subject/>
  <dc:title>Slide 1</dc:title>
</cp:coreProperties>
</file>