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631E6-44E0-48DF-BF86-FB6BCB31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7EAC-529C-4CCB-98C7-1983F218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C24D-EA48-4420-8FB4-E44D9A32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C219E-4828-414F-A72F-5CB3622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CBADE-D69F-4AD5-BC88-DA5DC1A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472BA-DA68-473F-B6FB-CBAA886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82CD-2958-4AEC-AC34-14B1D590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D05F1-02EF-4931-AD1A-C328A25D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A5C6B-98C2-4E61-B9AD-C76A7834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16A8B-1FBC-4257-97E6-7F240120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59028-3D65-4827-8A88-63507F2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B563-DF8F-4CD4-A259-6C551869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A3DAD-9556-4F95-8208-32BB48A8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ED971-8F3A-4BF2-B2D1-49AC4B61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49AFE-2DA2-4884-BDB1-D9B22E32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F1217-F1C4-4452-8C44-6ED768E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974B-E06E-41DB-BA09-1CDDFE89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AA61F-E22B-4CE5-89E7-82CB37E0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86D0F-C30F-4820-9440-FE7E6501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FEE98-20B8-4CC0-827D-AAC56E87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4EFB8-8AE4-4957-B56E-E94483A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BED94-FF1F-48CE-B8B3-F5006396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5BA27-F31C-4045-A52B-B07B3C75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E6CD0-0511-45F7-BC93-77DCFAE2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CEA60-2618-4272-94C8-CC6FE5B9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030BA-B594-4D8D-B358-43DEFAFA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88324-4048-418F-ABFD-F03A6A3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92DA4-8C78-4B37-9187-A01DE1F9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F329A-DBAC-4BD9-A11D-5CAE5E2C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193B1-D3D2-4F65-A572-7A04C3FF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72590-1266-4320-95C6-8CFF1D0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2647D-ED35-4B5E-9B56-0A9D5D98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A5151-741C-4AF2-9CED-A905B506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26194-E923-48E5-A079-AF301632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AE70B-1DFA-44CB-8F9D-18E3C009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97975-48D3-4AEC-8737-6DAC28D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D8686-985F-4261-B2AD-D8C50D7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143B0-1404-46D0-83E6-BE114A70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A5E23-596A-4F7D-9D9B-15CB7BC9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091A4-A6CE-45E0-9C8E-CC933AA8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B5E29-D2AB-40E8-9A24-926C04F6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5C1C4-6B19-4F09-AB61-9B89EC50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CD8B1-80F6-4074-909D-65C6C35E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7724D-C1D8-4C4B-9D50-7A33B742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523A4-A0BE-464D-9F66-BB3F64E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686-2C31-4E5F-BDEF-1D99FB7D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3E1-2EA8-4BBF-9CD1-A59246F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857-90C8-4795-85D6-D7A48AC0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FC5-6F67-4FB8-8169-9F08041A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A47-9EE5-46F7-9A18-A12FBC2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6893-B2D4-422B-9F28-356EFCD3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FC6-2948-4CFD-B295-8A697AB7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D11-656F-422D-BBFA-14B302B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A57-01E4-4715-8403-4C512CBA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CC89-8FCC-4842-BE06-26319F1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3DD4-DD35-49B2-9180-C16EB8E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05E3-96DE-4B31-B147-74F12600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9206-67EE-43E3-9242-37469D00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541A-5337-45A9-B55B-F2466FC6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4DCE-A369-4538-8A3D-40D611D2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D39A-CE2F-42AB-976D-582F913F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8A0F-8BCF-46E0-B76A-1B32162B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8F09-2749-4EFF-9CD2-3AA66BF7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6701-5AB8-4963-82EF-A75324A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75FA-253C-4C6C-BDA6-21CF411A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97E-3FF6-4C76-9065-664F94A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17FB-1EAC-41E1-8828-20BF6856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55B4-9404-4D41-A1E8-F5EF54A9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D8A4-960B-44E8-9066-11538647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6113-E717-46EA-82D7-22E0AA84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1632-B05E-40B3-962B-49A987B2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17A6-6E1F-4C53-ABB1-30E11F19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0399-3999-4152-84F7-8CAD89D9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6EE2-EC93-4D03-99AE-5EE3DA30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E1953-8522-48C8-99C2-D914970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6BF70-6A57-4FED-B8E8-7CEED7E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6930-9FD3-4F71-9226-5AF1C57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0072-21EB-4A7C-B925-E45C7EE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73E9C-1251-4D30-B679-1F2F1B67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039D-988A-459B-AE19-DCAF3ABA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F2B9-CFB9-44E8-B2B4-D6A87D8D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FE25-CA4E-45D0-8C69-E703F29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C038-F7E2-457D-B164-8DDD848A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0CB69-00C4-479E-B78F-E0DECCA8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8D7E2-2B77-4A3C-B2E2-CDFE822A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FE8B-850A-46AF-9510-96FF466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6121-EA28-44D2-B49E-27019721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D3030-F35F-417B-ACC9-1DE5798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B1B5-AFE7-4BE4-9053-390F2F07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74449-0396-4BD3-9095-709CF2E0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160F5-53A7-40EF-8B79-4FBAEAB4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AA314-C326-433E-8733-34E078C6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4BBEC-3461-4522-9EAA-20A9A8230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A0D31-6A8F-4116-9FE6-A0198162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23B5-A2CF-4755-AA96-86C14E9B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53FD8-B335-4154-B7DC-98ADB9F2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79D00-6ED2-460B-8946-A75E2343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FBF98-F048-4946-8125-33D2845F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B903-2115-4DB4-9F07-9074B4D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B4760-74DB-49CD-B1CC-E5140628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76769-AB6A-40CE-90CE-BB15B711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C581-8397-48BB-8B12-03B114FA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B249D-7FFC-4598-BD61-C5FE7C6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F83C1-7A40-4E4A-9D3A-AAD2EE43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499F6-DAAD-4407-A0D9-C3D7E5E6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789C-07FB-49E3-BBB6-A0A3924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7B668-CA5A-4506-AF28-B2149B96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31FD-D827-4417-9D5A-C8EC9470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98DB-F8A2-43A8-B49A-65852D6B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074A9-4E89-4E76-BB4A-E88A563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A7B7-770E-4505-9289-DF9E8071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67FDC-8F6B-4756-BA17-F124E10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5CAAF-22A1-43F7-8874-CB1C5D3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DCDD8-FF35-456B-88B2-08921B8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47C9-E8C2-49FB-A3BD-CF04D0CC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C789-1D05-491F-AB25-00C2CD7A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C1ECE-6D58-45F5-9FCF-40E85368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A3C98-0AE3-46FB-8FBD-53BBD274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C4EFB-F949-4F65-BFED-4C6E7539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FCDA0-4782-41B0-863A-2FABE295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C62D-5F53-4C3B-9CDC-001EB7B8AE9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3477-1627-4CB6-865B-A3C1D71FC6A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1413-1EE9-4DD3-91BB-B3578ABC1B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turquesa.png"/>
          <p:cNvPicPr/>
          <p:nvPr/>
        </p:nvPicPr>
        <p:blipFill>
          <a:blip r:embed="rId4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6210-0A7B-443D-9771-394A7FF9C39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9D6-E90A-41CA-AC8D-D561EDDD56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ACA-20A6-4FB0-ACC1-F596C5ADEE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6A16-20FA-438E-A5DA-6E28D30304C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6BEF-FCF4-448E-8437-BAF0A5BF3FE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2468-B445-46A7-9B4D-DAC119698E2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turquesa.png"/>
          <p:cNvPicPr/>
          <p:nvPr/>
        </p:nvPicPr>
        <p:blipFill>
          <a:blip r:embed="rId2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turquesa.png"/>
          <p:cNvPicPr/>
          <p:nvPr/>
        </p:nvPicPr>
        <p:blipFill>
          <a:blip r:embed="rId3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9879-7345-4227-94BF-4E242E7D82D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1515960"/>
            <a:ext cx="9239400" cy="1411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33d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40e0d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Gestão Púb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turquesa.png"/>
          <p:cNvPicPr/>
          <p:nvPr/>
        </p:nvPicPr>
        <p:blipFill>
          <a:blip r:embed="rId1"/>
          <a:stretch/>
        </p:blipFill>
        <p:spPr>
          <a:xfrm>
            <a:off x="-95400" y="6308640"/>
            <a:ext cx="9239400" cy="14112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C:\Documents and Settings\Marcelo.Raimo\Desktop\pps\tarjas\barra-turquesa.png"/>
          <p:cNvPicPr/>
          <p:nvPr/>
        </p:nvPicPr>
        <p:blipFill>
          <a:blip r:embed="rId2"/>
          <a:stretch/>
        </p:blipFill>
        <p:spPr>
          <a:xfrm>
            <a:off x="0" y="-9540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5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10253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98560" y="2066760"/>
            <a:ext cx="7921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21c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1:27Z</dcterms:created>
  <dc:creator>marcelo.raimo</dc:creator>
  <dc:description/>
  <dc:language>en-US</dc:language>
  <cp:lastModifiedBy>marcelo.raimo</cp:lastModifiedBy>
  <dcterms:modified xsi:type="dcterms:W3CDTF">2011-04-19T19:04:19Z</dcterms:modified>
  <cp:revision>4</cp:revision>
  <dc:subject/>
  <dc:title>Slide 1</dc:title>
</cp:coreProperties>
</file>