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4B590-31CF-45A3-8273-5A8CD013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6B6BE-BBAA-4F83-BD62-F5427D79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D5095-DAE2-4959-8DC5-A93F8B45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60A15-7AC3-47BC-95B3-66442A6A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2AC6C-4911-4C68-86C8-8E67C6B6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8EDDD-68F6-4AF0-AFF2-E5282B9D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59C90-2A58-4B56-A8BA-C4158134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FE23D-066F-4992-BF7E-58F9669D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47BEE-B8EF-4FA9-9EC8-A55E856C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78DCD-10D7-4B89-AC1A-5B59BA8D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5742F-9862-40A5-B93D-930AFA1E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C6632-9B64-4C91-A28B-18D0462E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1DF92-C6A0-4BBF-8C44-03E6AB8A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26612-E397-412D-ACAC-C2A62863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FAD40-4268-469D-9C53-D817B3B0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E4551-543C-42E9-8421-1B8EB2F0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85960-FD48-48FC-87D9-4D8B89BB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98EC7-64FB-4398-9CE1-A3B25444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F6A93-63C0-4EC2-8CB3-6EA72AB9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17301-D32D-4809-B675-E7570E9D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CE1E0-EC65-4CBB-8E50-FAC747E6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23951-2D1B-429F-8E94-849FBA1E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10460-3C03-470B-94E4-62E9296D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D6AF4-2102-4B7E-BBBC-9EA27E37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CF3F7-29A2-4D1D-82BA-B7F30890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F3CC5-5CAA-4AAB-A22D-FDD9E9D7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0134B-B733-45FC-B639-A9163FA7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EED19-B881-4F2A-9546-DB752827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93968-CFEF-4907-9B57-D5CA0B9F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3A0FE-D16C-4F6D-B252-1E9BB2E6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E9295-BF58-4E7B-A50D-06CA7B47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BAE87-7D42-4813-80C3-A7544283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5B88F-29C8-4519-8C2B-390DF8CB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8C921-CD32-4AFE-B9FB-B4022685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EA31A-3D85-4E06-BBE6-366680E5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1FE4F-46BF-4405-AD0E-CA6859BE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E537A-B05C-49F0-99AA-18F3567B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C81A7-B60F-4CBA-BA32-595349F3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FE604-C7D3-474C-BC1D-C1745C57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8A76C-DB12-408B-ACE7-21510C85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71BFA-DA9A-4261-A4BF-5EEDEA02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4A875-844A-4EBC-A0E5-DEA43075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9B5E7-1820-4914-9685-24CA6AB5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57E59-EEB8-4A3A-908D-D743E9F7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349F3-91B9-483E-B007-65470E72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8F88-459B-44AC-8994-BEC885C3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8667-16AF-441A-A3EB-CF8E2C1D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E89D-C7E2-4936-A4D4-A37DCD9F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BE8A-28A1-4CC9-ACB8-0ACA2532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34B3-E572-47CE-9064-2854F858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F782-B866-48F7-8C33-6BFFA432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BC81-0D6D-4A1E-9FB2-06FE6856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50D0-1140-4075-8CBF-76465791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7560-3873-4B43-9B8E-D4722BAA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0C8A-55AC-4C08-A97D-CDE1FD25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7B53-3196-4DE0-8FB0-D8DAE299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39CE-CF8E-4BE5-B742-97CAE3D1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D073-5881-4675-9EDF-A1DE32CB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609C-293E-4762-96DB-68393B79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DB60-09AB-43D8-BC43-4780E711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8E67-CDA9-466A-BE1C-F159EF00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6109-7FCD-4097-B53C-307CC791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D7A2-1865-414D-995A-B423497C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4618-6363-436C-B42C-9A1DBE7B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FE28-9BDA-41D8-B612-7D835C72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1102-422A-41DA-A998-18E03426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24C0-5FC7-4880-B2FA-0C92B600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9DD8-0E0C-4CFA-BEF8-3D39722F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7345-D7F1-4C05-8DA5-9CEDC4A6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616B1-3281-49A6-ABD5-B496833E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0724B-A8AC-4CB9-83D2-E1DECA48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C8378-F8B1-4E69-BC15-0B1E87C1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B2D72-497A-4D1A-8D92-263A7DF1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1D48F-D8C2-4645-AAE0-60734A14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5F635-CFA6-43F4-8305-8C4566DF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0700E-A946-4CD8-A3C4-E4535EDB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F0F10-6955-484C-94BC-A596AB93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CE2FC-493D-419E-ACE3-9239CF2F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3845F-9DFB-4687-9CA5-07588A3F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A1E55-955D-4D65-8746-B4F31D7A8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E23F4-9FCA-482B-B443-86409E25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52173-C677-47A7-87CC-381BB5D6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6C27C-B311-4586-8977-4E322B0C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1118A-D8EE-41FB-A022-6AFC9055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C313F-674F-4AA0-8A36-8D4C24FC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6B4C9-7AC8-4134-A8BF-8ACF85A1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F2994-B9EA-4487-889E-E9675175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AAEC0-1103-4A7E-B9C1-600896AD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238AF-F399-4577-BC7D-707F0CE5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BC9C2-510A-4CDB-9780-D63C7768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D8FB5-9E0C-4810-AB68-4359CCB7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B0DFA-7FBC-4726-B623-F88EABAA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58AD7-EF61-4734-8B77-63FF3CA9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68DBE-8CA8-440E-89E5-6A161FB8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32862-F76D-40C3-AC4C-B7FD7DFE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873CC-E6F9-42D9-9003-4D1ACCE6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D93EC-22BB-4158-B9A3-00876B0E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5FD6E-06D1-4DE4-A0FD-4398D19A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64349-D53C-4444-B80F-2C518A1E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76CE4-6EC7-4533-BF19-4B46C3E2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8417C-72F0-40F5-82FC-B1EFBF17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A02CA-CB98-4FD2-BC2B-8D9D3279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30A20-9FCF-4BEC-B319-82A9DC1D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F480C-E343-49C5-961F-C0FB6DC7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E2A0A-5A1B-40BC-8E77-7F9C627B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09DA3-A0A2-4708-9944-5AC57F20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0D481-5134-4D38-B52B-5E0A5621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0CB71-7ACB-48A2-8882-0B148D76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29788-9B5A-4434-B54C-4162BA4A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A0760-C0B1-4387-B99B-F1D3369A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DB553-177F-4D29-9838-969844AE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4DE9A-035E-4A19-A76A-CA803BA2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4D6B6-B1F5-4D09-964E-0A318DEC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91340-96CB-4A30-AAAC-C8536707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6C70F-A7BB-4BF1-92D4-D38BD451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CD87A-49C0-4957-B40E-6F6EA56F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2208C-0F0C-450F-82C4-99E9DE61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FCBED-9314-4A11-B90D-8332EE41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C62A1-7DB8-400A-ABB6-A029A057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62C9D-9F54-4832-A2A9-891DE1C5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3447-A898-4D7B-B8EC-8FDFC39C068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021B-313B-4FAB-A0AB-F6FC17DA8A7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A8CF-A87A-4CC9-A03B-7964D08D8BC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turquesa.png"/>
          <p:cNvPicPr/>
          <p:nvPr/>
        </p:nvPicPr>
        <p:blipFill>
          <a:blip r:embed="rId4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1B03-DA81-4447-B3B5-00D1049A906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FB79-D439-4A10-B142-A1BAD85FCBF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D706-0A6F-4485-9018-188FD9CE283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2AA4-D860-45D2-9BBE-41B4D4F4672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22C4-11EE-425D-93D5-22B7E111333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19B5-EACD-481C-A7BE-8A9678930DE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340F-6BB4-4BE5-8E24-2BFA89283C6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Gestão 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5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98560" y="2066760"/>
            <a:ext cx="792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21c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1:27Z</dcterms:created>
  <dc:creator>marcelo.raimo</dc:creator>
  <dc:description/>
  <dc:language>en-US</dc:language>
  <cp:lastModifiedBy>marcelo.raimo</cp:lastModifiedBy>
  <dcterms:modified xsi:type="dcterms:W3CDTF">2011-04-19T19:04:19Z</dcterms:modified>
  <cp:revision>4</cp:revision>
  <dc:subject/>
  <dc:title>Slide 1</dc:title>
</cp:coreProperties>
</file>