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DF935B-0D7F-4693-837A-05DCC688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692CEA-F77C-4B02-99CD-987AD4784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52FB7-D799-4271-A839-5E2B905F7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52FB84-3F7B-484C-AEBC-48893C073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214B3C-70A4-4F30-BDED-3DE0A1E8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6749EE-01E3-4E39-A16E-57BAA3C85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0BFD6E-7A1A-4CF8-A3D9-FB3A1B4D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5EC3C-81C6-44B1-A61A-9480989EB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B47CF-838F-47A8-95EE-71972D655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E1F112-E92F-435A-9F7C-79AB3ABC5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B59793-BF85-49EC-975A-2E008154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309FD-D9E3-4DD3-8582-A95995AD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4150F-30A0-4CD7-90D0-3742A7DA4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6E4451-FBBF-4AC0-93C5-153841DA8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774008-3A25-42FA-AFAB-55E99F5D1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6FF067-C11C-45E5-9B4A-60CA83A2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C43E7A-0EC1-4A5B-ACC6-3DCCF465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3E8DF-DA9A-4E17-9FA4-8EB42CC4E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4CFA4-4369-4AFF-B63F-44187A74F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1BFC1-4B32-4D16-B06C-E4FA55DEB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CBD521-5827-491A-B82E-C0E49DD7A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28BA69-2CBD-4354-93E1-C8F63F077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1B95E-72D1-45B4-BAF8-AE5E81162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7C755B-8497-4480-AE38-26E36988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11A2D-208C-4A0D-A0AC-E94E0AF2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BD5B9-C860-461C-8217-EB26D330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69C11C-68C4-4515-B4C7-5DC04A73F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D3CD6E-8909-40FE-98C4-6B5446FD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0C6392-8215-46CC-A39B-E21B95DE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9E0886-68BD-4D1D-AE01-5B0E54C17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F2547-7359-436C-8C64-4C60AC5D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2C608E-CB45-4D3B-AAA8-4BAF76C06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9A9C4-21ED-4937-8ADA-885DC23CE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5932AD-753D-4C36-8E55-B3CBDF448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8DDFCA-D979-4732-9A0A-727C05EB5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184BA3-E99B-43E7-88F9-0EB3A5B7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235B92-E21D-4B38-BAE3-05C9D0D0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A843A0-6C23-4EA9-BAFF-77B4433C4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F4448-7920-4E39-9A1D-413399F6C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5FD7AB-57EF-4D9B-B9A1-C4E8C135B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A487A5-BD7D-41D0-BB97-41425CC57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06B218-DA2D-4A3B-94A5-C582D049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FCF9D-EBE2-4E51-849C-B87045491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159B17-5C96-47BF-B131-90A77F0E4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59854-9F65-439F-9159-95B35E0E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4D88-2EF8-4CDD-A073-D02BF601D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2E9A-EE9F-4836-ABC4-42FD12CEF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1CA6-F996-4091-A869-80609DFA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5149-D8A7-4A53-A520-106D08CE2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8FE0-8F2A-42B3-B3E9-70695F7C0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AE6-B3F4-44D4-BF4B-066B1E9FC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FF32-24CB-4382-B012-A036134F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D017-CC74-40ED-A7E0-8492EEF58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A626-E8D5-42CA-B6C2-B319C09F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25E-139A-4E0E-A496-DBB99FF07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E50E-B71B-4DE2-8F6C-4D2571A79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5A69-31B6-4780-87DB-3F2E687FD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718F7-9212-4E9A-A966-7895EEAB4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DDC9E-ABE1-4863-A30F-69E66CF1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DD48-2D13-49D5-AFDD-2BE595A38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4DB1D-6DF7-4045-93B8-5F9C0AA1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DED2D-6BBB-4293-96CA-E1602910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A5B5B-4231-4205-9477-389F1E05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AC900-1232-4ECF-AEEF-52A789187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B299-47AA-4B29-8B06-DB183988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18063-B1A4-4A31-AA96-A566207E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9C018-64DB-4736-98E5-A4954DED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062FB-76F8-4C5B-B378-0C1A4B6B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0126-CCA2-4375-9322-D74BA4BD7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50ECF-659B-46E2-935B-B1DCBF2D8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35793-4F40-4DD8-8C6A-FD2EEE63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BFA49-CFCE-4C5F-B645-E9A019ACF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386C-61B3-49CA-AD1A-7F4ACAE4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6C605-38D7-4C09-907B-48FB2223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AC99B-9BE2-48AE-9D31-080C82E40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05366-4082-4F3A-A1F8-0A4E3133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C06E5A-F31D-4B67-AFDB-21580E01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097B-7BEA-4156-B914-A85534DD8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D8750-9547-479D-B9E8-B912C5B7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8D69B-DE09-40B6-9EB2-E8DADD508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F04D6-9817-4643-934E-EF5A393F4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41661-A595-40E1-9ED8-3577F7B5E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763FB-3228-409D-A914-04C2B0C4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A495B-E5C9-4F96-A750-D74E34B7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A1FB6-5F99-4744-BFE4-F9B4C717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4DB26-70AF-4FEF-8E92-AB0985B5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BACF8-F559-482C-9C39-8112BAFB9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98A48-C727-4433-A597-01AC1705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1983F4-435E-4DF9-AC24-518BA2186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BFC1F8-B26C-4E70-9B88-E3E0BB386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E8ADC-46A4-4B0A-A36A-275301B1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CD17C-925E-4B7D-96FA-95C14D430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0549D-6C0E-4169-82D4-FF3AC981E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241C9-1FCE-4096-9A87-0942B673E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81D83F-A7D9-44F3-8A51-3B6438C5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74B9A1-8412-461A-9A6F-9D5926C89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38D1E-8A2D-43BF-B828-E553B8D4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8ACAC-6CD3-4C4E-8F31-046CDEF9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B1920-719F-4CB8-9C16-CF80A947E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31659-79A7-4642-987E-B389EC93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1F0859-435E-4B17-B883-A8420D0B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9FC53-6998-413C-A8C7-080FF2D65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2EA13-4F24-4B2E-947C-2EF5388E2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ECCF2-D6AB-45CC-9610-26924A5A9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8428CD-0234-4D4C-BF25-94809B125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084162-FD9B-492F-AD4B-934C10849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C7101-B989-4573-8421-AF74E40E3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B965E-2776-4D73-80A4-7A58FD938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7742C-EDFC-495E-BD6A-BE31C7018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EBF6A-37AC-47A8-90A5-E68595C4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F948C8-BC90-482F-B89D-E5FBC9A9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FFF9F6-C3B6-4802-9D4E-635C1FF42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EE3E-DFC9-455E-9291-F3D7C01A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19D9B4-6964-47B6-811A-BD172B7F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98B84-5A53-4E5A-A2E1-BDEF33E9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7F9E8-1E0D-48D3-BDF6-89968965A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D1C90-2EE7-4DF8-AE53-E826C9AE0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A89347-B1BE-45A8-8527-05C01F73B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500E44-2840-4D33-9E0E-7317CCA04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4C9B1-2883-496F-8C60-158B65A0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41DE-1CEC-4DE0-A9D5-A7FEB594394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10840-1876-4A6D-9F91-C39F8159C25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470C-C057-40ED-AA91-584B096535C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salmao.png"/>
          <p:cNvPicPr/>
          <p:nvPr/>
        </p:nvPicPr>
        <p:blipFill>
          <a:blip r:embed="rId4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>
              <a:alpha val="9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86E14-F7C8-4990-9748-E3D54E9DD7D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A84C7-3B7B-4AA0-89D0-F0DB8414AD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655AC-6508-42C7-B920-09EA00F2D5B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C1A8A-A86B-4C4D-8ECA-81AF2B46B66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73FC-BDC1-4EBB-BC81-A22A78373501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3CD18-E1ED-4284-810D-328BBC325B2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3" descr="C:\Documents and Settings\Marcelo.Raimo\Desktop\pps\tarjas\tarja-salmao.png"/>
          <p:cNvPicPr/>
          <p:nvPr/>
        </p:nvPicPr>
        <p:blipFill>
          <a:blip r:embed="rId3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34854-940C-4A48-8BD9-A7D140AC4E8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Picture 3" descr="C:\Documents and Settings\Marcelo.Raimo\Desktop\pps\tarjas\tarja-salmao.png"/>
          <p:cNvPicPr/>
          <p:nvPr/>
        </p:nvPicPr>
        <p:blipFill>
          <a:blip r:embed="rId1"/>
          <a:stretch/>
        </p:blipFill>
        <p:spPr>
          <a:xfrm>
            <a:off x="-112680" y="1539720"/>
            <a:ext cx="9396360" cy="143532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" descr="C:\Documents and Settings\Marcelo.Raimo\Desktop\pps\tarjas\barra-salmao.png"/>
          <p:cNvPicPr/>
          <p:nvPr/>
        </p:nvPicPr>
        <p:blipFill>
          <a:blip r:embed="rId2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495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10253f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a7f72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8"/>
          <p:cNvSpPr/>
          <p:nvPr/>
        </p:nvSpPr>
        <p:spPr>
          <a:xfrm>
            <a:off x="351000" y="1860480"/>
            <a:ext cx="69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Letras – Língua Estrangei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C:\Documents and Settings\Marcelo.Raimo\Desktop\pps\tarjas\barra-salmao.png"/>
          <p:cNvPicPr/>
          <p:nvPr/>
        </p:nvPicPr>
        <p:blipFill>
          <a:blip r:embed="rId1"/>
          <a:stretch/>
        </p:blipFill>
        <p:spPr>
          <a:xfrm>
            <a:off x="0" y="-7776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4" name="CaixaDeTexto 8"/>
          <p:cNvSpPr/>
          <p:nvPr/>
        </p:nvSpPr>
        <p:spPr>
          <a:xfrm>
            <a:off x="395280" y="63360"/>
            <a:ext cx="554508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900" spc="-1" strike="noStrike">
                <a:solidFill>
                  <a:srgbClr val="000000"/>
                </a:solidFill>
                <a:latin typeface="Calibri"/>
              </a:rPr>
              <a:t>- Esquem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990720" y="1413000"/>
            <a:ext cx="432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ixaDeTexto 15"/>
          <p:cNvSpPr/>
          <p:nvPr/>
        </p:nvSpPr>
        <p:spPr>
          <a:xfrm>
            <a:off x="382680" y="2205000"/>
            <a:ext cx="8437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Seta para a direita 7"/>
          <p:cNvSpPr/>
          <p:nvPr/>
        </p:nvSpPr>
        <p:spPr>
          <a:xfrm>
            <a:off x="436680" y="1558800"/>
            <a:ext cx="488880" cy="24300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fa7f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8" name="Picture 3" descr="C:\Documents and Settings\Marcelo.Raimo\Desktop\pps\tarjas\tarja-salmao.png"/>
          <p:cNvPicPr/>
          <p:nvPr/>
        </p:nvPicPr>
        <p:blipFill>
          <a:blip r:embed="rId2"/>
          <a:stretch/>
        </p:blipFill>
        <p:spPr>
          <a:xfrm>
            <a:off x="-112680" y="6284880"/>
            <a:ext cx="9396360" cy="1434960"/>
          </a:xfrm>
          <a:prstGeom prst="rect">
            <a:avLst/>
          </a:prstGeom>
          <a:ln w="0">
            <a:noFill/>
          </a:ln>
        </p:spPr>
      </p:pic>
      <p:sp>
        <p:nvSpPr>
          <p:cNvPr id="509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33:46Z</dcterms:created>
  <dc:creator>marcelo.raimo</dc:creator>
  <dc:description/>
  <dc:language>en-US</dc:language>
  <cp:lastModifiedBy>marcelo.raimo</cp:lastModifiedBy>
  <dcterms:modified xsi:type="dcterms:W3CDTF">2011-04-19T19:06:07Z</dcterms:modified>
  <cp:revision>4</cp:revision>
  <dc:subject/>
  <dc:title>Slide 1</dc:title>
</cp:coreProperties>
</file>