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FA125-029A-4CF2-84C6-E034AB21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D7AF7-43B2-41A9-9F3F-50D05D2B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0E8F7-C336-4CE7-BC2D-B0045710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7284B-A6C7-41AC-BC76-1B608CCD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D5D20-78F4-4315-8F4F-926A10B9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15E97-0953-4991-8819-94EC0194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75C46-E708-466E-AACD-BC5C3332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1369C-5191-4E2D-8157-6A65B0EF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950B8-39F0-4F8A-B56C-7F1B89E5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EF0E1-E24B-4EFD-B538-02615860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6F598-66E1-4A70-93E1-12E0395D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173F6-6711-4B96-A495-4E5F2E5C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39D0B-582F-4B01-97A8-F9DC407A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2A053-FF32-4AED-8857-1616C658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2FA54-15D9-4D0D-9CE9-095E207C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F1C7A-1D9F-45D4-ACA9-DD0AD608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14DAE-E344-4007-888A-9BFC9717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65B52-0F92-48E1-87E3-3594D8FF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9A824-B1FC-4D6A-91AE-6FBA1B7B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B471D-6037-4964-BD6C-F2C73189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A3192-20D4-4AD2-BE83-1DF7A60F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1CDC3-827B-4FB2-8F96-974970F7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87C10-72DE-44B9-83B8-C8A66927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E42FF-1812-4581-A4E2-AAD87F1C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6C1A7-65E3-4AF6-A3C2-DD3F9C3F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2F17B-9C79-40E2-B6B5-E5CEA22D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84091-7C4D-498A-915B-1EBE481C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6F921-F8F0-486C-8CF1-9FDA236E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3E384-E321-4163-A544-94B3CAB9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AE1CD-97D1-40EE-8666-C69E7A21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B62DB-66DA-4A82-8799-2615731F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413F2-A9A0-4B66-B1FA-B006BF38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7CA3F-9F48-4751-A1A5-1A6FECE7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D4DB0-59D8-4473-B2BA-2881CF90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8FC1D-9E98-472B-A02D-D45FF63C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2141B-E6B1-489C-B6B4-7E8DE9DA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C84F5-F7A4-4C22-BC87-D6982028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96E66-BDCE-4136-9891-EBBE513A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3F0BD-A827-458B-B54F-2BD716F3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1D14B-CBE6-4CC5-AD9C-AC95B0A6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C1416-893A-4A76-BFBC-D4C8DFD6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ED2BE-CEF6-4DF8-9B5A-D432EA58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FB31C-C39F-4A6A-80C1-8990954B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47AFC-1CC7-421D-B30C-0194C03E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4DB63-89F4-414A-BDCB-9BD59720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D043-C325-4298-B45E-86A7592B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8AC2-300E-4643-A238-73249E3B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110B-9714-4BC7-BD92-51909029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DC0B-68D2-4EEC-8E80-1355BAA6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5865-86E0-4539-AD22-6A1EB727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5C15-5EFD-4D4C-99BC-23A4EBD9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FC28-CD33-4093-ABF0-842497B8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A78-D823-4D1B-A7C5-C047A06F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F88-BEFB-47AF-AB35-2D48EBA7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9824-497E-48DA-903B-7EC3C9E2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2743-F41C-49AF-A6C7-EE686642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2E2-9766-433B-A225-97534633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AE2F-C444-41E2-B383-01E39B4D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F6F7-3565-4231-ACF1-A78E45D5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B873-FAA9-4CE3-A22A-D15DFE34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9F23-51FF-4D91-8FAA-D253766D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2CB7-699F-45B1-9427-1D10F682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F3D9-BF77-4ABF-A624-0C1AB246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D4D3-A2DE-4CCD-B154-DCB2E767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DF0D-CEC7-44FC-BEA1-BAC40FE1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0034-56BF-46A4-B09C-98F1C5EA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EF46-8E71-4ABD-AA57-7C84017D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664E-D084-417C-B42F-4E1F415F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C987-1D47-467C-ABE9-814F2889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E435E-82FE-433C-9E2B-8B144895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FCCAC-9FE0-411A-AA7B-6982F277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71274-265E-4387-A63C-E53D7871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C21AF-3B85-42AF-8A12-A598C7FB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DF065-D11D-418A-BE05-0CA8DEFD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FB9EC-F9DA-4EF0-9621-A81D465A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0066A-917D-4D12-B3A1-9F763C38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BB4D3-56B5-4C5E-B1A9-8AC9814C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F450E-7DEA-4B79-A41F-897D1D02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1C580-F09A-4BBF-87E5-9CC16704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9F27B-3D6F-427C-A61D-D2685699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AA5C6-61A9-4B59-9A56-491DC84C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DBCC4-A67A-4E78-83D1-EF04A6EA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D8018-B47D-4927-B45B-859AC632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DCAFD-5084-4061-A101-C7BC8D07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E2B7A-1DDF-4249-8C71-028DE5F9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B3BE2-75E6-4498-8BDF-2CACB867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0EEF0-E625-41C6-907A-B1C25CF9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1792E-744E-4D39-9462-45E334F4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BEFD4-8CAD-479C-B042-3B42CDFC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290F4-DC5A-478B-9371-03179E24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E30AF-D726-4E15-89E2-8E091D69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320D4-03A4-4130-AF42-335DC98B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6521D-6A1F-4551-89FA-EAD4E33B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439C6-E667-4CF0-8F20-7A45652F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DDE36-2557-4757-81B1-6B533453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BB0A3-4349-45E1-9BBD-F86A2BEA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9191D-D1E1-4A41-8652-E05F1353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370C9-B08E-4DF3-83EE-50A6F966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23111-8DE6-4E3C-B806-E271FFF9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91106-0F1B-4741-85DD-7338BA5C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BB14A-A60C-46CE-816D-CDD29BCF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8873C-9F25-49FB-90E0-C7D7AA82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C161D-B99C-4501-B384-6A53576B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95AC2-434E-436B-8165-CED64326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98EBF-6DB3-4BE9-A2BE-2ECA9ED1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68FA6-1166-41A3-BF87-838C0586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D942D-58CB-4ABF-BFA6-127ECC0F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D92DA-7D4C-427D-A951-8FC3951D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056D0-B666-4A60-A7F2-597FBA07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5F60C-4705-4EDC-9B4A-BC521747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2CE95-70F0-4BD2-9278-C3797DA4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28585-DDE8-455C-9A5A-58372DE2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CADE2-2659-4B89-BDF9-0A6352DC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86F28-8073-4A63-99DB-9F07D1E2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AE174-D64F-473D-930A-E837AD05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7969D-78FF-4036-9BCC-7A141514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138B0-17BD-4DE1-8545-D3B2C5B5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95BD1-FA6C-49B6-97CA-EEC509EC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8BE49-E862-4C94-89DE-DE8E228C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5ABFE-0CC3-4AEA-9691-3BA8871E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2DD4-DC13-4A31-875B-FF6865C922D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936D-9F0B-4951-9AF6-D061527E766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A7A7-E27A-4BEB-8162-21C48F2BEF3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salmao.png"/>
          <p:cNvPicPr/>
          <p:nvPr/>
        </p:nvPicPr>
        <p:blipFill>
          <a:blip r:embed="rId4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8E21-D8FB-46A5-B455-651952D1AE1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9B2B-1FD3-48C4-9818-E293BF0CC68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C210-970B-49D1-8D8E-97507401445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BD60-B448-44A9-996E-4B32DDA3172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5B91-A2A5-4305-9AD2-2A8DA40662A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6135-BAC9-41AE-8F2C-B3691684F19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AE6B-0340-4279-9B82-42AC5DCCB2D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salmao.png"/>
          <p:cNvPicPr/>
          <p:nvPr/>
        </p:nvPicPr>
        <p:blipFill>
          <a:blip r:embed="rId1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etras – Língua Estrang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Marcelo.Raimo\Desktop\pps\tarjas\barra-salmao.pn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63360"/>
            <a:ext cx="5545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Calibri"/>
              </a:rPr>
              <a:t>- Esquem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990720" y="1413000"/>
            <a:ext cx="432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15"/>
          <p:cNvSpPr/>
          <p:nvPr/>
        </p:nvSpPr>
        <p:spPr>
          <a:xfrm>
            <a:off x="382680" y="2205000"/>
            <a:ext cx="8437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eta para a direita 7"/>
          <p:cNvSpPr/>
          <p:nvPr/>
        </p:nvSpPr>
        <p:spPr>
          <a:xfrm>
            <a:off x="436680" y="155880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:\Documents and Settings\Marcelo.Raimo\Desktop\pps\tarjas\tarja-salmao.png"/>
          <p:cNvPicPr/>
          <p:nvPr/>
        </p:nvPicPr>
        <p:blipFill>
          <a:blip r:embed="rId2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50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3:46Z</dcterms:created>
  <dc:creator>marcelo.raimo</dc:creator>
  <dc:description/>
  <dc:language>en-US</dc:language>
  <cp:lastModifiedBy>marcelo.raimo</cp:lastModifiedBy>
  <dcterms:modified xsi:type="dcterms:W3CDTF">2011-04-19T19:06:07Z</dcterms:modified>
  <cp:revision>4</cp:revision>
  <dc:subject/>
  <dc:title>Slide 1</dc:title>
</cp:coreProperties>
</file>