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6CC677-0114-48C8-A952-435EA027E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E41FF9-B995-4045-B80A-2C4B14D05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E67363-05B4-4254-A3FB-178613DB5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5352F1-6076-4C96-8EA7-46B31EF8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A8DE87-F638-43F9-8F37-EE98760DB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DFE676-B67E-4460-AED5-1B19C3CFB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12E8E2-ED24-43D8-9874-6EC3C5604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99123A-9798-4B04-A93D-C64B34806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159A3D-C2D6-4E4D-8C9F-EA5AB3345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D759AF-DC66-41B5-BF8B-D79B714B3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262F87-ABF7-47FC-833A-1E73962B0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FE37A4-7802-4879-9D19-254C85EB4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9CFEC7-1173-4DCF-8115-5323DBF8D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A2BD9D-64CB-44D6-B0B5-BB0E528AE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57F060-41A9-4FE2-88C3-DC64EBA13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0B9458-742C-4C3F-BCDF-51CDD414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CF48FC-6838-47F6-9F7E-12101D0E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9D4D9E-6E81-44A9-BBB8-58DCA113D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25B1EC-D149-4B89-B06B-59FA6C4BF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F6ECAD-0E74-4CF9-ADE7-73B21F686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7FE4A9-6B70-49F2-AF59-3EF60E3B8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742456-411E-4D13-9540-C187045DB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4793C9-6423-49AC-A8B9-F8C397851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F6BF47-2F94-4EB9-BF82-49173D1F1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B1085A-2C93-4577-9F14-A1E001ED3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DAFB60-3211-4F9A-A382-C8AC3F199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8FEDC9-562D-444B-9A49-479178DC5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D8D50B-CEC9-4D10-8FC1-FA3FDF9EE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EFC30A-B2A5-4337-BDD9-15A1AAAF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EE01B4-3087-46CD-8386-BAC6437E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0109E1-83E2-469C-B0B0-0611C9B52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3D6749-0C06-4B7C-BE2C-617DB95E1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644E37-9B0A-4D8A-845A-53BAA8063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15084B-0381-4F19-82DA-6528128A6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52D1BD-547E-4B6F-BF94-453BDE996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80C6B6-D331-4CE2-9463-0083CE479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C085CB-4CFA-460F-A0DE-E139956BD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ECB390-FFC8-4215-A20E-46F73B09F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2CFDA9-7C62-41A6-B03F-0C502EFAF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1E037C-D88A-4B0C-8C2A-8679BEA0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83307A-1F0C-47F8-AE57-E1E85A8E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EAAEAE-D2C4-46E2-8948-4FEEF8EDE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6E7CF2-9885-43D8-AD78-60E8B4511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177076-0B64-4541-9E8D-3B5C81BBA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15EED1-3F0B-4663-9F8C-49998A94F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A36B-87A6-4470-854D-75F63198D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31BA-78CF-4D8A-A19D-5E1A7987F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42CD-D0B9-41D2-898F-53863FEEE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0214-F027-4049-9ABB-C0FB7554A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26F2-FC94-40AA-BA1A-B824711A7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5ACA-B3E3-49A3-A16E-8EC7C0714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81A8-03E1-4352-8C04-B4FBA66B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653F-033F-44B8-9E7D-4EC1B1496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2298-FA08-4A05-881D-8CD085D9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AE28-77ED-4BBE-92B8-2408AEA23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4772-E798-4F2B-83C9-813046225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BDBD-8ED4-4963-A305-8042E099C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167B3-5694-4F27-87D4-889C2FF32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B9383-81CF-4266-8CBC-97FA5DB39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3D73C-F1E8-409E-9606-871438AD0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DDB0F-FBE9-48F1-A9E0-9A2B14CA7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3C552-D5B7-4CFA-AC37-E56B8BF06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9132A-0497-45BF-ABFA-4BE132DB7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01BDA-515B-40A0-AA6E-80016FAB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ADE5D-7C85-4A96-81B5-D765839B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4E8B1-66C6-4A5E-A7C5-81C11FA3E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48685-9CCE-4A5F-BA32-92AF3FE14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2D1AD-204D-45A8-8727-54B282541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D941E-10BB-47E0-852E-CF8882DB1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E5C8C-B739-4DB1-BC8F-72F9948E1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A082E-2E3D-43A4-87E8-1BB2E961A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15BB8-EB6B-4BB5-801C-B60E9B4C8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F2C71-5A70-4FE1-B0D3-FD4FEC3C2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D3882-6152-44E1-820A-1A8F7FF58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BA829-EBA8-4E4B-831B-B4BB204DC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8E8D8-8B97-429C-AF13-A290596A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9E37F-2FE3-4B32-B309-E83841C9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AC1B7-9202-477E-B51C-E26BF7A6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1CB1F-488C-488F-A179-0C5F2D58E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0532D-FAE4-4DBD-972E-E8A17E916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7D0C0-CC79-4F0A-BB90-886794AD3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9D016-8EB6-440B-A79A-142A00674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B4A1D-C59E-4C01-BB6F-6A2262731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9D8FA-4333-4862-86DE-12F64D791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7189D-63BC-40D5-B258-A9CEFBA70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E5958-4AC0-4342-9512-F913F2462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D4043-7455-4232-A6E8-6D1A7F64D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5D8E5-4948-44D0-A90C-E9320DEA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22552-6C47-43CB-9B73-7FD30E8A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D879D-6101-44D7-B56C-7DD4E41F7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8D4EE-0D76-4EE7-AE84-697BB6B4B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6A463-1141-4966-A290-1D4084097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5B63A-F6F1-4603-976A-6611E6A97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DE54FC-5822-4FA5-B21C-D3692C5C9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105F2-4BDF-47B0-A22F-57970B915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F8AB4-F7DA-4170-BB90-4448E1DF2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F191F-D149-4874-8B08-FA7910E92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230B7-6836-4BF3-ACBC-650AC76B4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A4E8A-DBF9-43B6-B5A5-868469C2F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A788AC-AEF1-4A17-82DA-0E16B7851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5976CC-AA40-4EDA-833E-ECB241533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62C799-798D-4220-ACD6-0302A7325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985853-280F-42EE-90D2-7DCDF2EF2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C5B35-00E2-43B7-9E12-111811AA9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97D93-A430-44D3-B878-D589053DB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7AFFCE-7714-4939-A755-46E6C92E3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75B5CA-EAAA-487A-A238-568B08CAD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90E775-5725-4F21-ACB1-35FAEDDE0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5AC4DD-574C-49E1-9B8A-F1CDA0256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382754-F610-4B02-91EC-F0F6FC661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08FA96-ACA5-4077-B76F-BBC3B4E4D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9E4DAC-8888-48B5-B475-CDEC288E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D0CDAF-75A7-4E20-A1BA-B699992A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41759D-374C-4D3C-9C41-25D36E3E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A802CD-98BE-43D1-87FA-AD934F6FF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639065-3795-4530-A440-32391A849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2749D3-6E61-4603-8EF0-7CE0BE00E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5F646F-E7EE-485D-8354-5684A0B1E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0FC1AC-2600-46DF-87F8-3487EC1EC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EFE7DA-66BC-4DF4-BB63-DB4EF9BFB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C2C52-F045-46B8-A11B-ABF65C9A78D9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D4BAE-8C49-4205-9C30-F7113D10AC29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1CD7F-DAE5-40BF-BF3D-F51C6969F64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3" descr="C:\Documents and Settings\Marcelo.Raimo\Desktop\pps\tarjas\tarja-roxa.png"/>
          <p:cNvPicPr/>
          <p:nvPr/>
        </p:nvPicPr>
        <p:blipFill>
          <a:blip r:embed="rId4"/>
          <a:stretch/>
        </p:blipFill>
        <p:spPr>
          <a:xfrm>
            <a:off x="-57240" y="1533600"/>
            <a:ext cx="9313920" cy="142380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873a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a365d1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82A09-3AF7-4A2C-BCC4-A1BF3AEC5A2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FDE20-A0C8-4AAF-8830-C3C444CC99A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5DA70-11B6-49FA-89EE-4282A4666DC8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8C04F-52F8-4405-8194-6E043D315F51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9C868-3B46-45E7-A52B-701F2F6BB21D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9D379-C804-4DDA-9800-699385B86B91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EBF36-266D-4243-AF5C-B78E0E33DB8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4" descr="C:\Documents and Settings\Marcelo.Raimo\Desktop\pps\tarjas\barra-roxa.png"/>
          <p:cNvPicPr/>
          <p:nvPr/>
        </p:nvPicPr>
        <p:blipFill>
          <a:blip r:embed="rId1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57240" y="1533600"/>
            <a:ext cx="9313920" cy="1423800"/>
          </a:xfrm>
          <a:prstGeom prst="rect">
            <a:avLst/>
          </a:prstGeom>
          <a:ln w="0">
            <a:noFill/>
          </a:ln>
        </p:spPr>
      </p:pic>
      <p:sp>
        <p:nvSpPr>
          <p:cNvPr id="493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873ac0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tângulo 8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a365d1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aixaDeTexto 8"/>
          <p:cNvSpPr/>
          <p:nvPr/>
        </p:nvSpPr>
        <p:spPr>
          <a:xfrm>
            <a:off x="351000" y="1882800"/>
            <a:ext cx="69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Letras – Língua Portugue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3" descr="C:\Documents and Settings\Marcelo.Raimo\Desktop\pps\tarjas\tarja-roxa.png"/>
          <p:cNvPicPr/>
          <p:nvPr/>
        </p:nvPicPr>
        <p:blipFill>
          <a:blip r:embed="rId1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4" descr="C:\Documents and Settings\Marcelo.Raimo\Desktop\pps\tarjas\barra-roxa.png"/>
          <p:cNvPicPr/>
          <p:nvPr/>
        </p:nvPicPr>
        <p:blipFill>
          <a:blip r:embed="rId2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503" name="CaixaDeTexto 8"/>
          <p:cNvSpPr/>
          <p:nvPr/>
        </p:nvSpPr>
        <p:spPr>
          <a:xfrm>
            <a:off x="395280" y="3492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- Esqu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aixaDeTexto 15"/>
          <p:cNvSpPr/>
          <p:nvPr/>
        </p:nvSpPr>
        <p:spPr>
          <a:xfrm>
            <a:off x="965160" y="1341360"/>
            <a:ext cx="4327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Premissas básic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CaixaDeTexto 15"/>
          <p:cNvSpPr/>
          <p:nvPr/>
        </p:nvSpPr>
        <p:spPr>
          <a:xfrm>
            <a:off x="826920" y="1981080"/>
            <a:ext cx="792180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- Os sistemas existem dentro dos sistema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- Os sistemas são </a:t>
            </a: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abertos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 – um depende do outro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Ex: produção de camisetas (agricultura até o produto final transformado)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- As </a:t>
            </a: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funções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 de um sistema dependem da estrutura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eta para a direita 8"/>
          <p:cNvSpPr/>
          <p:nvPr/>
        </p:nvSpPr>
        <p:spPr>
          <a:xfrm>
            <a:off x="436680" y="1486080"/>
            <a:ext cx="488880" cy="242640"/>
          </a:xfrm>
          <a:prstGeom prst="rightArrow">
            <a:avLst>
              <a:gd name="adj1" fmla="val 50000"/>
              <a:gd name="adj2" fmla="val 50044"/>
            </a:avLst>
          </a:prstGeom>
          <a:solidFill>
            <a:srgbClr val="873a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Elipse 9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CaixaDeTexto 10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CaixaDeTexto 11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29:44Z</dcterms:created>
  <dc:creator>marcelo.raimo</dc:creator>
  <dc:description/>
  <dc:language>en-US</dc:language>
  <cp:lastModifiedBy>marcelo.raimo</cp:lastModifiedBy>
  <dcterms:modified xsi:type="dcterms:W3CDTF">2011-04-19T19:02:44Z</dcterms:modified>
  <cp:revision>3</cp:revision>
  <dc:subject/>
  <dc:title>Slide 1</dc:title>
</cp:coreProperties>
</file>