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150AD-1DF2-44B3-9FD3-BBD1D8E4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7B261-2F4D-4156-9E5A-C95E01A9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B6BF1-A53E-425E-ADDE-FD7BDA49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F6872-01D8-4BE9-9437-0D199208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82191-785E-41D2-B2CC-74EE9E78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AFE94-2FA7-4D62-92BD-CBCF8D99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8BE21-F732-45D3-8C4D-F8C637A8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A4B36-432C-4AC5-BF38-C6691A42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842D4-4F80-467D-A2D5-95ECA4FF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96756-821E-4C4A-98B1-325CDFB2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C5AE5-23F1-4D62-89A8-9A0C8AA1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AE7F2-19F6-4114-A2DD-38317FC5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D9C76-3F8E-4A68-9BC7-17FDD532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C4021-0989-4AD7-A238-F6A50BEE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114C7-6A78-4108-B112-F45E841A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74199-D1AE-4B38-8222-F0651E48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46893-D19F-4C1A-86EB-C28876D4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796A3-5868-4971-973B-2E8AB88D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EFF8E-898F-4D13-8A30-9C9ADAA0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08252-31FF-4F6F-9999-60F4B594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AFF5E-C77B-4BBA-BD44-6F089775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5054E-6297-4CE6-BF49-7012A8C6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D146E-D754-4F28-A7EF-45C4D715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B9CF0-2502-4F55-B178-44A2F1EF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A959B-AD2F-4332-9111-6E74C0CD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401FF-0BF3-4BD0-BC50-32F7FE98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0500E-8F0C-474A-9D2C-F4C7F0F4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9E9B6-A7BD-4F35-8E02-5A411087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38663-23D0-49BB-A948-44CFC69B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8FED7-AC9F-4A80-87B1-FEC7BA79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3227C-1701-42FD-B8FB-F3BF9E46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1CB51-5E98-4D88-9D6C-21C62BB1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87427-90F2-440C-843E-39198FC8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E48CD-BFB2-4B52-8094-1FB76D0F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22E47-15A0-4CF2-9EA3-49729918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37D64-1CF4-4FC5-A00B-35537B3E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ED6D3-5E6F-446E-BE96-CFADEEB5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B1D92-AF62-44F3-81D0-4D07284C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FC64D-532B-4047-835E-6F683FA7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217D5-D032-46B4-B288-F6954B3E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17618-E176-4546-9102-E35F3A88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910F3-D7DB-4C91-9F55-BB9AC66D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ECDE7-0AC7-40F6-AD64-AFB8E4CE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A9D15-0021-4767-9423-307D7842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0E512-D313-4E5A-84FB-292D1C12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0547-39FA-46C1-A07B-D9CCA046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2976-7A4C-4E91-A66B-5784E489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3903-B4FD-486D-A307-9D0518C8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72B5-85BF-46AF-BA4B-792CE08B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148C-CB74-4201-96D9-19F4EC4F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CB57-7F61-4647-9DAD-61FA42BB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AB32-90E0-42B4-B062-A1ECBE20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7FAD-ADD7-4610-B842-A60EDF99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A1D5-DD88-43A8-95DD-7EEEE7AC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E7F9-511D-463A-BA70-09137932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0D1B-3FD4-48E5-B0AC-245CF060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5E93-7C4E-4FB4-B4DD-19733A89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FC27-9FE4-4360-B27C-A1781E1F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3F72-82A2-4B42-A5B3-48C82AB1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469E-D7F0-43B1-BBE7-392EB5D8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5CEE-EB80-45E0-BA13-534A1AA2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5F38-6F6E-45D0-85D9-21D48067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2127-E366-4CF2-B33E-3CBE9BCC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AC13-A60D-4F78-B9DE-E9707BBC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6702-A575-48D9-AA6E-0847E0F2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17D7-CC61-4C42-810A-4C56B2BB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F011-D6E7-40F1-8F80-7B25DEDA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8146-0430-46E1-B9A1-49380ADF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375A-2721-4806-B268-E1D369AC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2F8B9-7A16-4AAA-9164-198F1D4F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B573B-5BEE-49D9-A057-1EE9FA03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44643-2785-47BB-B389-7FE9E757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43F3C-7DEC-4B08-85AB-B5D746CC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47F46-206D-442F-8E61-D7A7B68B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DDE5A-B1EC-4EF5-8255-BD38D00E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B2E84-6531-4B0C-BA98-17F295F4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F70F4-49FB-48FD-BB3F-EF9D92C5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D4C0D-1934-49F4-9C29-F8E0CD82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2A59D-56FD-4B28-AF6F-68E1FE8A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8A780-D97D-4057-867E-23F406CD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B2DE2-6285-41A7-920C-013B29A3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123B7-1750-4DE2-A3B6-335D9A18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D6191-2C72-4F0A-A092-307596C4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09E7A-1F32-46C6-8056-9025F40A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CC06C-4F78-4E7F-B8D4-A95EC7D5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463C8-5559-40D7-83B5-6F6D5A1A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AA6D5-99EF-458C-AC51-B6C29C89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92C08-78D3-4C45-A693-ECFA2942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4C67A-82A8-40D9-8192-CADBF738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A374A-AB7F-46B8-85B3-16F0E7D6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52973-DBD9-464E-AEB4-B1C4EB82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ABDD3-F321-409A-905A-BA0FC8ED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24DD3-966F-473C-B35A-C276B275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7CFE1-3672-4D81-B4ED-78B1E330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F8E70-63ED-4FC5-BE2B-B0041565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EB257-AA2E-410A-AE52-46F1622D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1AE3C-3E81-4B83-A046-C840F70E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96E5A-0EFD-474B-B46A-42A2470A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ABF6C-D29A-4850-A6D8-9F0985AC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45859-A687-42E7-8157-8EFE5085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3FDAF-B335-496F-85CA-335DB7E3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E0630-E0F1-4F1D-BE8B-7DAF4DC2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9CA1D-AF30-40F0-89F4-C7586CDD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615B4-214E-4617-9E66-5849C189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AAAE8-7631-47DC-AE41-A240BFA8D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50A95-56AD-4C2B-BF7A-9CB7B063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40549-1775-4DF1-AB66-9CD96460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568B5-7986-426B-A059-4AD956E5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5FE65-4841-42B2-A18F-573D5509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79173-AF4F-4922-B818-75496A98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5FC1C-11B5-4A8A-B60B-3D940054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FCA4D-9913-45D2-B2D2-5A5A629E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9280B-FD13-4D54-B5FC-71326D18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815BE-763A-4FC0-89EA-6BAF387F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A7407-C8E8-487E-952B-E849BE31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CDD9B-A6C4-4241-AB21-6F63E8FA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5D4F7-56A6-4053-819E-9047BD8D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CAFDE-A715-4542-84ED-502276DD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DE9B0-0C65-45CB-A2DC-9468FD0A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71E19-7DF7-4EA5-9D60-CF08F9F0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A0D7-A717-4AAD-9D87-D90D124F368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1F86-4688-470E-9FB1-91AB23A65DC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E7FD-1880-46CD-AC07-F68D800BF6D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roxa.png"/>
          <p:cNvPicPr/>
          <p:nvPr/>
        </p:nvPicPr>
        <p:blipFill>
          <a:blip r:embed="rId4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BC49-A907-4C5D-8201-BDBD8FE026E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A791-21A3-4D69-904B-CD3B3C21842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C693-74BA-4330-A5F1-D68AF8C88A8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4690-D1CF-4016-A86E-A03BB49951F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2C8E-78BC-43E7-8069-659A342A4A6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733E-4DEE-4A36-9503-6808037AFF9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9F59-5A5B-494E-8F72-62450C97FA7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C:\Documents and Settings\Marcelo.Raimo\Desktop\pps\tarjas\barra-roxa.png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82800"/>
            <a:ext cx="69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Letras – Língua Portugu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roxa.png"/>
          <p:cNvPicPr/>
          <p:nvPr/>
        </p:nvPicPr>
        <p:blipFill>
          <a:blip r:embed="rId1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C:\Documents and Settings\Marcelo.Raimo\Desktop\pps\tarjas\barra-roxa.png"/>
          <p:cNvPicPr/>
          <p:nvPr/>
        </p:nvPicPr>
        <p:blipFill>
          <a:blip r:embed="rId2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9:44Z</dcterms:created>
  <dc:creator>marcelo.raimo</dc:creator>
  <dc:description/>
  <dc:language>en-US</dc:language>
  <cp:lastModifiedBy>marcelo.raimo</cp:lastModifiedBy>
  <dcterms:modified xsi:type="dcterms:W3CDTF">2011-04-19T19:02:44Z</dcterms:modified>
  <cp:revision>3</cp:revision>
  <dc:subject/>
  <dc:title>Slide 1</dc:title>
</cp:coreProperties>
</file>