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C3932-B2E8-4E3E-93E9-319CFF50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CF6EF-B2E0-4C96-A00A-4311969D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EEAFF-714E-4D1F-B20A-C0646476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49EDD-3FA1-4073-A796-3B32DC18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4EF68-B29C-48C4-B997-753BFD24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EC539-634A-484D-901C-ADE5FC99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7A763-4A96-4805-96AB-716DB764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3B54B-F070-448D-9C0C-244E438FD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1BA5F-137D-4366-B674-BCB51723D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41730-63FF-40A2-9625-7EA6D48C9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5FB32-9ECF-41E2-9034-3476860A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4FA31-1293-4432-A7C6-44F26970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4E648-BC8A-4138-99F7-62D0FF7D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163DC-D929-42A2-9CF7-056D34C2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229E8-FB31-4B39-87A7-AA642DF3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D8157-66CF-4F21-8D77-25C0B2E8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75CAA-2F76-4D25-8504-886085B2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EC70A-A711-4CBC-AA30-2ABB6519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C9D13-470A-4EAB-AF59-7397D460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BEC57-7B21-4448-B47A-D42CA8F0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56C12-864D-4C1A-A4A6-1C45A7589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EBF39-1327-4183-868B-B10C868E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BE4A0-618A-45BD-B2C2-373B4BB8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7AC2E-2258-4999-8BBA-10F92CF0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10515-2161-49F9-BCCD-0F1AD7AD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D8BB8-321A-459A-A8CB-7792058D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6FB58-790B-4FC7-A5C0-17698778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4A23F-D558-4FB9-87EF-EF1B6C84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5E091-14AB-41B1-ABAF-A0EFE5A5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AC94D-7556-4751-B848-87072182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78C96-647B-4365-8A15-9E8C6EDA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671C1-8250-4CB4-9CDE-2A021C67D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B05FC-B96C-4565-86E3-AC99B400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AD0B4-708E-4F2E-9F39-715C629E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A612B-63D4-4FE7-B06B-437CF306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4FCC2-B759-473D-903E-C3D32B9D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36AC1-A857-403C-8AC0-F38F669B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EADBC-E259-4AB5-9B44-CBD6B2A4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7A37C-802D-4567-8A47-D5A49C59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084153-CBA1-4DB7-8A39-DFF87982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AD296-46F6-4819-BA21-53680EC7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05378C-17C5-4AB9-B3EB-D9BA5E4C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9B1810-5565-4115-82F4-6746866E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AE73B-13F7-439E-A178-EBBD0EA19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9E911-DA13-4E42-8A71-010679BE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2CAD-BB0B-4A95-945C-955E090C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871A-3619-4DC6-AB27-1EE519BC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F2E3-0065-446B-B80D-D86BD32C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FCCE-E766-4BEE-BB68-1CEC6761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8064-05BE-44FC-A164-28ECA52B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7A3A-D9C0-4542-9066-4336BD54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6752-3F33-48A2-B69B-ABA14467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0F96-09C5-4A68-B4BC-AE6063B2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F20F-511D-4A63-A382-0299BB1E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EBDE-C254-482C-BB89-6CD36A53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0CA2-745D-4ECE-BA8D-A188BE72E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6F0F-69D8-4F3C-9A08-F32C6744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F801-B21B-46AA-99D7-F8203708D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A374-4401-442F-9283-0BD2B764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0065-C82A-4664-B064-93D3E59C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AA5F-140F-4183-BDF9-6507B127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48A4-6722-4BEA-A885-CB695810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04E6-3C59-4BB7-8483-99A958EC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7FDF-DF46-48C6-B6E6-4D56CA10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F16F-E564-4DBA-A174-5A2C1060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170C-3E10-45AE-9E0E-303CEF42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3F58-2555-497B-AAD5-4E0408B1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733B-DB8E-4100-9F4A-99EBFB3BB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E578-3D05-412A-B2D1-FABEF840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59666-6C34-4CD0-9B4E-42B2FAD15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7AD0E-C3ED-45AA-8F9C-E7BEAC4E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F251B-EF64-4369-B0BD-69471F60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38E7E-5046-49EB-B5CF-1660559B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45424-01AD-4985-B5AB-5B1746CB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82308-CAC8-43B7-90A5-BB381B99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380DB-E1F7-4ECB-A8C7-95554F59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79E2B-CA5A-4C47-B64A-EAE22F23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AC01B-AFF6-403A-8D25-F5BAD8B0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934F0-5396-4A5F-A7E5-4CA4699D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6C55F-846C-49BC-97C9-84EEEFFE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23732-D80D-468B-B794-7B803882B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0841D-0F04-4C8F-BB48-1E5E0EA3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AC05A-4D66-469F-A8E7-3C086050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872AA-A578-473D-B76F-4A85F14F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28F28-E3E9-4AF5-8704-43A976F6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E5902-E29D-4BE1-A4B8-E64F1B43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FC6EA-CBE3-4380-A087-D451AC41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EAF1E-ED7A-437C-9343-B417E1E5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B6495-ADD2-4868-A9B4-541A7B42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4ECCD-22B3-4566-9FD5-DBD63B4F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A8212-9E03-4272-9DFE-F1CF76CE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17E5C-D159-41A4-8FDC-97BE902AD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B80D9-37CD-4FA3-B0FD-0A448AD5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A92C3-045C-4A1A-A4A7-14A77F2B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391DF-892B-4630-A944-92E0270C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36BED-16CC-44B1-99BF-D555C143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EF227-18E7-4879-BBFE-D8720A12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97308-C970-44EF-AB24-2027399C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21DB2-4DB4-4CA1-A62E-DF6AE012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0EC9C-7D58-48B7-ADAE-946B7BAA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8BD07-35F8-48FF-9F6E-DF899408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E104F-F4B5-4289-955E-2D3D1F5F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97569-FA14-445A-8215-475FB2F6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E545E-0087-46F7-94C4-D973FC36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E0D92-3F39-4634-A552-09C3BE35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64A8E-FB66-49BC-8F2B-F87343487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1EE3B-8478-433D-BB61-89EA049C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96488-13E5-485E-BD16-EE739C8E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7D7E2-37D9-4B23-86C9-2B2CBE4B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9FF1C-99B7-49A3-A892-25FAC3B3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59B35-F97C-47F0-828D-B0CE6E46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97D07-CCB0-4985-9DE0-05838956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2959A-0C98-4B2B-B9A4-CCC3CB36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A527C-701C-4826-BA87-7540E763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37669-C587-457D-87E2-242E25F1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636DD-E7E6-4A45-B5C3-6F5DEF9E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0C245-D60F-4350-8D35-B5198E2F5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23883-7F9A-4690-8F32-FF613F879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B5BBD-C7C4-4B48-B1F7-1F2527A1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3ED48-E91A-45F7-BE09-AEAB8028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994C-817D-482B-AAD9-87BB0C70ACE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E23A-70B4-415F-9844-131F8B581F8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A754-661A-43F0-A7CF-DB834E89203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roxa.png"/>
          <p:cNvPicPr/>
          <p:nvPr/>
        </p:nvPicPr>
        <p:blipFill>
          <a:blip r:embed="rId4"/>
          <a:stretch/>
        </p:blipFill>
        <p:spPr>
          <a:xfrm>
            <a:off x="-57240" y="1533600"/>
            <a:ext cx="9313920" cy="14238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873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a365d1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8E4A-E378-4B1D-85EF-0EDD68AC939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5A5C-8812-46AE-94CE-A8254523BE5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0E9C-36DE-4BA9-BD92-35F787AF013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35D2-B5B4-43E7-9020-FD1D7A6C445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DA0F-BFDC-49C6-AC0C-059A23F892F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EE98-2F36-4FD1-BD55-D47BF725E2F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1908-B653-468F-B57B-6D4C5BABA9F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4" descr="C:\Documents and Settings\Marcelo.Raimo\Desktop\pps\tarjas\barra-roxa.png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57240" y="1533600"/>
            <a:ext cx="9313920" cy="1423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873ac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a365d1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82800"/>
            <a:ext cx="69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Letras – Língua Portugu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tarja-roxa.png"/>
          <p:cNvPicPr/>
          <p:nvPr/>
        </p:nvPicPr>
        <p:blipFill>
          <a:blip r:embed="rId1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C:\Documents and Settings\Marcelo.Raimo\Desktop\pps\tarjas\barra-roxa.png"/>
          <p:cNvPicPr/>
          <p:nvPr/>
        </p:nvPicPr>
        <p:blipFill>
          <a:blip r:embed="rId2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26920" y="1981080"/>
            <a:ext cx="7921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8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873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9:44Z</dcterms:created>
  <dc:creator>marcelo.raimo</dc:creator>
  <dc:description/>
  <dc:language>en-US</dc:language>
  <cp:lastModifiedBy>marcelo.raimo</cp:lastModifiedBy>
  <dcterms:modified xsi:type="dcterms:W3CDTF">2011-04-19T19:02:44Z</dcterms:modified>
  <cp:revision>3</cp:revision>
  <dc:subject/>
  <dc:title>Slide 1</dc:title>
</cp:coreProperties>
</file>