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B7B50-6226-448C-B386-BC2797B2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B96E9-7AAF-422A-A5DC-0CB12E12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DC198-5936-4A48-9D8C-35113F3A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87A3D-53C9-4540-B64D-2321B0FB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1D80A-2D28-4B8C-BC5E-72B1A040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19A6F-83D0-4D5F-9159-DEFA5652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B238D-8B13-403F-8624-979920C4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020AD-0743-4672-B4B3-FF45C7E20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9D000-887E-4209-8416-EBB4CC37F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B4481-031F-41C2-A0ED-5348136D7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39497-5506-4089-8D32-4797AA7D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55AFE-1568-4164-BB17-7CECFA90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9EA54-DBC6-4DD8-94EF-C4643C8B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6B95E-F9D0-45A7-94B8-4474095D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63599-165A-4CD4-8729-5B2A0842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3B049-8B1E-45E9-99BB-1C59ACDB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28B47-8150-4D8D-A237-F47BBB82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FF693-059B-45CF-B6C2-E4FFAF44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3169B-C174-472C-8705-A87016F4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BB2BB-A7C7-47AB-8983-1D50AC8E0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8C611-EC73-4978-A9EE-9AB4A5590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67C63-38FB-4709-89F3-BB38EAA9F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0C95E5-C87C-4607-9FCF-E5105BDB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86AD8A-FFA4-4164-993F-77673D07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0AA992-1C46-476D-AA0A-940D2807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477454-25B4-49B8-A1B2-79C871C5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084C91-04DE-4FBA-9744-E45A3700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14389D-D243-4DE7-AAB2-23BF311D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F6BD6-A557-4FB0-AECA-9357899B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0D2EAF-6963-4753-BC7D-206EEB20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41D6E-9A77-496A-8D1B-4612442C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A5D600-3C10-4A3D-AF2A-81E3612F3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34FA4C-1DBA-4A94-AB5E-BEC509251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A208BC-EE80-42C5-9F94-3DFDF4D93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A30353-7358-4726-8176-B24730D2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254F07-5FB1-42E1-BC4B-E7365926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F8F741-C903-4FC5-A2AF-CC2FCDDC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8330CA-68E5-4CF1-8224-D4F11090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5A23AD-9D08-4213-B533-942307AD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2ACDFF-A64C-4E10-A5D8-A7EEF65C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66D6EB-9919-40CE-B396-D1F7AAFC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444E22-FCBA-4543-8566-41923A46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CC3D01-6248-4FC2-8D57-51D45C80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87AF04-1326-47CA-82CA-DCF975858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ABBA52-E15C-423E-80FD-ACA39237F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4E8F-F2FE-49AA-9615-0995707DD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6F02-AB05-460F-A1E2-EE35C411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DB26-C72C-4926-84E1-11CFB7B4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18EA-00B7-4B67-AC75-1CD1B45E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D80F-9CC4-49CD-AA4F-46F75549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45D0-1E33-4D27-8C46-B69A3650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D54B-55E9-4411-86C2-511CEB89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2563-6552-49A8-8F1C-F39FF34C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1E2B-ACD3-4FF9-8F54-F7167F2F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E1E7-0682-497A-A6DE-BC48416E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2E21-258F-40F1-B855-A890CF814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CC83-D9A4-4A61-A2DB-E4B45C4D6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808F-FF37-49A7-AA77-86C8AA99C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7E180-CBA2-4AE8-8E1A-013E42E2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4A4F-220F-487C-981A-29683D42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625D-1604-44A4-B0C7-11A01DF0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186E-B709-47DF-82D7-95F41484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255B-0B89-4045-BA60-689AD86B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E69F-CF55-4758-9046-F51FCB64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6650-EC66-4F44-B166-B3D0F24E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975FC-1393-4DC9-95CE-86E722FD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35EB-D404-4FCB-ACFC-02AD5654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EAD4-CE13-4528-952C-777FBBDAA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0F10-4F08-46B5-9C81-B54B51843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46D0A-60D4-431E-8E20-AD5FC6D2E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3AEAF-EF69-4E98-8B3E-1D6916EA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20024-EE33-4960-8056-49DD9F9D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0DC53-2BBF-4F0C-9D9C-27D8CF18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80493-6E35-4F02-99A9-DA1C9D7F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67481-BEDC-4197-8877-80936F74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340AC-2233-4C74-980E-6ACEDEFB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0831E-917C-451E-ACA8-1C22E458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5BB56-709A-4D5E-A942-F35D5E3A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FB427-D0AB-4489-884A-BA9F56B3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D9BD2-FF80-44EF-B2AC-F2182F6DC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0321D-D12D-4DDD-BE86-C89B6CC11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915A3-0CFE-4BE9-88D5-74276C850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82F56-6700-4568-9320-67CA3DB2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A61A4-F557-408B-BBEB-C3047C77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24827-6428-4C08-B781-6E8C3CB1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198B3-A2D5-45BE-8986-048A1B8E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4863D-4209-41CC-8355-B9F2728D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3384E-BE3D-42E8-9212-B5E45AF0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D5BAB-58BE-4DE0-AA6F-C0A244B6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EFD09-5823-4D2E-9158-4C823431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D93D8-EA4E-4C61-978F-EE1CE63C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55B59-AAF3-45EB-B077-EB483C663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4A9B6-DD46-4C78-8157-B0A579BB9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8447E-AB7E-46DF-9B90-7DAA7764B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139E6-103C-4F55-8F30-F1AA6B3F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7A4FA-29F3-4111-BA83-693D9692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4B1B4-726D-401C-BF4B-543D3249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FC99C-E19F-4565-9A13-D9C1DE35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F7EAE-D18A-4EC4-9941-DD910BC7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2A7EB-1D95-4883-BD3F-BBBD43B2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53AF4-E9A3-4E3F-A3F3-1BB67BA9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19377-D481-4833-AF2C-E36A8DD5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045DB-E7D4-4324-8494-5235D7AB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6A03A-617A-44B1-B056-81AAF2759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664CE-09F8-4B10-9D99-D53F5B749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B7B5B-5C7A-4D2B-A68F-2D9E41DA2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C3698-F641-468B-9C7E-44203B5D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588D1-568D-4FE3-AFFD-48B8AD43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3490A-6B16-479B-9A13-3AE20677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77D5E-0FAC-4AE4-9DC3-1EC70659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B37FF-C1F1-4279-B9CA-49B103CE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8FE9F-91AE-4BF9-A5B7-22EE465E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BD711-5897-460A-8B6A-AF45F27C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568FA-7B1E-4B38-B92B-C6157A08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9BF98-3C0E-46B8-93D7-929ED085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D04D5-9999-499D-8B37-FCEB32C76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CDF7B-C26A-458A-B0B7-F409DB51C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FA444-42FE-4925-840F-1A8985631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6EB19-BC0C-4F16-BBAB-D05209CD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0A5BC-D2EE-448D-B104-CE8591CC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3570-287B-468F-B4B1-A1F0DB58564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F901-069B-4DE5-89C4-C6EF07B9E0A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ACCD-7E99-4A20-8F5B-27235783758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C:\Documents and Settings\Marcelo.Raimo\Desktop\pps\tarjas\tarja-marrom.png"/>
          <p:cNvPicPr/>
          <p:nvPr/>
        </p:nvPicPr>
        <p:blipFill>
          <a:blip r:embed="rId4"/>
          <a:stretch/>
        </p:blipFill>
        <p:spPr>
          <a:xfrm>
            <a:off x="-11160" y="1539720"/>
            <a:ext cx="9144000" cy="139572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7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74807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4580-DB0D-487A-999E-7203F1FD6E7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7058-B23B-48E0-8D73-79C0E0C924E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0B37-EDDA-459D-8CDD-CDBDF42C142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1670-0C81-4BC6-BBB7-A128394785F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86F5-A169-47AE-8025-DD68942A5F7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1523-1DD9-4BD0-AE2A-B90D9A85BDB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02EF-7007-46A2-914D-FDD1433291E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3" descr="C:\Documents and Settings\Marcelo.Raimo\Desktop\pps\tarjas\barra-marrom.png"/>
          <p:cNvPicPr/>
          <p:nvPr/>
        </p:nvPicPr>
        <p:blipFill>
          <a:blip r:embed="rId1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1160" y="1539720"/>
            <a:ext cx="9144000" cy="139572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d0d0d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7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74807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51000" y="182736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Logís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C:\Documents and Settings\Marcelo.Raimo\Desktop\pps\tarjas\tarja-marrom.png"/>
          <p:cNvPicPr/>
          <p:nvPr/>
        </p:nvPicPr>
        <p:blipFill>
          <a:blip r:embed="rId1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C:\Documents and Settings\Marcelo.Raimo\Desktop\pps\tarjas\barra-marrom.png"/>
          <p:cNvPicPr/>
          <p:nvPr/>
        </p:nvPicPr>
        <p:blipFill>
          <a:blip r:embed="rId2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Objetivos da A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468360" y="1197000"/>
            <a:ext cx="79214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Teoria Geral dos Sist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Sistemas de Informação baseado em compu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Internet, extranet e intra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A Empresa como Sistema Aber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10253f"/>
                </a:solidFill>
                <a:latin typeface="Calibri"/>
              </a:rPr>
              <a:t>- Software</a:t>
            </a: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 e </a:t>
            </a:r>
            <a:r>
              <a:rPr b="0" i="1" lang="pt-BR" sz="2800" spc="-1" strike="noStrike">
                <a:solidFill>
                  <a:srgbClr val="10253f"/>
                </a:solidFill>
                <a:latin typeface="Calibri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Telecomunicaçõ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Rede de Compu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Elipse 7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CaixaDeTexto 8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CaixaDeTexto 9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0:44Z</dcterms:created>
  <dc:creator>marcelo.raimo</dc:creator>
  <dc:description/>
  <dc:language>en-US</dc:language>
  <cp:lastModifiedBy>marcelo.raimo</cp:lastModifiedBy>
  <dcterms:modified xsi:type="dcterms:W3CDTF">2011-04-19T19:03:35Z</dcterms:modified>
  <cp:revision>4</cp:revision>
  <dc:subject/>
  <dc:title>Slide 1</dc:title>
</cp:coreProperties>
</file>