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40EAC-A8D4-400D-B3A7-2E98E317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72576-5BBE-4F01-BCB7-1B549FD1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9B5D6-5377-4B2C-8A5A-CE088B87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4114F-A4C1-4EBD-B1A7-AD8F75E4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BCBE9-D9E5-47CE-B937-42273BD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79D74-2817-448F-9A97-7BCA6A1A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CEA27-0D2C-4431-A612-38E8C3CC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88D7C-71B8-4D9A-A419-6ED831DF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05BDA-80C1-4EEC-AA14-1EC765DE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AB693-561F-493A-B0D4-DAF61F4C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34317-84DC-4710-ABD8-F7D3C383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F4607-2841-4FB0-A05F-3B0A7EDC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4F424-E22F-4AB1-8A4E-43A928C6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7A7D-9BC0-4487-BEE9-6469E3F7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39C29-5F95-4B19-9565-3EF78AD9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17363-7BA7-40AF-9E5E-0764D79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63708-85D7-411D-8135-89F47C7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7E1C4-38C5-4292-95FB-548D4B67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C0019-32CE-4017-BC61-8C2395EC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12662-1FCD-4A98-8B84-451D56B7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2ABC2-A566-4483-A12B-10488B83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290C3-27BA-4BF3-A19D-31ACD90E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82A0E-6006-4471-8F32-099D96BF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EA756-0A4A-4DAF-99BF-7FD76C24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F0A43-338B-437A-8B27-654C921C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65152-3113-4A37-8372-0536EC8C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660CD-79B7-4D5B-B3B7-90881678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82EA4-DF37-4B29-B48C-EEC25580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CE6F2-7C66-408A-B36C-596BDD3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AEA87-2D4C-49F8-808A-12E0507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E5922-9172-4CE8-855E-E4DEFBA5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EDFEA-A9D7-4CD6-9FA1-8275E518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5671E-9C63-409C-9CF2-1139A120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CEA5D-7ABE-496A-A23E-CAA8979E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0A672-E718-46FE-AE98-F8C053F3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A9123-BEC6-4167-8A15-3EFC5C0A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7AC2E-B646-4794-BAAD-0978FAFB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5C0E5-36F0-40A7-B108-4F776759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5ECA6-49A1-44FC-A515-15FE7A9E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BCC56-B8D3-4B8E-A9CB-E4D58416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459EE-783F-4E30-B393-27D6B532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31764-AF41-416F-8B7C-C264A4EC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7077F-F0EB-49B3-BA8F-386B545A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331C9-5D7C-4FFC-927E-37996F87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36E9C-7CD4-4CC7-98D4-B91EE917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AC6-A3FB-47DE-9CC5-D981F65C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B7E-83FC-4D0B-8394-8DF1EF88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918-25A2-4C27-946D-C90ADA54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C05-3A7B-4BB5-A5E9-426DFF93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112-244C-4256-8BD7-E7FCE3BB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5E7-5DE2-41B3-A3C4-B0ACDE90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5A1-ED6F-407F-BD1E-71E310F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434-0DE8-48F2-844A-C3344570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C4D-2AF1-420C-9810-F7238309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683-281A-4E3C-BF1B-6B124241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852-2C1E-4406-8AFE-8B73E7C7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2918-7E15-4881-BAA9-02A62151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F5E4-D529-481B-B1E4-CD51A2BB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1687-90DF-463D-84D5-09B26CF6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4E78-5363-414D-829E-7D82C36A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412F-4393-4557-8C6F-EA3FBF47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A234-A20A-4313-A065-D97B58B5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7FD8-EE58-4E41-B9EA-1D0E69A1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CC22-764F-4D0E-B701-7F462EC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4530-E3FC-4962-B97E-76A1086C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D311-E8AA-4115-A428-6757210A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32C8-17DC-46F8-84B2-7D4CD6BB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67BC-5F1D-49E5-A947-19AAF4DE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6DE2-5D97-4A0F-91B4-47F4BB18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52097-835A-47A8-80FB-A77559E9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24CA-56CB-45AB-BD7E-0B0AF85D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820A-1454-4059-AC4B-C11DA4F9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F9C1F-6516-4ADD-B0F6-87821267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32EE-553B-4D6F-8E4B-CFACD876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1193-5BDB-4DA7-B299-5FD1EE03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0646-A77E-4F8C-A7EF-D54602BB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53B6F-D841-4C27-BDF5-1E883F61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3F25-3118-40BC-8658-10E2BCE3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2254-3779-4DBC-AF2D-E20B969B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9B863-B6BC-45F3-ABB5-9486B853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79AD-3B00-45AD-8AD5-0206C823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761F-3F8A-4003-A566-A0A57256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87835-FB96-4222-831E-F895D5E9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0AD7-1854-4E1A-A6DE-9C05FBD7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8CD7B-D38B-45B8-8E1E-EC85408F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6CAC4-1AB7-4172-92DA-409A5819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6819A-5AF3-4F6A-9E91-8B03B862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52399-6A1A-4711-AED2-F654D538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EF8C-86EB-49B3-836F-F2BC637A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71E7-04C8-461E-995E-4A63EDA9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53849-258B-4141-A20B-6B707892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98D4-5AC2-4283-A522-ABE6FFD9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5795D-EEEC-4AF9-A14C-F8B49229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EB8F9-0062-4814-B945-A4FF46F3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01C11-74DE-4395-8D17-C52DB1FF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28691-A5B5-4401-8F07-A6DAFF6A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A27D-AAFD-4F00-A2C2-379EE6D8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D0886-7E33-4717-92DA-1C52A85D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A6536-8D91-49CD-B948-96F109D2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A337-5728-4E60-B23C-D50FC2FF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938C7-8717-41E3-B635-B174FD40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E7CC2-8CF3-4B91-B97B-5E51F36C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E0DBB-E4E8-4B76-AE45-77F1E342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27469-4018-497A-95D8-EB37DBCB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53EAB-77A3-4CB1-8F44-B0E127C9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8AD16-268E-4BF2-851D-4664B6EE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B79BB-8B36-4D76-9577-D7803D10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AC7A7-C97E-451B-A8A5-00FFB109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3DEF9-BEB5-4B5F-BB65-DE8FC482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4F052-7822-4AE6-AB33-0B74E327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8BE5C-D766-4AA6-831B-023C4A76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11F2A-3FDB-451C-8BF1-0D61B91D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FE575-B60A-4385-8CD2-28D1E7E9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BA160-B6E7-4C3D-A1D6-06FF937E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CA586-5B83-4FDF-A62B-B552EE85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06561-6EBB-4067-A4E4-914CA588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BF064-652D-4C59-9FDE-D1835E70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080B7-96FD-46C4-AD20-2A3922D4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A060A-8E75-45EF-8FE5-BBBBA54D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FEE58-8851-44CB-A386-150A87C4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32CD-5F2F-4987-AF0C-5D8749E045A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FF0C-53D0-479B-9973-C8D48F423FA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7EC3-9EC0-4884-AA17-B6E933C6531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marrom.png"/>
          <p:cNvPicPr/>
          <p:nvPr/>
        </p:nvPicPr>
        <p:blipFill>
          <a:blip r:embed="rId4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F154-5B2F-4F8F-909C-4F12DB2FA0F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062A-A3CF-4736-9DF5-F037DC4BF39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BB4D-7982-4E54-A30B-3D517DDA7E9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C356-AD88-4D83-8895-7AD3277D147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289F-70F2-4D62-AE97-E506DD3ED2F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2902-0E13-40B9-AB73-2B1FF0ECD3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barra-marrom.png"/>
          <p:cNvPicPr/>
          <p:nvPr/>
        </p:nvPicPr>
        <p:blipFill>
          <a:blip r:embed="rId3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342E-0ADF-44C1-82F9-B234E4523DC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marrom.png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marrom.png"/>
          <p:cNvPicPr/>
          <p:nvPr/>
        </p:nvPicPr>
        <p:blipFill>
          <a:blip r:embed="rId2"/>
          <a:stretch/>
        </p:blipFill>
        <p:spPr>
          <a:xfrm>
            <a:off x="-11160" y="1539720"/>
            <a:ext cx="9144000" cy="139572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d0d0d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7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74807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2736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og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C:\Documents and Settings\Marcelo.Raimo\Desktop\pps\tarjas\tarja-marrom.png"/>
          <p:cNvPicPr/>
          <p:nvPr/>
        </p:nvPicPr>
        <p:blipFill>
          <a:blip r:embed="rId1"/>
          <a:stretch/>
        </p:blipFill>
        <p:spPr>
          <a:xfrm>
            <a:off x="-128520" y="6354720"/>
            <a:ext cx="9312120" cy="1424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C:\Documents and Settings\Marcelo.Raimo\Desktop\pps\tarjas\barra-marrom.png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468360" y="1197000"/>
            <a:ext cx="7921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8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Elipse 7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8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0:44Z</dcterms:created>
  <dc:creator>marcelo.raimo</dc:creator>
  <dc:description/>
  <dc:language>en-US</dc:language>
  <cp:lastModifiedBy>marcelo.raimo</cp:lastModifiedBy>
  <dcterms:modified xsi:type="dcterms:W3CDTF">2011-04-19T19:03:35Z</dcterms:modified>
  <cp:revision>4</cp:revision>
  <dc:subject/>
  <dc:title>Slide 1</dc:title>
</cp:coreProperties>
</file>