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C68FEF-2772-455E-B070-99F233CF6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9B40FA-FAAE-4889-8ACB-85F310E7B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0AA7CC-4940-46CB-B07B-1101534D4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31E1C-1E88-4E1E-A24D-B7AB17C8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BE0BB-8018-4CC9-9A01-E1468AD9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2A95E-05C1-4124-B994-37658A09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DADB1-5120-4015-BAD2-DC9FE54DA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C7FA4-3333-4A36-9943-EA83B9475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56EAA0-275F-44F1-8369-4AAEC2961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E3E434-5B67-4685-8CA0-623DCB076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162612-B1FC-4A03-8CB0-1C8CFCD33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4CAA1D-5CB3-4D41-A2E9-1F18C0602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C669DA-582E-4AD9-A9BC-F46C2606B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9F13B0-3DB9-45F6-85B7-1DD7A4C9C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F8625A-3703-4B9F-886E-E319C42BD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B2E817-8972-4BF3-B1E6-F215D97A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88A7E4-771E-4C49-9168-75EA9773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1A36D7-CD0B-42CE-9F8B-AB7BEC56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972697-ED32-4E3F-B8B4-F655BE76E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45C135-1115-403B-B313-C089E8DDC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831CF2-8720-4D17-B88C-4C9E2944A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8E7A79-3B83-4DD3-B756-FD827E80A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DB77FE-E72B-4BC7-918F-4EF37863F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4CEF79-572F-4A6A-B809-B0D1DAF69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5D11CB-C6EC-4E3F-A125-9C0349FC5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3C5218-C1E6-450F-9396-28907DDD6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F5CDAA-0EF4-49A7-8776-CF6DB7620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3CC214-3D9C-4205-A51B-F904A1B8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D6F456-6AAB-4901-9CC0-BABF4466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BA8FC6-B089-4861-B2A3-7DE463FE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5A0BEE-EA5D-42C2-B8F5-0DC0A704C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206DF0-3C54-422A-AB7A-343DD26DC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AC8435-DE08-4F8C-A92D-F3FB3DE9A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2A4B8F-7359-4557-AD8C-972BBD354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D0A909-9BD9-4587-91AC-51FFF50A8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31EBC6-AFDD-4FD3-B685-B9F723EE9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54852C-908A-4A35-9F33-D344AED79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D33D66-4212-4FC6-BC90-88905F62E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6B1F74-16D4-4FCD-B8B7-AC8FE877D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65F665-4812-458A-A068-A02A82E2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6ECE7E-8A6B-4086-BF78-AF5500DF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DBD54C-8BD0-47DD-A3D0-8BCB3944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B9D7CB-1A2F-4D8E-A7A4-F02B85FF5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4887E4-A71C-4ED9-9087-8D9D5DE93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329E36-5856-47E6-A661-74A1F0286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1937-1BBC-41D6-AFAA-939F32F60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4634-476C-4F3E-942B-53AE656F0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C3F0-008B-4339-8549-F1C345F93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239A-D147-4654-B0A6-AAC96EF0E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437E-38D0-4664-99CD-17D5298BC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697C-4629-4250-A25A-3D7D2FE90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304D-BB5B-4225-8BE5-06CF40A6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DDB3-6FDF-490C-A443-D5157548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2D7F-860E-4FC0-8F5F-38C87225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D6DE-C603-43AA-A205-EF61E1763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A08E-E203-4DE4-BCAE-829776E3E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6D9F-814A-4D6E-9E6E-C9048A938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08837-ACD4-480C-BFAD-1B3F159AB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F85C9-02F0-4833-89A7-30BD0DE8C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4B2A9-AE25-4880-A6C3-C108569D4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65815-4A26-4C0B-B046-83BFB6A3D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C5637-63EE-4CB9-952E-1CA3D3869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F9E52-C37A-4660-923E-D9D32B75F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BF04C-1C22-4F7B-8658-2072AC21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24AA1-9445-4C0C-8DB1-C1522617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B0035-CCCE-4057-AD82-91EA7586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C4FFC-274E-47B6-889D-768D031EF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EE5EC-71AC-4DF7-9399-D1E233542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E0FDF-DA87-4D50-9CA8-1FDD93ED7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15AB4-A40C-418C-A294-1062801EA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6142A-48C9-47CF-8D08-62C47C43B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495F9-FC84-435E-90CE-A49AEEE7B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662EE-9429-42AE-9CA1-28CB8E695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2F9F1-252E-49D4-97CD-2D85CC64F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84B72-F99A-4A5E-B137-8357A7D06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941C5-90D4-4244-A662-49637F9F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57F0E-C27C-48BA-BB66-8A2FC797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C9E42-5696-4089-99B7-31C0D68A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E1892-1C23-463E-9476-A4A015236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A6381-2199-4A2F-B563-34153A248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AA72A-EC73-4EFE-A730-40378BF7B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F6F59-54E4-4AA3-8042-AE6B33B54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C0108-9E48-4B70-9EAC-111A584F6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395CF-09EB-498B-9D0C-47403609D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456DC-A52D-4D69-8E2B-2846FE52C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7A316-2BB2-423E-A423-892279153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46960-6D88-4B0F-B654-6373C2843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8DC93-A052-42DC-8E55-83CE8B98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885BE-2FB9-42A2-A4F3-D62C991B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22F96-46EB-427D-A660-74238DFF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A1CB1-536D-468B-A0AB-6DB1824FB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ECB1D-73D4-452F-B300-01515BD97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D8A90-8672-4DE6-9ADE-E27BD1ED6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628A5-F6EB-4A16-9BD4-CD2C2CAEF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CF81B-1BAA-4A40-97D0-3ECF5F5D2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9646E-4C33-45AF-8981-36D533E5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B322E-3C2C-450F-9678-3513DC333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392AC-0F77-4844-B314-0323E75A6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B75B5-6CBD-472A-88E6-07E06AD0F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3B9CF-565B-4AFE-B92B-0CF2F6A3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D4572-F05D-48E5-8DC4-FAD5880E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1CB14-8855-4FBF-B8DB-827B4F1A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A54E2-DB87-4869-AD59-DFB88D196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1A639-C990-48E8-9475-F93F015AF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3B5C4-77B0-4A83-9D63-37D107AE6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F57AD-1812-4CBF-A879-B7178D180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38916B-2F21-4080-B6A2-BEE9FA3D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4F563-FEA8-4A21-A621-0A55866E0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8C55CC-84BC-4727-A481-F9CD590A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4E944-0043-462F-AA43-9283AE501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5234A-FD7C-4226-AB43-5183985B8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CE39A-F3E7-4C38-9F03-B27213EC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171B8-969B-487E-AFF0-63E3DBAE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7C8ED-FE14-4E5F-8924-A61B2739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E19FF-6103-4DDD-A194-F7A1B4B72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45999-99D2-4000-ADDB-05A43DCDB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3AF85-38C1-4BC0-88E5-26FBF04AC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CD5A9C-69F6-49F9-81C0-8A6E0D548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2E9B77-166D-44B4-AABF-A90DF4EFF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08317-7052-4EA6-935C-0CA32973D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BD742-C530-4C2A-B866-93BC47FE1FE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87E3C-3564-44C9-B5D4-D34C762F619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C3C59-1742-498A-829E-AFCF055A923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2" descr="C:\Documents and Settings\Marcelo.Raimo\Desktop\pps\tarjas\tarja-laranja.png"/>
          <p:cNvPicPr/>
          <p:nvPr/>
        </p:nvPicPr>
        <p:blipFill>
          <a:blip r:embed="rId4"/>
          <a:stretch/>
        </p:blipFill>
        <p:spPr>
          <a:xfrm>
            <a:off x="-138240" y="1484280"/>
            <a:ext cx="9426600" cy="144000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8a1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7923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C79EA-6048-4131-9558-B6E2FE923F3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B6CBD-D2C7-47EB-9B8E-6D011F64E75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95C15-A7A0-4FCE-896F-FCBBC1A7226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4AD12-5664-4A6B-A9FF-FA0B70CFCA9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64964-AEC6-4887-AE68-0A8DDCBDB46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E8E31-E668-4F87-927E-278F2440423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47776-0948-4DA7-A405-5F3DB15B9D1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2" descr="C:\Documents and Settings\Marcelo.Raimo\Desktop\pps\tarjas\tarja-laranja.png"/>
          <p:cNvPicPr/>
          <p:nvPr/>
        </p:nvPicPr>
        <p:blipFill>
          <a:blip r:embed="rId1"/>
          <a:stretch/>
        </p:blipFill>
        <p:spPr>
          <a:xfrm>
            <a:off x="-138240" y="1484280"/>
            <a:ext cx="9426600" cy="1440000"/>
          </a:xfrm>
          <a:prstGeom prst="rect">
            <a:avLst/>
          </a:prstGeom>
          <a:ln w="0">
            <a:noFill/>
          </a:ln>
        </p:spPr>
      </p:pic>
      <p:sp>
        <p:nvSpPr>
          <p:cNvPr id="492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tângulo 12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8a1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tângulo 14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7923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CaixaDeTexto 8"/>
          <p:cNvSpPr/>
          <p:nvPr/>
        </p:nvSpPr>
        <p:spPr>
          <a:xfrm>
            <a:off x="395280" y="1849320"/>
            <a:ext cx="5545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Calibri"/>
              </a:rPr>
              <a:t>Teologi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3" descr="C:\Documents and Settings\Marcelo.Raimo\Desktop\pps\tarjas\barra-LARANJA.png"/>
          <p:cNvPicPr/>
          <p:nvPr/>
        </p:nvPicPr>
        <p:blipFill>
          <a:blip r:embed="rId2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98" name="Elipse 17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8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9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2" descr="C:\Documents and Settings\Marcelo.Raimo\Desktop\pps\tarjas\tarja-laranja.png"/>
          <p:cNvPicPr/>
          <p:nvPr/>
        </p:nvPicPr>
        <p:blipFill>
          <a:blip r:embed="rId1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3" descr="C:\Documents and Settings\Marcelo.Raimo\Desktop\pps\tarjas\barra-LARANJA.png"/>
          <p:cNvPicPr/>
          <p:nvPr/>
        </p:nvPicPr>
        <p:blipFill>
          <a:blip r:embed="rId2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503" name="CaixaDeTexto 8"/>
          <p:cNvSpPr/>
          <p:nvPr/>
        </p:nvSpPr>
        <p:spPr>
          <a:xfrm>
            <a:off x="395280" y="34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Esqu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5"/>
          <p:cNvSpPr/>
          <p:nvPr/>
        </p:nvSpPr>
        <p:spPr>
          <a:xfrm>
            <a:off x="965160" y="1341360"/>
            <a:ext cx="432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Premissas bás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ixaDeTexto 15"/>
          <p:cNvSpPr/>
          <p:nvPr/>
        </p:nvSpPr>
        <p:spPr>
          <a:xfrm>
            <a:off x="826920" y="1981080"/>
            <a:ext cx="79218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existem dentro dos sistem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são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aberto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– um depende do out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Ex: produção de camisetas (agricultura até o produto final transformad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As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funçõe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de um sistema dependem da estrutu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eta para a direita 9"/>
          <p:cNvSpPr/>
          <p:nvPr/>
        </p:nvSpPr>
        <p:spPr>
          <a:xfrm>
            <a:off x="436680" y="1486080"/>
            <a:ext cx="488880" cy="242640"/>
          </a:xfrm>
          <a:prstGeom prst="rightArrow">
            <a:avLst>
              <a:gd name="adj1" fmla="val 50000"/>
              <a:gd name="adj2" fmla="val 50044"/>
            </a:avLst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Elipse 10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11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ixaDeTexto 12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19:15Z</dcterms:created>
  <dc:creator>marcelo.raimo</dc:creator>
  <dc:description/>
  <dc:language>en-US</dc:language>
  <cp:lastModifiedBy>marcelo.raimo</cp:lastModifiedBy>
  <dcterms:modified xsi:type="dcterms:W3CDTF">2011-04-19T18:59:19Z</dcterms:modified>
  <cp:revision>2</cp:revision>
  <dc:subject/>
  <dc:title>Slide 1</dc:title>
</cp:coreProperties>
</file>