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C7623-C176-4A21-8FF9-F804AFDA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59C74-54BA-4CD6-A27A-B9619CF3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26B73-195D-4271-9087-68104FD4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D35DB-55F1-4A27-BA4D-A90E7796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2182E-7775-4E77-A402-3028CD3F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EA4F1-CBDA-437D-821B-83C1B68F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261D6-235E-44E5-BE26-6CEA17F0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9F3DA-4B04-44DB-9928-6C68448C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745BE-8333-4F33-A6AD-9ADDDB8A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704F5-BF5F-40AD-9D8A-5EB459DE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8DBC0-8C8A-48DA-A48B-DAAEC103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33E9F-1BF8-4283-AAF8-0BBC7E2A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72256-188B-4E14-AA37-B979860E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71640-F116-4287-887B-3E3F2DDA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018C8-0949-4F07-9BD6-FE45F433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EE99F-9532-410E-B55C-2728677C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2AE23-8214-4662-9560-E9669CE3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BCF9C-5982-4744-AF48-71DFA296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E9E2A-78D4-4C1F-BD41-CA064B39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0D65B-9890-4CDE-9841-625461C5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B94E1-456D-4C5D-95CD-56BC2779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D3E95-9028-4453-A3EA-A30747FC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31BC5-9230-4248-86A4-F5FF84C0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D0BAA-C9DD-4D4D-B0EE-F49928AA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90A34-78FB-481B-A464-AFD794F7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87215-B4FA-4F0C-A6B2-95DF0E28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2E020-169D-479A-8CB4-38E75F7C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F6F8A-A950-4534-A60C-D0C625C4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30D29-9D53-4632-83BD-9B022F74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33744-8617-48CA-9CE7-0497C38C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81763-00AF-4946-9692-033D780B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24D45-BC7A-4804-85D7-365E9EAF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6DD33-2649-40F6-9B19-756E58B2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F51B1-C2B6-4A05-866B-D06E9CC9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D8226-9FF2-4637-869D-D8914BF5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84AB2-AE5F-4CD8-83E0-51BF3D00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44AAF-215E-4946-B480-3BCCFD5B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72D65-3DD4-409B-8298-E44FAC13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D367C-4527-4522-910D-CC86078B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A4F06-3210-4499-B7E4-F01E0823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D216B-A826-4DE7-8AF6-EADD093A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BD4C4-1A33-4583-8E13-C107EBBA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05764-57D6-4CCF-BAFD-C9A6CFC1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6935E-B36B-4803-BA7F-CEC879CD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78D15-7543-4158-8601-FFE44822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5E84-4EF9-4489-A39A-D76D682A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C32-29AC-43AA-A5AA-1406CB80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BB6C-4C1E-41F0-BA7B-ABE399D7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41BD-BC3D-4288-AFF1-57327209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F52-F3F3-4B7B-A79E-F32CC0AB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DA22-025F-45C6-B228-5F0136B4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523B-4955-4CAD-832D-924E74C8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8386-2177-4442-BE39-AF51FCAE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4AEF-E25A-4682-91E4-5653057F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51E-D812-4E1D-AD38-BBE26C93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59F-B6B2-4539-B281-0B0A292F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482-4B12-4C6E-89FB-F1F1D122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9C41-A066-4119-9CF3-C948A915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0AFB-24C0-4A14-832F-2E04516C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6F20-BB42-4816-801C-B70B4C94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05DD-D86D-4047-A972-4DCB6007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1017-FB90-487C-A5BD-E7321B00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F48C-D129-40C4-B9A4-1CBF56A7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E97D-FCEA-4D8B-9BE4-2EE488F2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2391-0B82-4F94-953A-726647B3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0D92-5886-47D3-A55B-785522FE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2B17-8FB1-4F37-968B-C945107E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BED2-2FC6-45D8-9D1B-3E88583B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A7FB-F372-4E69-89F8-11AC24B6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F7D0B-E0BF-4FE2-BD7D-ACCEF123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98F59-7EAF-4A25-9D6D-BBAD2D06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83507-FC20-4A65-96A8-138690BF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CA4C6-2E2B-4218-9D16-2F4897CD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3CB36-BCEA-46EE-80B8-7B01C89E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F5E06-409C-44EE-91D6-583ADB5A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46B5B-B185-4CBE-B78C-19215C4F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BA444-177F-41FA-96F9-212C366E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75392-2E34-4AAA-A016-FA417AD4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CC688-918F-4D37-A3BF-4236C17C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ACACC-4430-44E7-807C-6707F00F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04C20-89EE-4159-8CBE-3FE990ED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F3755-D936-4654-85A3-3B49B9CD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7B6B8-890F-4434-9441-75111A75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1C049-F5CD-48E1-93E2-F24D0241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215B2-22BB-4FB2-9439-7EDED0FA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5EF7B-E933-4DAD-A258-CE75D911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41562-7D62-45C7-8B19-C91A54E8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4B8EE-9FCE-4458-AD6B-2BF07D12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458C3-C2C0-4534-883B-45BF250A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38466-B9B2-4E02-BCD9-757B91B2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87CA1-09EE-416D-A92B-154700EC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81A1A-6CCF-44A2-939A-0BC7CEA8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78237-BDA9-4569-8063-E17FD07D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ABDB2-76A6-46D5-8EBA-C8826E4D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BB724-6B8C-4725-B75E-9BA67942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2DCF8-F388-48DE-9C52-18A3CF49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8A30A-403E-44E0-BBE7-A3CCDC59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2C659-1D44-42CD-967D-CD12F323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89C3C-16E5-4DC2-B570-B2C43E90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49EFF-76F8-43A7-A8BD-97F25A73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2EF17-17D0-4E07-B244-26569AB5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8BED2-365D-46F7-8C65-5487556B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A3F3E-2FF1-43A4-AC54-6277F8E7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65A92-F7BA-4CF8-A63E-CD96B115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CEFE8-1000-488C-871C-52C0707E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54C17-FB18-47E1-8660-DF066795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BEA3A-0C05-425E-BD11-74A69891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9BA0C-1BFA-4DF5-8131-21565237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28008-0B5A-41EF-BA98-B832BAE0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632AF-6FFD-49BA-A4CA-CAFA65BC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CE29C-3C29-4EA3-A8B3-B287A839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FFF4B-E8E7-413D-9513-1F105655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E28DE-72D2-4E58-8B17-EF5709A8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BD775-D16C-4284-8C6D-5704F714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37E22-2DB6-4B67-9F5D-E575D660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6372A-A4DC-4AA8-B5BB-151BAF59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45EB8-76EC-49FA-8AA1-02716106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4B81F-0510-49A3-B4E5-BB9B9B93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77C6A-E69A-4E2C-AE6F-5BDC52C3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17D59-D51E-427D-8E2A-BD0B8131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BE71-1DB5-4192-9455-52840122B98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655C-A9A0-4ED0-B2A2-C384A30906B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6C9F-BC29-4EE0-A37C-7EB85BD787B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laranja.png"/>
          <p:cNvPicPr/>
          <p:nvPr/>
        </p:nvPicPr>
        <p:blipFill>
          <a:blip r:embed="rId4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E370-EB13-4A64-805A-0A750326307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EA3C-D74F-492F-952D-DCCCB3E0617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40E6-38F3-4514-9957-C3A73CDE2D6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32D4-463E-498D-889E-CF8FA0C575A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4E9D-85E3-4BB8-A81E-BF43EA42E2B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ED5D-B4AB-428D-9D20-EC578086921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455A-B776-42B9-83E6-2855AB6E6EE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tângulo 12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14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49320"/>
            <a:ext cx="5545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Calibri"/>
              </a:rPr>
              <a:t>Teolog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8" name="Elipse 17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8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9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9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10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1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2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9:15Z</dcterms:created>
  <dc:creator>marcelo.raimo</dc:creator>
  <dc:description/>
  <dc:language>en-US</dc:language>
  <cp:lastModifiedBy>marcelo.raimo</cp:lastModifiedBy>
  <dcterms:modified xsi:type="dcterms:W3CDTF">2011-04-19T18:59:19Z</dcterms:modified>
  <cp:revision>2</cp:revision>
  <dc:subject/>
  <dc:title>Slide 1</dc:title>
</cp:coreProperties>
</file>