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6790D-6848-475B-986A-61A761D5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05C99-BA19-437C-B690-74A29E4C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9258B-1F36-48F3-8705-F84C6F41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4C577-1B0F-4158-9281-294B55F2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946FC-DCEF-4CCE-99B9-6817C193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E19D3-327D-4BD9-AB5B-46D5A8DA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04FC4-5EEB-44E3-A2FF-2C911B8D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7DAC5-126D-4DDB-B76C-3C2DAFD1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8DBA0-F144-438E-AC3F-2730B912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E4649-FAA8-4358-A4F7-334282E3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15A5B-649E-4F4E-9419-B576D1AE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5C770-D343-4DF3-AD41-C5D9E7A6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EAF64-CA57-4880-865F-4DA5D354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5692B-1A2B-4E34-B20C-33494E13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B0E5A-D059-4B5F-9912-23F23603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34D50-8ADC-469A-86B0-08E3DB88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E9177-4F20-46C3-8FE1-AF3508C1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AB1E3-57B5-40FE-A609-3AF84D6E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BD2F9-1709-4283-AB05-BF290B19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41123-47E3-44E0-90B5-974A10A2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D7B45-9BA3-4CA4-9AD7-3AF5C99A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C463F-CDE5-45D1-BAE2-CD7F0053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2D8D3-E2A4-4DA4-BCDB-68EB87E7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F25E2-0D4E-418C-8E27-2D170353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5A608-CA64-48DF-BA21-44ABFB6B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76C49-4B59-4873-8130-8828B87F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AC7A0-5F50-4E32-9BB9-6E53E838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153A2-2ED1-4034-88FC-907375A4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628F7-172F-4D75-9360-0D83BF53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E3D95-9A35-4BE3-8295-72A2C695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9BD4-9674-4DDA-823F-36F5CDFA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04A33-52B1-4C3D-AB88-0A29FAB0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47948-0A5F-4CC8-B65D-0191475F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37861-6F73-4CCB-AF06-B037DDE3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68224-0329-47CC-BD30-C587DEBC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C9055-150E-4EE4-A3FE-FF02D159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A4151-ABBC-41C9-8D15-569D5C39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3B9D4-01C8-46C4-8F24-D906C131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43827-F379-4ED2-AB40-2BC45451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510F9-3EE2-4586-99BE-2125071A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D64D9-BA27-4CF9-8A61-DD721BA0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F97-1C71-4B09-A1B1-B3566542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26F0D-42C4-4AC6-B445-6E0A00AB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B05C7-3C17-4A40-8853-84287F81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28FC3-59F1-4A90-B191-605A5522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3800A-D09E-4329-8664-EEA75FAF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F2D78-5D24-4A6A-A932-285FDE0B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64CA2-DC2E-4B5C-8C86-CA466B14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54F98-9F6C-4B1F-B57C-9B8C5457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2AC90-EDD9-436E-BEDF-4DD61C40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79C68-BDB5-4EAD-B0A9-E1D78638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6A13F-A94D-4D3E-92EC-529C34D1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9635-694A-493F-A957-5E1F642C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62392-1F54-4BA5-A892-3A8A8E0C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643DE-92DD-42F7-A0C2-AB3F973F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3416F-8985-4BF9-82E1-7D754333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D2E36-2920-41FD-97D2-9CE76C23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FE534-9FEF-4F6D-B893-DC1DE31A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BF6B9-5E5D-4613-B9E8-F3219FBA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C401D-D0BA-4394-9261-40E57C93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6C5-0B25-472B-BBAD-AEAE1EC3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ABE-7517-4A56-9CAB-C10D1509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7ED0-C4C7-481F-8E0E-6E606279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8C4D-FFC0-485E-8ABB-9CF228EC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01AF-7FD6-45B4-930E-61225B59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81C-2B4B-46D7-9DA2-35BFE679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656B-B23E-41E7-BE1A-CEBFAFBD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5EC-51AB-4741-AB3A-09CCB570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80D6-C6B2-46C9-8050-201D5166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5F3E-E7D8-4F24-AED5-20A831AF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DEED-FBD6-4BB2-BCCC-0ED6D188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F586-0F1C-4046-AB0C-8B5449CD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9F8D-194B-4767-A894-6A9767A8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750E-0F03-41D1-93E8-A98E2B56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064F-2456-42B0-A75C-ADDD1DD1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49C7-C451-43B5-856F-C093B784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1B85-65EC-420E-B9B8-B07C864B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B216-5CDD-49D6-BB79-FCAA1479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485A-952A-4359-B964-35F06003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E06A-B0AE-4390-8A08-049372D7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0DEA-93F7-4F86-B033-9B9EAA12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CFE03-F820-41D3-A210-64614F11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6E162-BD3C-4052-BCE5-E44C13A4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CBB1A-3A87-4A19-B1DF-9901D33A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53130-F225-4882-AEFC-1F1BDA3B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7949C-A0B7-413D-AB40-168728F7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D08F7-DBF4-4940-AFCC-F2BB686C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214F4-CBB7-409A-A107-E3912D37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5FE12-0C50-4DD4-A4D4-942E7E57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5A407-3FD9-4CB1-8AD6-D58A96D6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DE455-A09E-4063-8CEE-01436C0D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33BD7-181A-4DC5-89CF-39359827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B42B9-764A-42C6-8A56-6324575A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EA460-9357-47F7-9D1E-48860A8E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69297-DCF6-4407-A754-59395632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2A4E3-6F86-4DC2-9399-FC9AFA8A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2DCDB-CAC5-4554-B3E4-15883862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6F1A8-3088-4FA0-A7E6-271EA362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72A21-0275-421B-8615-377EBA1B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6803F-1DF7-4B5E-9837-4220B85E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6C070-8ADF-44E3-A1E0-5AAA062A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52D66-9D8E-41E3-A81E-2A81BFEA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5214B-8CC1-4EC1-B12A-5E3BD402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BBDB7-99E7-45FC-BCFC-3969ED2C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F47DB-476E-43DD-B109-599B37A6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AC253-59F5-4321-B75B-0503F59B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96EE8-3490-4B97-983B-E40A61E0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99A80-7E4A-44D0-8368-835DA99C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0E769-E4FE-41C2-9C53-5093B3D8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B3440-219D-4539-AB43-8AB2ACDB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0BED8-CE37-4DFE-89AC-99CEB814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E23AD-16E4-4F2E-B7A8-96CBDFBA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508DA-2B0D-4B47-8B8B-01EE49D5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BBC07-6C1A-412E-A814-10D2784B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19521-DD28-4D3A-8D57-C2679CAE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B801F-31D2-410F-B0A9-97AA805D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9E21C-E0B7-4278-873E-A7D77C92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310E5-58FA-4EF0-9B83-E9E0AF9E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14785-CE13-4862-83FC-A7BCE399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C12C4-F6D2-411F-A2B5-36C4B132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D8B8C-866F-4B9E-8A93-28A4EDFA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FEFCF-A7A2-4F29-A6E1-41DA9814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B1945-016F-4DB1-9D7B-45227B81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F94F6-E2CC-4CA7-BEA9-281F5BA8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60A0D-43F0-499A-8DDD-FA7DCA75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1D051-E901-4B20-A3C6-8095E88B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84726-AE4F-4F9F-9605-E2D9179E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1D1DB-BE55-4DE3-A1BB-DF57FBF9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DC24F-D89A-4CF6-942A-EF75405C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16338-C838-4998-9F08-17BE9CEC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5D120-17EF-4F51-BA71-723CAA19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CC29F-32F7-4C64-A815-0B06F190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50F2-E8EB-438A-A3E6-648282C26A1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EFE3-2890-4E71-BF15-98AE5ED82CD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3CBB-D422-4599-92D1-A725DCDF729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67BE-8B40-4709-A0A7-EA975461DA6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E458-8BAE-45DC-AC50-00E36EC9781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Marcelo.Raimo\Desktop\pps\tarjas\tarja_azul.png"/>
          <p:cNvPicPr/>
          <p:nvPr/>
        </p:nvPicPr>
        <p:blipFill>
          <a:blip r:embed="rId4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Marcelo.Raimo\Desktop\barra.png"/>
          <p:cNvPicPr/>
          <p:nvPr/>
        </p:nvPicPr>
        <p:blipFill>
          <a:blip r:embed="rId5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8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4F6C-FE70-41DC-8C47-5A9A8B24F5B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6C2E-EB7E-4606-9873-047AC2E8D5C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5B92-9C83-4B6B-BBF3-4E562D8EB2F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2E68-14CA-4DC8-B0F0-B3BB812B0B2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4C0F-D33C-4581-81C3-86C03DDAC13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269E-A0AA-401B-9372-9BE210BDE9A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Marcelo.Raimo\Desktop\pps\tarjas\tarja_azul.png"/>
          <p:cNvPicPr/>
          <p:nvPr/>
        </p:nvPicPr>
        <p:blipFill>
          <a:blip r:embed="rId1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534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7375e"/>
                </a:solidFill>
                <a:latin typeface="Calibri"/>
              </a:rPr>
              <a:t>Profª Natacha Pou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537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Administ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tângulo 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Introdução ao Sistema de Informação e Aplic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120680" y="836640"/>
            <a:ext cx="8023320" cy="6021360"/>
          </a:xfrm>
          <a:prstGeom prst="rect">
            <a:avLst/>
          </a:prstGeom>
          <a:ln w="0">
            <a:noFill/>
          </a:ln>
        </p:spPr>
      </p:pic>
      <p:sp>
        <p:nvSpPr>
          <p:cNvPr id="544" name="Retângulo 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116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ixaDeTexto 8"/>
          <p:cNvSpPr/>
          <p:nvPr/>
        </p:nvSpPr>
        <p:spPr>
          <a:xfrm>
            <a:off x="395280" y="71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ixaDeTexto 9"/>
          <p:cNvSpPr/>
          <p:nvPr/>
        </p:nvSpPr>
        <p:spPr>
          <a:xfrm>
            <a:off x="395280" y="148428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Sistemas de Informação baseado em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Internet, extranet 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A Empresa como Sistema Ab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- Software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e </a:t>
            </a: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lecomun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Rede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Documents and Settings\Marcelo.Raimo\Desktop\pps\tarjas\tarja_azul.png"/>
          <p:cNvPicPr/>
          <p:nvPr/>
        </p:nvPicPr>
        <p:blipFill>
          <a:blip r:embed="rId2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C:\Documents and Settings\Marcelo.Raimo\Desktop\pps\imagens-estudos\logo_branco_ead.png"/>
          <p:cNvPicPr/>
          <p:nvPr/>
        </p:nvPicPr>
        <p:blipFill>
          <a:blip r:embed="rId3"/>
          <a:stretch/>
        </p:blipFill>
        <p:spPr>
          <a:xfrm>
            <a:off x="6919920" y="71280"/>
            <a:ext cx="2174760" cy="635040"/>
          </a:xfrm>
          <a:prstGeom prst="rect">
            <a:avLst/>
          </a:prstGeom>
          <a:ln w="0">
            <a:noFill/>
          </a:ln>
        </p:spPr>
      </p:pic>
      <p:sp>
        <p:nvSpPr>
          <p:cNvPr id="54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06:28Z</dcterms:created>
  <dc:creator>marcelo.raimo</dc:creator>
  <dc:description/>
  <dc:language>en-US</dc:language>
  <cp:lastModifiedBy>marcelo.raimo</cp:lastModifiedBy>
  <dcterms:modified xsi:type="dcterms:W3CDTF">2011-04-19T18:55:34Z</dcterms:modified>
  <cp:revision>3</cp:revision>
  <dc:subject/>
  <dc:title>Slide 1</dc:title>
</cp:coreProperties>
</file>