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015DE-5098-417A-B4D4-BE099C23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BE1C8-2B07-4AE9-9C51-B7A7F79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AA376-2853-4AA7-9598-E6681F6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7DFF0-A35F-468C-9A7C-E01E921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A57A0-01DA-4B6D-9EB4-AE848D6D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C084E-60D3-4EF6-BEF8-A5A9C19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6D17-D7C0-4B46-A5A4-FEC6E38C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5169-2C8A-4D71-AD7C-F26C4C9F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4CAA9-713C-4FB2-8640-E53F30C8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BE772-C701-47DC-9B60-2196A1DA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C78E3-9A01-4B4B-B4B7-0D049840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1479-919F-4B14-9F9C-953BB571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CAF22-2758-4A2F-9148-52D357D2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A127-1E02-4665-89A3-6CD9191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04834-4F3C-44F0-9465-015187F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A49A1-5C32-4908-AF22-3DB20EE1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FB47E-5914-46C8-9778-6DEFD7E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A2F6-F71E-4EA2-B06E-C2251020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62581-9CAA-49C0-8947-971A8C8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42EED-F85D-4CA7-B391-05872706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F04B-D29B-47B8-9607-9AC23834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32E70-68AF-4094-8B64-C4BAB04C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7569E-8896-435B-BD02-C47DFB2F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069D1-95D7-442C-9AC1-69641834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61EC4-30A1-4DEC-A5D0-58548C55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E5DF2-4CA7-4109-B82F-546E6B72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C7FCB-E40A-45D4-9B1E-F91790C9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CF20C-3EEB-4158-902E-3D58D86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D3DE4-AC2D-471C-A25E-56744C60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7ACAF-87B5-48AD-94B7-4A66A8FB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189-DF0F-4361-96CE-AE1D454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A67A2-5B1E-4CF7-9167-8C763FA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9C7FB-6520-4156-BE3E-8B6F9ABE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519C5-F408-42B4-960D-F0D4915F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F51D4-748A-4DA1-91C9-BA9F28AF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E15C-917F-4368-BFFC-76F12B8B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0DD17-28AD-49E8-815B-08131F7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25DA4-A5B8-40CC-9682-2934E6B7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4F395-425C-43BF-8F0E-59E52444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CB8C8-E74D-40DE-AA4B-77546DD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4A13E-15DD-4260-931C-DFB840C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EA5-441E-42EC-8871-6BFDCBA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EB12B-1FA1-4E44-A467-5B024951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BF1A4-9908-41A2-84A2-D14167D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3DE6-583F-499A-8F93-D3893732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4B7B3-783C-424D-B893-F940EB38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DCD26-CF2A-4005-B8BB-4B3A8D7A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74615-563A-4DA4-BD93-E593E6CD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0520D-E0F7-43AA-86CF-2B738ACE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D4557-C705-44BD-8620-5600B07C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2535-3EF9-4574-ABBE-FCC02012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104AC-3C8C-46FC-B5C7-6A78293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174-A563-4DE0-96D2-3F60E6C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4296-171C-4DAE-9BD4-3B564FC1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023A-1ACA-4857-80B8-D834714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4BB06-3870-4858-A73D-2178B7F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85FA0-CEAB-416B-9827-3D1A3EC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9A0AC-A99B-4327-A090-EE05278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F36BE-BB5A-497E-90A4-4FCFAFFD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CE296-F4A9-41ED-AC91-63C32C89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CAE-EF6A-4C3B-840C-1AAE0594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0A2-F9C0-41F0-A047-AD21E539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DE3-B548-4C81-BBA5-19D09AA5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FB9-0805-4543-8880-99D82CF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035-45A9-43FD-A2CD-8573026D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393-38F4-4C46-99FD-B2B578AB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BBB-07E8-4DDC-95DE-98F8BE3A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F722-6A2B-41FC-BD7E-87DDC38A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965-6877-4E49-A27C-E88324F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DF2C-B2FF-47DB-9F65-375FB591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29EC-D98E-463B-8288-9E33545E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64FA-1961-42F7-8EB9-222744E4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CCF4-A9E7-4EEC-9492-EC3A55AB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F39-9421-4221-8EB4-74303242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79D1-23E6-4F35-ADE0-825475B9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3186-4F45-4095-B47A-8A173F2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5267-B58B-4833-81B6-AD01E05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279-8BDA-46E3-ABB3-5D6A938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D590-8493-48A6-9029-6B448A19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9044-BC59-4AEA-B082-11608079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308-E4F7-4007-9B81-6023AB20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9BB9-77C7-43E8-8A55-2F7E3BC2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03D6-025A-46E3-A417-9342020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581F-30E0-4C14-A7EA-5D424C0A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E9AA9-D631-4C79-8C88-A3B5A84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6D07E-E2B3-420D-9088-BDF6EDFE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E8B0-64D5-4CA3-A5D2-DD80CA44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E33E-7106-42E9-87ED-F050EF4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1F6C-EEB1-4C89-AA3B-335EC3F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8D2E-D4BD-48BD-99F2-05272E6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1C71A-37B2-4787-83EC-BCB7BB7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5A66-FBEE-4022-965C-F828B78E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7935-8BA7-4835-B15A-B10D3A2B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3500-CF33-40C5-8ADB-470C830F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B554-87FF-49B8-9797-E4E9C29A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1C70-6AB3-4EB1-860B-1E3EBB55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8BED-1F63-4BF1-9771-8161DF64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9025-D805-4BB8-8465-12E1EDF4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567B-F497-4D61-8B78-91B440D4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627B-E57E-422C-9EDC-C881ABC1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CEB5-1853-482B-B043-FE750F06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E41A5-1556-4785-A069-268C958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F269-8558-4D91-918F-53FCCC4E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BBA1-E5C7-4E6A-9648-7F6B6D91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0B4D-FBED-40E5-8782-8E57E514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2521-D4AB-42CF-9823-8585AB9F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96DA-135A-4997-9DF5-749483DE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EC229-3991-4938-BF17-5D316FB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89B4-F5DB-4256-B67C-64364BD2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2799-5BE4-45F2-B965-39787C2A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05570-20B6-44BF-9257-33F83B6A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0331-9345-4133-A0E6-EEFBC38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ABD7-E75F-4A75-89BE-F8D148E1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C443-6C3B-402D-BDC4-250195BB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77749-3177-4675-8A93-23CDA12E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4DC28-FE62-41C3-87EC-48082499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AE9A6-D647-4B33-BC3C-EDF81034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548E-1390-4B90-BA20-00AD4A35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1073-9A17-4CA1-9C01-25F9DC5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36885-AEE0-4BAE-B7F1-BDB84551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3EB2C-1EB8-421D-BB31-4CE01F9E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40B46-24DB-494B-83D2-E0EEED86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7534-1CC4-48CC-9D07-8963CFEB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DEDE-0CDD-4FAA-8502-CD2E476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0C45-7F5F-44FA-9F60-CEFD23F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7AF02-FDE7-4638-8B86-1A96EBCA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7B19-6BC7-4A6D-96F4-1C97417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018AF-1B5E-4897-B349-5CB31FC1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C0BE-B08B-4BF1-8AAC-14759470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ECE4-7FD7-48B8-A520-5F7D77A7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A051-AEB2-4202-836A-3EB1C25F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E7190-B057-4055-BBAE-E1E24B79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0242-D406-4D62-B403-11E4B53708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A652-80EA-41B8-836E-ECA3CB3AD64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5F8-9CBB-461A-807A-C51B7B8A49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9298-594F-41E0-9D96-1378C410C6C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4A0-ED32-4B46-B0D4-4CEB16222E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Marcelo.Raimo\Desktop\pps\tarjas\tarja_azul.png"/>
          <p:cNvPicPr/>
          <p:nvPr/>
        </p:nvPicPr>
        <p:blipFill>
          <a:blip r:embed="rId4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82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:\Documents and Settings\Marcelo.Raimo\Desktop\barra.png"/>
          <p:cNvPicPr/>
          <p:nvPr/>
        </p:nvPicPr>
        <p:blipFill>
          <a:blip r:embed="rId5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8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D1F5-EB5A-458F-A850-D4167AE4FB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BE9-6371-4BF3-AC6D-658EF376BD3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1FB1-90FF-431C-8478-7D920997B3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04D-E08C-422A-92BE-A4FD35BE5F4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2D1-1503-449F-A0DF-5C389B8981E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Documents and Settings\Marcelo.Raimo\Desktop\pps\tarjas\tarja_azul.png"/>
          <p:cNvPicPr/>
          <p:nvPr/>
        </p:nvPicPr>
        <p:blipFill>
          <a:blip r:embed="rId3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15D-3278-497A-B850-E1DCEBC253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Marcelo.Raimo\Desktop\pps\tarjas\tarja_azul.png"/>
          <p:cNvPicPr/>
          <p:nvPr/>
        </p:nvPicPr>
        <p:blipFill>
          <a:blip r:embed="rId1"/>
          <a:stretch/>
        </p:blipFill>
        <p:spPr>
          <a:xfrm>
            <a:off x="-22320" y="1512720"/>
            <a:ext cx="9242640" cy="1411560"/>
          </a:xfrm>
          <a:prstGeom prst="rect">
            <a:avLst/>
          </a:prstGeom>
          <a:ln w="0">
            <a:noFill/>
          </a:ln>
        </p:spPr>
      </p:pic>
      <p:sp>
        <p:nvSpPr>
          <p:cNvPr id="534" name="Retângulo 4"/>
          <p:cNvSpPr/>
          <p:nvPr/>
        </p:nvSpPr>
        <p:spPr>
          <a:xfrm>
            <a:off x="0" y="1762200"/>
            <a:ext cx="9144000" cy="792000"/>
          </a:xfrm>
          <a:prstGeom prst="rect">
            <a:avLst/>
          </a:prstGeom>
          <a:solidFill>
            <a:srgbClr val="43577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7375e"/>
                </a:solidFill>
                <a:latin typeface="Calibri"/>
              </a:rPr>
              <a:t>Profª Natacha Pou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C:\Documents and Settings\Marcelo.Raimo\Desktop\barra.png"/>
          <p:cNvPicPr/>
          <p:nvPr/>
        </p:nvPicPr>
        <p:blipFill>
          <a:blip r:embed="rId2"/>
          <a:srcRect l="0" t="0" r="0" b="23218"/>
          <a:stretch/>
        </p:blipFill>
        <p:spPr>
          <a:xfrm>
            <a:off x="0" y="-152280"/>
            <a:ext cx="9144000" cy="784080"/>
          </a:xfrm>
          <a:prstGeom prst="rect">
            <a:avLst/>
          </a:prstGeom>
          <a:ln w="0">
            <a:noFill/>
          </a:ln>
        </p:spPr>
      </p:pic>
      <p:sp>
        <p:nvSpPr>
          <p:cNvPr id="537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Admini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tângulo 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Introdução ao Sistema de Informação e Aplic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120680" y="836640"/>
            <a:ext cx="8023320" cy="6021360"/>
          </a:xfrm>
          <a:prstGeom prst="rect">
            <a:avLst/>
          </a:prstGeom>
          <a:ln w="0">
            <a:noFill/>
          </a:ln>
        </p:spPr>
      </p:pic>
      <p:sp>
        <p:nvSpPr>
          <p:cNvPr id="544" name="Retângulo 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116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ixaDeTexto 8"/>
          <p:cNvSpPr/>
          <p:nvPr/>
        </p:nvSpPr>
        <p:spPr>
          <a:xfrm>
            <a:off x="395280" y="71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CaixaDeTexto 9"/>
          <p:cNvSpPr/>
          <p:nvPr/>
        </p:nvSpPr>
        <p:spPr>
          <a:xfrm>
            <a:off x="395280" y="148428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oria Geral dos 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Sistemas de Informação baseado em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Internet, extranet e in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A Empresa como Sistema Ab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- Software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 e </a:t>
            </a:r>
            <a:r>
              <a:rPr b="0" i="1" lang="pt-BR" sz="2400" spc="-1" strike="noStrike">
                <a:solidFill>
                  <a:srgbClr val="17375e"/>
                </a:solidFill>
                <a:latin typeface="Calibri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Telecomun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- Rede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C:\Documents and Settings\Marcelo.Raimo\Desktop\pps\tarjas\tarja_azul.png"/>
          <p:cNvPicPr/>
          <p:nvPr/>
        </p:nvPicPr>
        <p:blipFill>
          <a:blip r:embed="rId2"/>
          <a:stretch/>
        </p:blipFill>
        <p:spPr>
          <a:xfrm>
            <a:off x="-98280" y="6381720"/>
            <a:ext cx="9242280" cy="1411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3" descr="C:\Documents and Settings\Marcelo.Raimo\Desktop\pps\imagens-estudos\logo_branco_ead.png"/>
          <p:cNvPicPr/>
          <p:nvPr/>
        </p:nvPicPr>
        <p:blipFill>
          <a:blip r:embed="rId3"/>
          <a:stretch/>
        </p:blipFill>
        <p:spPr>
          <a:xfrm>
            <a:off x="6919920" y="71280"/>
            <a:ext cx="2174760" cy="635040"/>
          </a:xfrm>
          <a:prstGeom prst="rect">
            <a:avLst/>
          </a:prstGeom>
          <a:ln w="0">
            <a:noFill/>
          </a:ln>
        </p:spPr>
      </p:pic>
      <p:sp>
        <p:nvSpPr>
          <p:cNvPr id="54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6:28Z</dcterms:created>
  <dc:creator>marcelo.raimo</dc:creator>
  <dc:description/>
  <dc:language>en-US</dc:language>
  <cp:lastModifiedBy>marcelo.raimo</cp:lastModifiedBy>
  <dcterms:modified xsi:type="dcterms:W3CDTF">2011-04-19T18:55:34Z</dcterms:modified>
  <cp:revision>3</cp:revision>
  <dc:subject/>
  <dc:title>Slide 1</dc:title>
</cp:coreProperties>
</file>