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854E2-CB51-43C3-AF43-5A60DA78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DF494-C24C-4571-87DB-7585C1BC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E621D-A225-4B0A-BEF4-FDDAD704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87FB5-56AC-46C6-9B0C-4E6032F2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E0C70-9F1C-4A32-A4D2-25B42658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83BBB-6A85-4995-9BD9-C92A8489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998FF-6BAA-481C-95C0-B56A05F6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AD573-8000-4B4B-957F-938B83AE0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A4FD7-33FA-4CD2-B61C-9184C51CF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94548-9BA4-40CC-91CD-D0C7097C1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87009-B04C-402C-9EDB-7C98F85C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6C7BD-1845-47C1-AC61-1A1945B0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E9F20-B7A0-4C2A-95ED-8753A8EC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C4D34-B15E-4AEE-86E4-1EE85778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DA07E-F135-438D-B552-9C21E4E8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BD0D6-7A38-4E51-B6AC-1E0688CB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63EA0-76C3-44EA-8031-FC32930C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2F40D-7F19-44F2-9ED0-C1759AE8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D3E2F-B5BB-407A-A072-0F33C27C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A78B8-9613-4DDE-A703-6EAD89345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18B6F-93F0-4A26-8A60-F9A470FE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7D534-6897-4269-9674-F5C2C9C8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16AD66-B959-4624-B87A-3F1FEDE3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1AF20-4999-47DA-8D48-989C3AD5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D8126-631A-4E11-A777-214DF45F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61A60-23D2-41D0-A285-B2A40311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683491-3320-475E-B401-5122F391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1E284-6C01-4865-A842-FF5986EA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099A9-2570-4EC0-8858-7FB402D0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CBCE7-D53D-4F74-8F55-C95268C8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547D3-B658-4A92-9814-CC30D8FF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CA046-7487-4E3B-B0E7-7A94DF855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F0B6D-5EA9-424F-A992-6C25E0BC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E4C78-0BE1-4565-9B15-B506B1517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1B52A0-4231-4B53-B118-9FB26E81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318FD-22F3-48A6-BF4F-AF00D16C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95F0D0-6C1F-42B3-9E04-621B2CEF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BD7627-0CF0-45BF-9B09-EAD6371C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5AC842-B8E0-4738-9484-EE587D82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90223-3ABC-44FA-876C-A57AA68B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173A4C-5E28-4FA9-ACD5-BE60EC42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5BBA9-5B1E-493E-ABEA-A9A50794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C4DD0A-DB83-457C-B4E3-F21EF4BB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47E7EB-3248-4257-9D2D-D0609D53A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ED9CD-B323-4739-8DB6-F866FC17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64C7-E499-43B0-8E84-92AA122B0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CD81-7D9D-46ED-8FFC-16313BB2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4C3C-B775-4DB6-AAE7-B62B6562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E82E-C0EF-44AD-B11B-12B99EB5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278F-F7B6-486E-96DB-2A69E654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F440-D120-4DF3-BF17-785BD44F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C489-FD58-42B9-89B8-A637469E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C67A-4CC0-47E6-847B-2497A6CA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5BEA-AC61-4653-A95F-95DDD7E0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8D9B-9203-4735-865B-940E637A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A210-3AC9-405F-ADFF-D49D6D371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A510-567A-4C1B-BFE4-E7FFF6662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3EFC-388D-4F68-89BA-0D05CDF8E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2F55-592D-4992-AC15-EA4C1A5E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411A-3511-4604-8299-7490119E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1216-1B96-4DE9-89BD-B46F0CD5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F752-F3C5-4B25-ADF8-0A665401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78AC-8EE8-4613-9AA5-EE17B602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F887-BED4-48C4-A31D-E2AD3982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A20D-C3BC-4ADA-A4A7-A5B5E2B0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09B7-D1BF-4096-B307-B287DF17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4CC2-4831-4154-BEB5-ADB4B2A2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CA1E-CCD2-4AD8-8107-FEBE1986D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AED8-1B11-4E5E-8C0E-F383BF280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25ED6-B5EF-4A91-9B4F-2BAAF8B3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D7D51-DEFC-4F37-AFD5-47FC8DC6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72BFE-CB23-4471-837F-15BC039A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2D841-F65A-405F-811A-00EF8028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C3C66-D73F-431B-9EE2-F99CBCB9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9056B-1070-472E-A0F2-0EDE838E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EBB53-0A84-4975-9FD6-A48C00A2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5F70D-011F-49E1-93AE-4E739AEC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23769-784A-42E4-96C6-5A978E00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2C05A-BDEF-4611-84BE-9509D1B7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9FAB6-674E-4138-B7A0-255E09C33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7209B-C5AB-4627-8A6A-5D3EB2B83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BF8C5-B570-4691-B82E-BBDB99561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EB7DC-D777-4DB3-BF87-3B0EE8CE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457D5-86A6-4CB4-9362-F0EB5DB7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1BDF7-230D-4EC8-91A0-4F429B6C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DA230-9B87-41E1-BEBA-8031E42D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BE5EC-FF11-4215-AE59-3257DB18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D3162-ABE8-4AF4-AB5E-074BC7D7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98FC5-FB13-4F53-A054-5D1B285E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A214B-D3B9-4736-A483-6D30B9C7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8FC52-C19B-46ED-AFDC-3A8BAC0B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8A584-A479-4411-99CF-026CDBF55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EA185-0F22-4909-B5B0-B5EA22915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AA4F3-1846-450E-88DF-0549801FF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A0DD6-28A1-4C6C-95CC-AF83FF61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D1C7C-9B26-435D-862F-0FC63704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BD6D7-570A-453A-BAD8-CF1EED7F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A2D12-27FD-40C3-86FC-BAD89E44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69E6B-FD86-4737-8BC3-4B5201C9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2F813-90CC-4664-9ADE-4B123FE9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E00C8-8989-4755-A296-A62468EF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40421-D855-415C-BD02-20E4EB79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ADD50-DE50-42DA-8E34-F4E5DAE2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DF107-2971-4A29-A07B-21A07F9BD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D748B-8597-4084-8857-A07C56733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18243-37B4-42AF-B513-1E145F695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5A159-0FB4-47A5-B08D-80A7D2C0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F1849-C42C-485A-8C80-8DF37797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84AA8-00ED-4D2B-B385-B1892969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6F8EC-C46F-4F78-9ED6-6F9FCD08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91CEB-FA71-4134-9E7F-70CF357F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D89A5-CE25-47EA-97B4-D04AEA95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DF235-2BF1-46F4-9853-E3D9F641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D16B4-2D56-46B0-9C0C-DA94AFE7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84F8A-FDB6-4F44-A5C2-C0F233AB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79B86-75D3-4A9E-9AED-925E28EE8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62750-8D48-4B38-AEE0-3229B203C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747B2-5B99-4A0A-843A-E0C77681C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20A55-7AB4-4244-B3E1-B4EFBFCD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1318C-132C-4FB6-A968-45369042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84EE-53CA-4119-A0BC-7A1C7F0AD18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8EF6-BA36-478A-A791-F3531421556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7366-FEE1-4AB2-BE22-4B9099D6568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0" name="Retângulo 3"/>
          <p:cNvSpPr/>
          <p:nvPr/>
        </p:nvSpPr>
        <p:spPr>
          <a:xfrm>
            <a:off x="0" y="5329080"/>
            <a:ext cx="9144000" cy="1629000"/>
          </a:xfrm>
          <a:prstGeom prst="rect">
            <a:avLst/>
          </a:prstGeom>
          <a:solidFill>
            <a:srgbClr val="fee654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2" descr="C:\Documents and Settings\Marcelo.Raimo\Desktop\pps\tarjas\tarja_ciencias-sociais.png"/>
          <p:cNvPicPr/>
          <p:nvPr/>
        </p:nvPicPr>
        <p:blipFill>
          <a:blip r:embed="rId4"/>
          <a:stretch/>
        </p:blipFill>
        <p:spPr>
          <a:xfrm>
            <a:off x="-108000" y="148428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deb7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FBAF-E193-471E-BBD6-3DA13633DC7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B3C8-E4AF-422E-BD3E-2FC551F8603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3AE9-6836-44FB-83D5-0F2B811C9A3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AB59-0927-4FB1-AB7B-8B3502C18FD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8245-7011-4820-8043-FC6CC7EADD8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4793-8E3D-4186-A2E9-6E4B6478402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35A9-6BC6-4B3B-B12E-0830BE54FC1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tângulo 3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ee654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0253f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d0d0d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2" descr="C:\Documents and Settings\Marcelo.Raimo\Desktop\pps\tarjas\tarja_ciencias-sociais.png"/>
          <p:cNvPicPr/>
          <p:nvPr/>
        </p:nvPicPr>
        <p:blipFill>
          <a:blip r:embed="rId1"/>
          <a:stretch/>
        </p:blipFill>
        <p:spPr>
          <a:xfrm>
            <a:off x="-108000" y="148428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95" name="Retângulo 7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deb7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Ciências So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-1126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imagens-estudos\palm.png"/>
          <p:cNvPicPr/>
          <p:nvPr/>
        </p:nvPicPr>
        <p:blipFill>
          <a:blip r:embed="rId1"/>
          <a:stretch/>
        </p:blipFill>
        <p:spPr>
          <a:xfrm>
            <a:off x="1332000" y="996840"/>
            <a:ext cx="7812000" cy="58626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504" name="CaixaDeTexto 8"/>
          <p:cNvSpPr/>
          <p:nvPr/>
        </p:nvSpPr>
        <p:spPr>
          <a:xfrm>
            <a:off x="395280" y="13320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9"/>
          <p:cNvSpPr/>
          <p:nvPr/>
        </p:nvSpPr>
        <p:spPr>
          <a:xfrm>
            <a:off x="289080" y="1279440"/>
            <a:ext cx="867564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Teoria Geral dos Siste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Sistemas de Informação baseado em computa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Internet, extranet e intra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A Empresa como Sistema Aber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10253f"/>
                </a:solidFill>
                <a:latin typeface="Calibri"/>
              </a:rPr>
              <a:t>- Software</a:t>
            </a: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 e </a:t>
            </a:r>
            <a:r>
              <a:rPr b="0" i="1" lang="pt-BR" sz="2600" spc="-1" strike="noStrike">
                <a:solidFill>
                  <a:srgbClr val="10253f"/>
                </a:solidFill>
                <a:latin typeface="Calibri"/>
              </a:rPr>
              <a:t>Hard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Telecomunicaçõ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Rede de Computa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Elipse 8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CaixaDeTexto 9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7:13Z</dcterms:created>
  <dc:creator>marcelo.raimo</dc:creator>
  <dc:description/>
  <dc:language>en-US</dc:language>
  <cp:lastModifiedBy>marcelo.raimo</cp:lastModifiedBy>
  <dcterms:modified xsi:type="dcterms:W3CDTF">2011-04-19T19:00:29Z</dcterms:modified>
  <cp:revision>3</cp:revision>
  <dc:subject/>
  <dc:title>Slide 1</dc:title>
</cp:coreProperties>
</file>