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6B7C2-DCE6-4669-9DBA-28C6D5FE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F888C-E30C-458B-8F12-33271949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0B9DF-75FE-44AF-9CF5-16F948E4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8D0AB-72E3-4ED6-B28B-F52189F4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62EAF-2EAF-44C2-A819-4A83400B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23F76-B832-42CA-AE05-697FAE15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9BD91-41CD-4C65-85F9-5328F658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767A0-F331-4C83-A2DF-817386A5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5C36E-DF78-4172-BC8B-28593FC6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FAA92-818D-4EF5-87AA-85C9DDA1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21B20-78DE-41F5-A0E6-D14909B2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2B3E8-A361-4ED5-8C56-ABF43E35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4FA4C-FD68-418B-8BC3-40754F80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B7BC6-F23A-4DB4-AFB4-5BCAC8B2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59D90-11D5-4849-9014-3B4E208E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1E1DD-FC50-40D4-8F13-297E7EE3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D7A6C-DCBF-4CE4-BC59-8EB1F34B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38C8A-C7F5-4BFE-9E9C-B494D254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B1B17-1C5A-4F09-A288-BC2E1577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7DEE5-CDF5-4B78-A898-D15261F1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91F61-2F9C-49BC-B507-423CDF72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4499A-001E-4681-A3BB-F61B4C14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A71C8-9E5A-42B6-AEBC-C0503B53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4D78D-5835-4818-82C7-93B1D92C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B64D3-92B6-4F5D-99E3-C8CBB364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CF47B-4E15-4C92-BC77-C820CCC7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A6E9E-8728-4A60-9D27-6D641788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CCC1E-6632-41C7-B0CB-74B0316C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CFFED-8517-4549-B2A1-BDCD87B3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E468E-B254-41A4-ACF4-9418F1AA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AA071-9476-472A-A73D-45D81049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C6F2A-EA4D-48B8-B215-4F3D0E79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58D10-8160-456A-AF4D-14E5C62C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BA11B-570E-4385-9E5F-10FD8FFE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16D64-4AC0-4ECF-9477-DAAA245C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50DB0-DDDE-4814-B0CD-6D47DD94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988FB-C974-453E-8C4D-9C9C3442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7E950-9920-4877-BCE1-BDC01009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C1073-CE53-403B-A03E-DD20BB57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C4A40-47A6-47FE-A373-4F84A53C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00C73-32CE-43EC-9FD4-953015D0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0BB06-79EE-40BD-8A4C-329961C7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E913E-1603-4BF6-9797-B5735AD7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031F1-D5AE-4C0D-A65D-53F4B842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D54AD-F48F-47E8-AE09-8ADFD918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A4EC-0B56-4D1E-85EA-70F6B44D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F640-663D-4C78-9468-3BD0C690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F78-AC62-4B1E-86AF-C4FE2445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9C6-A244-41C7-A14F-D1FD3F5E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9BA-16EA-4B41-AA46-49CA2D83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D84-9CE3-4151-BEF8-B04002B4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9C8D-2F61-49FC-B7D0-DE8B114E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857-964E-43F9-B7D2-A1875434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49C-CA9F-480B-BB86-D956C67D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CBD-C771-4DC8-90FA-E64A8FED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0CD0-EF99-49E0-9216-DEBC269A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8615-0642-4E78-A22A-8BB9FCE7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0D6C-4147-4113-85A9-4D2A83CB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52CF-9203-4339-AA60-8743E7EF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1F7D-FBDC-4516-8B57-FF40723A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4526-8A4D-4002-A17F-2D1353D7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67BB-5CD5-4E83-AA55-9BF2D68E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9C7C-2254-4C5D-B691-6EB82B3B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FF44-5B7E-49B7-A8C1-21E0CC7B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F286-31EA-4531-81CE-76119E18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0B08-3CFF-49E8-82E3-E89877A9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4AE7-34F9-46F8-AF64-C18C1EEC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FE43-DEBF-4F4F-8702-B7603B6F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ECC6-EC71-42D5-A87A-67B9345D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8A169-1B0A-4A0C-B41E-01E4C028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A88FF-AF89-4DF4-983C-4A0282D7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107AA-75D3-4273-8E3C-C8F9D15B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20CC3-52BA-4AAF-9DE8-C80324CD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34872-1CF0-4201-AC1E-1FD0CE20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B537E-0D3E-40A8-9BA2-6E116266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0C512-8622-4AE0-9709-4CDC9D55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BEA57-261D-4B77-94E7-40EED984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A81E5-4D6A-47E0-92DB-F0C0FF68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60B28-9406-4BA7-8EB2-0B9213C4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F9713-EBDE-47D5-A91D-5A4E867D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FCFA8-4250-4D19-A414-47E4696F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3D01A-FC7E-4F28-AB2C-FD05357C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DB33A-F51D-4FFB-9859-7EAA1C58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88C5D-4BF1-474B-85EC-7787F1A4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529FD-5EF3-4BC9-B58B-74D31947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F312D-FACC-4C76-8611-746913EC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8142F-3806-49B5-A32F-9BCE9058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BAEFA-6426-4E22-88CF-1CE715DF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0CEDD-71EB-4805-BFA6-38544546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705E4-C77A-4354-9BB4-60F48071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B0AB9-973C-4E2C-AE0B-4060B623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BB0E5-8E19-4F20-9EAA-295C9512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79294-4373-4560-8628-B5813867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8437B-6152-47E2-AA1A-3CAF15DE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5E620-6E92-4C20-BC31-E745D6E7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90596-6C03-401B-B7D8-353F983B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A18DE-DBCF-40B0-9E40-FB63EAC8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6DC02-3B43-479E-A7F2-503240E5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1A315-F730-4C30-8D43-02F76A7C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4AE70-6F44-45BE-993B-CDB3592D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4207D-31DD-42C2-9718-7253FC28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3B28D-11B2-48DF-91A8-B7BCDE6F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4DCB6-F434-4FEA-B4E1-EED13862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4BC3F-8F8D-4C30-866E-6E1D3D60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A7CCE-CD99-46BF-9D9C-6DF12094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CCB0A-DF53-4B3D-999B-83A42594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A07A3-D080-4238-9363-49A8F816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C11A4-2BA7-4BF0-812B-BF440F56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9F8C3-BC44-4B1F-9B37-54C69992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522FD-0E70-4A70-8080-A1B71EFF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210AC-97B5-4866-87CB-A49BBE8B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8713D-CCC0-42C4-B659-095726CE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BFF06-5288-4FCC-B142-726F0E5C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CCE1B-130E-46E3-BAB1-98F93E00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F9CB3-46C8-48DC-9FFE-9552CA9C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9549E-8CE6-4D6E-B93B-0D2D190D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E67F2-B47F-42B1-ABB6-4A172413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12DCA-410E-4F95-8B0F-36173B4C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71108-A43A-412D-AFB9-1EFA6948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F7AB4-4018-48B2-9E03-E0792ED5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2241-6E16-4901-8724-7AAB603C9EB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A1DD-7408-48E5-A829-5AA9C8149AC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AEA6-64FC-455B-8CD5-911739E1641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329080"/>
            <a:ext cx="9144000" cy="1629000"/>
          </a:xfrm>
          <a:prstGeom prst="rect">
            <a:avLst/>
          </a:prstGeom>
          <a:solidFill>
            <a:srgbClr val="fee654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C:\Documents and Settings\Marcelo.Raimo\Desktop\pps\tarjas\tarja_ciencias-sociais.png"/>
          <p:cNvPicPr/>
          <p:nvPr/>
        </p:nvPicPr>
        <p:blipFill>
          <a:blip r:embed="rId4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CCAE-CB9A-42B1-9BEF-32191A1C81C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F64C-232A-422B-A9C8-44DADBE5185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F107-7EDC-4160-8A31-769FCBC512F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C867-7F3B-41F5-BE8C-2575A08144B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F343-949F-418E-BD8C-CCFBB9677A1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9AEE-86C2-45A6-BB90-665870C3AA7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FE8D-64AE-49ED-871B-E8E2816E811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ee654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d0d0d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C:\Documents and Settings\Marcelo.Raimo\Desktop\pps\tarjas\tarja_ciencias-sociais.png"/>
          <p:cNvPicPr/>
          <p:nvPr/>
        </p:nvPicPr>
        <p:blipFill>
          <a:blip r:embed="rId1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95" name="Retângulo 7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iências So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-1126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332000" y="996840"/>
            <a:ext cx="7812000" cy="5862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1332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9"/>
          <p:cNvSpPr/>
          <p:nvPr/>
        </p:nvSpPr>
        <p:spPr>
          <a:xfrm>
            <a:off x="289080" y="1279440"/>
            <a:ext cx="86756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Elipse 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7:13Z</dcterms:created>
  <dc:creator>marcelo.raimo</dc:creator>
  <dc:description/>
  <dc:language>en-US</dc:language>
  <cp:lastModifiedBy>marcelo.raimo</cp:lastModifiedBy>
  <dcterms:modified xsi:type="dcterms:W3CDTF">2011-04-19T19:00:29Z</dcterms:modified>
  <cp:revision>3</cp:revision>
  <dc:subject/>
  <dc:title>Slide 1</dc:title>
</cp:coreProperties>
</file>