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2A8DF6-3243-409B-A98B-89C2FBA02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1EC3F2-B2CD-4DA4-A69C-E259914A0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F47C51-4F48-43CC-AC76-781B602E1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74D4DD-8E4B-439D-89D2-4266DF60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CF4566-7531-49DC-830D-889A2C592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CDADAC-0984-482F-A2D2-CD16A71EC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308A92-144F-4F57-A17E-52DC02AEB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27448D-90D8-49A0-932F-18DF4ADEF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7EC1C5-6683-4EA3-8407-79E4B546B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128983-A2B8-42E4-A6B9-8C3065B87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2C2BA8-5AB9-47D5-A0EC-B789D1D7D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4C31A9-B9F5-41D2-915C-CE056795D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09D058-5A0E-44D5-A21D-6DF5C93ED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4BF103-43BA-4AEB-9B93-29601EF8B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9D9A71-D630-4626-B52B-C88D2CADC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278DD0-9027-49B0-BF97-EDC1DB4D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27B7E7-720B-4C7B-B375-BEF9B891B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7BC64E-208E-4EDF-98BB-A470A7E3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6F3248-BB4C-414C-952F-96E0DC4F3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8DB52B-429E-4A3C-91F2-C26F7320B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311627-2DA8-4825-8AC6-B54143F80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48AFE8-209A-4111-A414-A1B7EF3D3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4D21CF-1F2E-4722-90DD-9DA9CE94E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3D1604-7B4C-458A-B051-40C1318DC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A0F6A0-A948-4D4F-A49A-3A9CD0314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1118CB-D809-4197-B524-007E071E1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234819-5E15-4B5A-A436-84C1E804A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5D09CD-F128-47A8-8084-BAB4EB3C8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868AAA-D5C2-443D-AC97-92636C12D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3C00FF-C260-43E1-8C8D-70E43685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AB000F-10D5-49A2-B1B1-C81E55563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8241D2-1B95-4A05-B9BF-C52BCEBC1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4F7347-0300-4C06-9B9C-EC96243BC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2ABD37-9A3B-44E6-B184-BB8CE1AF5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F9EBCB-675B-4D3D-A652-9C0564524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AB5686-F9A5-4EBA-888A-1A57A4ECC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35B91C-1F3C-4A22-87DE-53C2891A3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8D961B-33D6-4147-AB67-6F683522C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207163-87D7-4FFF-BD05-2791C2EDF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F52775-B0FF-49C8-AD99-4DBD8BB23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3750FA-C8C7-443C-BC9F-50767CF15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B17062-91DD-4F87-856D-1E4277A0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73D2DB-6CEE-46C2-8E1B-2C55EEDCC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0350AC-70B7-403A-87DF-DEFDD5B90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108895-2550-46DE-BB70-0E43F6BF6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DE71-724A-4254-B80F-8E8DCF48D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D91D-1DD6-4D6F-B4F3-5B83C7EAD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1925-8775-4A68-AAAE-B92F47830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18F0-27F4-4A5B-A745-F7932B5BC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3AA5-74E6-4459-B2BA-6CB6AD27D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02B4-6383-492D-853A-C93181F3A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323B-CED1-4FB6-B723-F2E8862A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77D2-38B9-4C3A-A47B-3CD4E4D2F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88F7-58E8-4DC1-AEFD-15E5C6D9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4CD8-FBC1-4909-ADA9-CBF954B5A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1395-055B-49F8-8CE7-29996590B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F8EC-2E52-4FF3-BB5B-C8AEF2B98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96785-0B7F-45AE-9701-1857FB391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D9D3B-6794-4C11-9D88-1ADFF7B93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24494-BB39-4C3D-8648-4D1589C95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D9361-7D37-4465-98FD-654C1EC96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DBC60-C54C-457B-82AE-C64D7FD52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82357-17F4-49CB-AFC5-F4450A5C1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7C355-85F7-4A88-9828-D5DD5AE8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C1AEE-83C7-4A10-BF50-8025621C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2C13E-AC60-4543-A042-ED98C2533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79F1B-3712-44DB-BC9D-6225DACB5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4179F-2D8A-40A3-889B-330EA986F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F7637-A78D-48F9-A642-7CC579CD4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2CBD5-C050-437C-A102-1EA33957F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26161-C5B1-48FE-ABF1-86947D273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5E829-17CE-444F-9604-7972811B0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54D10-06D1-4270-BBE2-58D102BDA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55F2D-621E-4706-96DC-5257A6B34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1508E-10C6-484A-B91C-916A8D5ED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3C3AB-3545-4EEF-A09F-D26872672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D379B-E33B-4998-B0F2-0742630A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B4FED-1649-4288-BAA3-9A4B18412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09851-6661-4712-A6AE-7FA64D99C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52960-D819-432D-B87D-13AE5DC14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A57B0-B913-4F98-830E-52EFEF1E2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B9F67-C63B-4D31-BA25-D47DE96F4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86644-88E2-4ADD-A488-5DBCF5B27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AD6CC-D526-4AB5-A831-93BE58E20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9561B-EB0B-4EAB-9AD2-2A050D49F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8C8DB-6B6D-44BD-B573-26FAD6F2E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B1191-2C7F-41D3-A3D4-FEC61B38A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74AFA-197F-42AC-86B4-444A01A20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F8A119-666E-448D-8504-85ADEBC08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332E1-20D8-4ADF-8646-8103DFF4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AD34C-F890-4CAC-8EE9-728704869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DDA30-5686-42C6-9164-DB16FF57D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8110E-CF4E-45C0-9BCB-3B41C53D6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1D703-8CFF-4B9A-8030-22438787C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C41C36-6070-4724-BA86-A1B89D75B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30ABDB-33B4-416F-9517-F2C653DE3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879DF-5DC9-489E-934C-6A8CFD848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F9B82-A87D-4B3C-94AC-56CEB447D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C279C-A9FA-4211-B194-2C5590773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16CFC-AAE7-4962-8B6B-6C5FEF7E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7381CE-C4BA-456A-9DBB-E86B89FA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948B97-7E0E-413A-B18C-6B4EF84B3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700EE-8CDB-4C29-9E15-ECA0DEB5C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AAD5F-0C26-4532-992C-0810A3CCC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1FA605-A453-4B35-9962-C492A04CA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F597C-F206-473B-8560-98906E45E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FEF85-D734-464C-893A-3DD74C091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15372F-A9ED-4361-9733-3AAA2E7A0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F1AB42-268C-4672-B10B-D3FE6BBB1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00A701-EEB0-4013-AF11-05F12DDAB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D357D2-8BE2-410D-8C85-5B61F3243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078798-2AE0-4E24-A58C-B214BF92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78768-CA81-413D-BC14-65DE2476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C8C437-4735-4395-ACDA-363CDDEF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40164B-B8E7-4F09-9F9D-80D8CDB72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15D94C-199C-4117-9C3E-E474241D0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849F99-B1FE-404B-AB11-B443ECDFF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C40ADA-C9B2-482D-ADC0-7668BE3BC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7D2230-9F29-4B17-8F78-5FDF116EC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68885C-01CD-4C42-8627-3B50BE805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E2A47-71E5-4C50-A656-505D2DC67790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B0527-C645-4FD9-A480-31B9184E72D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7DF47-0A74-4EF2-AE08-1E556938359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40" name="Retângulo 3"/>
          <p:cNvSpPr/>
          <p:nvPr/>
        </p:nvSpPr>
        <p:spPr>
          <a:xfrm>
            <a:off x="0" y="5329080"/>
            <a:ext cx="9144000" cy="1629000"/>
          </a:xfrm>
          <a:prstGeom prst="rect">
            <a:avLst/>
          </a:prstGeom>
          <a:solidFill>
            <a:srgbClr val="fee654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2" descr="C:\Documents and Settings\Marcelo.Raimo\Desktop\pps\tarjas\tarja_ciencias-sociais.png"/>
          <p:cNvPicPr/>
          <p:nvPr/>
        </p:nvPicPr>
        <p:blipFill>
          <a:blip r:embed="rId4"/>
          <a:stretch/>
        </p:blipFill>
        <p:spPr>
          <a:xfrm>
            <a:off x="-108000" y="148428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deb7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BE1E2-15CE-474D-B1EB-C2A121C79F22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35932-8026-4AC7-AD3A-0A046ABDC678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27296-E9FF-4A24-A4F7-420D036791A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71719-2110-4324-B533-F414533AA9F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7FB70-3214-4FEF-9D86-C41F40D38B34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B7DE7-AF84-4DC1-9B5B-94CDE1571E5A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D9A08-6C98-49DB-AD94-C10967C3FC41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tângulo 3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fee654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10253f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d0d0d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2" descr="C:\Documents and Settings\Marcelo.Raimo\Desktop\pps\tarjas\tarja_ciencias-sociais.png"/>
          <p:cNvPicPr/>
          <p:nvPr/>
        </p:nvPicPr>
        <p:blipFill>
          <a:blip r:embed="rId1"/>
          <a:stretch/>
        </p:blipFill>
        <p:spPr>
          <a:xfrm>
            <a:off x="-108000" y="148428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495" name="Retângulo 7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deb7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CaixaDeTexto 8"/>
          <p:cNvSpPr/>
          <p:nvPr/>
        </p:nvSpPr>
        <p:spPr>
          <a:xfrm>
            <a:off x="395280" y="183348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Ciências Socia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-1126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98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3" descr="C:\Documents and Settings\Marcelo.Raimo\Desktop\pps\imagens-estudos\palm.png"/>
          <p:cNvPicPr/>
          <p:nvPr/>
        </p:nvPicPr>
        <p:blipFill>
          <a:blip r:embed="rId1"/>
          <a:stretch/>
        </p:blipFill>
        <p:spPr>
          <a:xfrm>
            <a:off x="1332000" y="996840"/>
            <a:ext cx="7812000" cy="586260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504" name="CaixaDeTexto 8"/>
          <p:cNvSpPr/>
          <p:nvPr/>
        </p:nvSpPr>
        <p:spPr>
          <a:xfrm>
            <a:off x="395280" y="13320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10253f"/>
                </a:solidFill>
                <a:latin typeface="Calibri"/>
              </a:rPr>
              <a:t>- Objetivos da Au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CaixaDeTexto 9"/>
          <p:cNvSpPr/>
          <p:nvPr/>
        </p:nvSpPr>
        <p:spPr>
          <a:xfrm>
            <a:off x="289080" y="1279440"/>
            <a:ext cx="8675640" cy="42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10253f"/>
                </a:solidFill>
                <a:latin typeface="Calibri"/>
              </a:rPr>
              <a:t>- Teoria Geral dos Sistem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10253f"/>
                </a:solidFill>
                <a:latin typeface="Calibri"/>
              </a:rPr>
              <a:t>- Sistemas de Informação baseado em computado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10253f"/>
                </a:solidFill>
                <a:latin typeface="Calibri"/>
              </a:rPr>
              <a:t>- Internet, extranet e intran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10253f"/>
                </a:solidFill>
                <a:latin typeface="Calibri"/>
              </a:rPr>
              <a:t>- A Empresa como Sistema Aber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10253f"/>
                </a:solidFill>
                <a:latin typeface="Calibri"/>
              </a:rPr>
              <a:t>- Software</a:t>
            </a:r>
            <a:r>
              <a:rPr b="0" lang="pt-BR" sz="2600" spc="-1" strike="noStrike">
                <a:solidFill>
                  <a:srgbClr val="10253f"/>
                </a:solidFill>
                <a:latin typeface="Calibri"/>
              </a:rPr>
              <a:t> e </a:t>
            </a:r>
            <a:r>
              <a:rPr b="0" i="1" lang="pt-BR" sz="2600" spc="-1" strike="noStrike">
                <a:solidFill>
                  <a:srgbClr val="10253f"/>
                </a:solidFill>
                <a:latin typeface="Calibri"/>
              </a:rPr>
              <a:t>Hardw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10253f"/>
                </a:solidFill>
                <a:latin typeface="Calibri"/>
              </a:rPr>
              <a:t>- Telecomunicaçõ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10253f"/>
                </a:solidFill>
                <a:latin typeface="Calibri"/>
              </a:rPr>
              <a:t>- Rede de Computado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Elipse 8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CaixaDeTexto 9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CaixaDeTexto 10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17:13Z</dcterms:created>
  <dc:creator>marcelo.raimo</dc:creator>
  <dc:description/>
  <dc:language>en-US</dc:language>
  <cp:lastModifiedBy>marcelo.raimo</cp:lastModifiedBy>
  <dcterms:modified xsi:type="dcterms:W3CDTF">2011-04-19T19:00:29Z</dcterms:modified>
  <cp:revision>3</cp:revision>
  <dc:subject/>
  <dc:title>Slide 1</dc:title>
</cp:coreProperties>
</file>