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AB96A-5177-4C18-9A5F-FE2D9A22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415A5-6AED-46A8-845D-0802D545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0E3B8-512A-4BCF-8A92-4FD0F2C1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037EE-5B17-418A-95AA-35247951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250F4-D81A-4749-839B-19D79BEB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1DFFB-415D-4F94-B4D2-A5D4DAE4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B6732-7B27-466B-AF4B-F9E0364E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C7866-D21C-4336-8ECD-2E0BBD89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57C58-66AA-4766-B8D8-D3FF84AC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6A574-7AF5-4F10-933E-BB78E5C6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3436E-1320-4E7B-98F1-F073A51F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46D37-AD74-4B48-A972-A6696B8A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6331D-0AB7-429D-A8A4-896070F8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23E68-2886-4CBE-BB2A-7B57E829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8D292-4DCD-4D7D-8DD6-06985D12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CCC08-4F0A-4963-AC6C-806A5305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0647F-29A4-4A15-8FD2-7D131673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9142D-E946-4C54-A39B-A1F27DA6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EF111-7F19-49C0-B3EE-30C1D9A1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8FD13-AC01-4096-A129-F83FBAEF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97313-0A27-4C18-B417-7CECF531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94514-0B36-48E2-9ACB-6E2859B9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3E71B-18A2-4B49-A096-6201D1DD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220CD-5961-43A6-8510-1920760B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EFBC6-9293-4A81-BCAB-FC3A3723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1FBF7-1A49-4C7B-B431-80570622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BFEBA-E8E5-45D8-A09A-4E301872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5004D-FEF0-4F00-9EAC-AF26E44C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EF64A-40CC-41F9-ACDC-F6B092D3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A7B5B-6704-44A6-B250-75ED2260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CCC14-4363-4709-87E0-A709C243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27FCE-8363-4374-8282-9914B790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E6FE9-585F-4927-95DC-3DDEA4BA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9234D-92F0-4E42-BFCA-7D7F04C0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6F32D-9570-4304-8101-82968525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CECF7-2A24-4DCE-899B-C94F5D38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A2A50-DFC6-46C2-AA80-EF38C934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1C080-D6B9-4319-AEC3-FE09D30E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41718-BF05-4C53-A14A-13A380E6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BA25A-2AF9-423C-8E83-152A2BDC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3860A-A142-4F3E-BDA9-E48DBBC1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CDB53-2C1B-4E6C-9AD7-067B4240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8BF21-AF70-46E3-A59D-1B10DBC5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6019C-77C4-4FBD-9F2D-9DA3BD6E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95F17-F440-4122-8FEA-4E25E2DF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351-B04E-4BAD-9139-00DE2499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DC0-E2E5-458E-813E-6BA35B30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515-CF74-4E00-B6AE-51FDCCED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9C8-5EA0-4891-981B-2189686C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DB0-361B-481D-810F-382B3065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546-8E2A-4364-89B7-EAA1E5C1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6EC-2B4E-4DAF-99A0-9D7E76D8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8FE-05C7-4DCC-906E-DF466661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23D-13A8-4B64-A724-9424E7C4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B72-AF88-4DF3-912C-C8FCBB59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9F7-7BFB-4F0E-8D09-4FB5C4EE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A20-9C55-4F5D-9FAA-8F5BA9A8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5279-6FAC-4655-B820-97F5CD3E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A8E1-9067-4B22-91BD-688AF087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1879-B173-4F01-BCC4-EE5EE30B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337B-F6DF-44F7-9D3C-B4F1F1A1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B69F-7F0E-480D-B16E-96B0CC28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C5A9-CD24-4961-B5FF-6BD4674D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9C36-D77C-4262-A417-03CD0BA5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C05C-2341-4937-9387-BC2F4658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85DC-6A05-4BBD-9B63-A20AF802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2F83-F44B-45B7-9F89-EFA82FC8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7A11-E0B7-439B-9CBF-2633206E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BCBF-FD60-4AAD-A830-86D81F43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0C519-B8AF-4352-987C-8DCA9078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62C73-87AA-4A95-ABD7-2BA18CE6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BFAC7-6CD2-46B9-A377-9C58124B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8DFE3-F7A4-4696-AA90-DFA49FCF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D540-4885-452C-A470-EF8846D0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CD6DD-E2AE-49BF-BE6F-6AB22528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3B1FC-EF0E-42F9-A458-D75C07BD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5674B-0B0A-4EF3-B6E7-D8507E79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12CD3-4B05-4404-B0BE-EF271E72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4DA3C-0270-44FA-9503-0901BD09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A9A74-1585-459C-A5E7-D60656D8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F6A6C-1212-41CB-AAF2-273E3CAC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A91D6-C9EF-47E5-B33D-179B2024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954D5-3710-409A-91CD-D43D0646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4627C-042E-4E35-A6C7-4E1676C0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5F82E-0C51-428F-A79C-8069CE0F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8E7BE-415A-4B04-B37F-1CB5CDFA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D997E-1EC7-42A4-873B-6F3199EA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0C6C4-95DA-4A0F-B1EA-4F02F16C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1F3C-1D71-44AE-B774-C7C80317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A1212-9C4A-4665-99F5-1200A7C2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E3DC2-58D2-4BD2-9825-5957504C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F686B-461A-43EA-BF88-B19F5BA1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20F8F-DDC1-448B-B1C1-EDA65BC5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C98FF-DB4C-4898-BB16-DD009357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C7C80-C130-46FD-9C88-9DEB900E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C399B-9DAA-4E4B-8038-D5F8A051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28E6D-5BC5-4310-ACE1-74C64F13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F362B-8EB3-4F17-B05F-CD0F4BB6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39DF6-85D9-419B-9022-1AF4EEB8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D0AFA-B634-4700-8239-E7D25600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ACF35-00C2-4674-855F-3EB457A9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C632A-3812-4F05-96D7-ADB0C527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22DE2-8103-49E8-A74E-940FE45A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BEE95-36FA-4EB5-8D8B-0421664A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6227D-8CE8-4368-8F6A-F8119603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69946-E514-4833-BCD9-8FF44D6C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069F1-F4E1-437B-8B32-F5AAA7B4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A39DF-BB33-40AA-84C5-8ADE4E2A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D75E3-179F-4CF0-B91E-D3DDE7A9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DC6FF-3DAE-43ED-8E1D-4C6A276A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258D7-06B6-47A8-A252-817983AE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DC384-72D3-4686-866F-5DEECDC3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B5431-BF22-4009-91A2-6692A330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01FDB-1C22-4687-80E2-0ACAD849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BE262-357D-4EC4-99FC-CFC2552C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C7478-436C-439C-973B-60213864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15D35-4562-4D34-8F8F-638B26C4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6B572-6602-47C0-92D0-3C07D591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0D193-4F96-4FED-B3CD-2F22BC5E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FF349-0414-4374-8ABD-DC24A0AB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20B6-47B5-4507-A29B-6A041A4C2C7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AA8D-5C29-47C2-92AA-499BBD28F1D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0740-5BDC-4331-9FE1-37193A1F13F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329080"/>
            <a:ext cx="9144000" cy="1629000"/>
          </a:xfrm>
          <a:prstGeom prst="rect">
            <a:avLst/>
          </a:prstGeom>
          <a:solidFill>
            <a:srgbClr val="fee654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Documents and Settings\Marcelo.Raimo\Desktop\pps\tarjas\tarja_ciencias-sociais.png"/>
          <p:cNvPicPr/>
          <p:nvPr/>
        </p:nvPicPr>
        <p:blipFill>
          <a:blip r:embed="rId4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60B0-83C7-4C3E-87D0-7FB3A96E782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376C-9328-4201-8BF4-3A6696C49EB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A89B-E443-49DE-B145-0AF9F28CE7E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42BE-5F72-4880-B8A0-8B6C15B35EC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7304-5A44-466B-8C01-D540384AAF1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D246-800A-45C2-A820-A864DDF103C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A24A-FB3C-4522-8EF5-2C35DC5D072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ee65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d0d0d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Marcelo.Raimo\Desktop\pps\tarjas\tarja_ciencias-sociais.png"/>
          <p:cNvPicPr/>
          <p:nvPr/>
        </p:nvPicPr>
        <p:blipFill>
          <a:blip r:embed="rId1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95" name="Retângulo 7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iências So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-1126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332000" y="996840"/>
            <a:ext cx="7812000" cy="5862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1332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9"/>
          <p:cNvSpPr/>
          <p:nvPr/>
        </p:nvSpPr>
        <p:spPr>
          <a:xfrm>
            <a:off x="289080" y="1279440"/>
            <a:ext cx="86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e 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7:13Z</dcterms:created>
  <dc:creator>marcelo.raimo</dc:creator>
  <dc:description/>
  <dc:language>en-US</dc:language>
  <cp:lastModifiedBy>marcelo.raimo</cp:lastModifiedBy>
  <dcterms:modified xsi:type="dcterms:W3CDTF">2011-04-19T19:00:29Z</dcterms:modified>
  <cp:revision>3</cp:revision>
  <dc:subject/>
  <dc:title>Slide 1</dc:title>
</cp:coreProperties>
</file>