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EB85C-959B-44D2-BBC4-9A6DB2EB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9BA9C-9120-4BAC-B2E8-F877100B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DB23E-4768-45BD-B69F-3E778750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0D43C-DF13-427F-9065-DBB5BC75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4E7BC-7F19-4D1B-9630-E2FC6269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0C1EF-5F95-44FC-8AE0-3E406E6E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E91CF-289E-4772-8050-73D62A8D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418A3-ADBA-42FC-A7F2-9472E219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5EA1F-A090-4CC6-9500-45153456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2D1DE-9BEC-4FD5-8CB2-66865D1CD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3BD72-9772-4AE0-A6EA-F6067B84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C4FD9-4583-416B-9175-D3FB025C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40933-E8E6-4475-A001-760B0A61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DB449-5822-47EF-A47F-E81B2380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08223-38BF-47B2-B8F0-CFDF8FD4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07DA6-7E5B-43ED-8171-1A980D29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63A99-565E-4DA2-8E9B-697D4340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215E9-3F59-469C-A67A-30AA5D95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EC6DE-0C0C-408C-87CA-97F3718D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85F9F-9D4B-4950-978A-FD689CC9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2ED34-03E4-4E03-800B-C1F524C0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B3646-EB52-4278-A0C5-0AC27203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475E2-6522-4270-A23C-5400EE05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94AFF-AF1F-4C86-A4AE-66461A4D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58A74-32AA-4F4C-96A8-137D06A6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79FE6-E451-4450-B469-BAFD3E12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D1574-F390-4AB2-8059-59D616BD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3C57A-8EC5-4FA0-9D44-8FE53F33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A62C1-A0E3-46A4-BCC5-A2C9915E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4990A-E853-4C71-A21D-C6DA622D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7DA0E-A54E-4869-99E7-AC2BDF4B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838FC-03B8-490E-B735-E9AA3E4D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AADB4-CD92-41E0-9C4D-471E595E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D8DAB-C8C9-4A92-8C8E-7B69B269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C536E-703C-4BB7-8C4E-84FCD65C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FC9D1-3A8F-469D-9AAC-88C74960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DC9C3-D292-4520-997D-3D40FC48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14098-C521-49D1-ADE2-163343DE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54C26-C981-4E61-B152-A17AAB5C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0C95B-2D52-4403-A122-A3BB1109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5E8D0-4456-4174-AADB-C470C153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882BA-12CF-4418-A6FE-58959145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CD239-ECD4-49D5-A2AC-910E70EA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FAFD3-5228-41A9-8111-B40A9085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E7E6D-28ED-44F6-9996-845F415C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BA85-37E2-4008-86D4-EFD3A757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B502-8313-4BD7-B296-C13D550E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5736-C667-44A2-B604-E6932461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D3E1-564D-4056-8E5B-0386DD11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625C-7D6B-422A-BAF8-7A8BF56B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898E-7A32-4F1B-9DE6-CAAE20B2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BD2C-1037-4C4D-A7A4-978C58E8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48B5-9399-444F-9460-D91199FF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0E2E-6204-4420-BBE6-B1EC1F3E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4965-7A87-4885-9892-58789374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5969-562D-427C-8C66-A9D328CE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0F17-CEFD-4C36-A6F6-1DED8FF0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2C69-71EE-4A89-8200-F5CA5055C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A997-0744-4C26-8494-AA3513D2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DCA3-DC99-4077-AD07-76344835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66F9-E2A3-43A9-BABE-53D25B9C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5911-802E-435B-B360-DAFA3C09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9E16-2FB5-474C-92A1-0312E30F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1682-D65A-4F87-A052-76723DD6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2691-CBA2-45BE-9A25-7B646489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7F8C-68F6-4DB1-97E8-68282A0D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3B32-28E5-453C-9742-52E516A0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2F59-381B-4DD2-8AE3-D84C744C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9E4D-7118-4473-922C-9F2F24AC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0A340-D9C6-4FA5-A0BC-C8585744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DC174-052D-4586-8C68-132B383A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CD8C0-C6A5-4AFD-B930-87E36643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F1BA8-DCD6-44E3-9D93-6797577C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49579-9F01-4190-AADA-600F34C5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41992-CF77-441D-8FB6-5F9B1739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3D837-E391-4203-B2D3-B6A6E3B6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63E00-733A-435C-8470-B20C5114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2C24F-C61D-4120-9391-ED1EACDA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8CBAB-07D6-453E-A385-59BCC517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78575-5952-4677-8A2B-D2139EEB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24C9B-60CF-44B6-AC9B-3F20E956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B3488-0D65-4586-9E5E-B5E845DF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AC014-8F2C-4646-9387-9B1162E8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58428-EF0C-4699-9338-D4FB0308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A1BDC-2BAE-47E3-A425-CBC247EB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B4288-E035-47D5-B0D7-F014C308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F881E-632F-49F3-95D9-2176187D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77ACC-DC1A-4F6A-9CE3-F2381DAF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E16EA-577B-4884-B7DC-AD8A656C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7492E-16D4-4716-9760-461EAA47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30357-2166-436E-877C-036EA2E7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2ABE5-FACF-4232-BB66-85C3ABCB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6E6CC-2170-4F16-AD93-253120C2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7E87A-DCA7-4A90-A026-200F42C8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72D82-C093-4B85-9CA6-4DC9B880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C1E70-FEA1-45A4-9D8B-A67F029C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8158C-A4C9-44FF-AF57-E297A6AE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E0703-B240-4FBB-A409-0CE16383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7C357-F5AB-4A84-916E-7CE80107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F1439-6B3E-480D-A080-2AE00F3A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37F0F-D3D7-4B67-9F90-D1B5124A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CF6A5-3B2C-41A7-AA40-5F0AA0B3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7AF4A-4C3C-4F2C-8E64-6F3B0651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99248-B0D9-4AA4-B4C7-06CD89C0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086A6-8946-415A-B15C-D8B00FA9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05D81-D6B3-4398-9BE0-35AF7115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49EB8-5BE4-45E0-A8F2-3FC0AB80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625CC-516C-4A21-9CB0-75717180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E57B9-9797-4EA9-80D2-97DE7AE0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EF59A-29A0-4294-9CEA-B0A4D61A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FB88C-4F46-4B10-952E-162F3C7D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10177-5ED8-44B4-B5F5-63AE263C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CF22D-36E0-466A-885B-CABAB6A2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67536-7C63-4066-9CB1-297ECEE8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DB206-3FED-454B-AF44-F62730A6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6EF8B-6080-4481-A3E2-AF80AB1D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4C4A0-AB8E-47E3-8C0F-B6E46987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A3D24-91DF-4FDF-853E-2A7812E1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4FD05-7901-463E-A867-52276D14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0DC2E-75F5-4F3A-A95A-E1C385DA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936B-6059-43D0-A8AD-70B1481C613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02DC-B336-4FF2-B2CD-500E2CCE282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E758-2F8C-41EA-A84C-A8801B1654D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329080"/>
            <a:ext cx="9144000" cy="1629000"/>
          </a:xfrm>
          <a:prstGeom prst="rect">
            <a:avLst/>
          </a:prstGeom>
          <a:solidFill>
            <a:srgbClr val="fee654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2" descr="C:\Documents and Settings\Marcelo.Raimo\Desktop\pps\tarjas\tarja_ciencias-sociais.png"/>
          <p:cNvPicPr/>
          <p:nvPr/>
        </p:nvPicPr>
        <p:blipFill>
          <a:blip r:embed="rId4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9C88-3021-4025-AE25-9B135F0C4FE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F655-018C-47DA-B90F-DE640A8F915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67BC-95F2-442F-8798-FB486267794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6550-4839-40CE-868C-916E9FBDF67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726E-ED5A-4F86-910C-E3D8CC1A4EC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38D5-68EF-4B71-8758-92A482D25C7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C930-0D16-4F9E-8236-ED55977F865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ee654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d0d0d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C:\Documents and Settings\Marcelo.Raimo\Desktop\pps\tarjas\tarja_ciencias-sociais.png"/>
          <p:cNvPicPr/>
          <p:nvPr/>
        </p:nvPicPr>
        <p:blipFill>
          <a:blip r:embed="rId1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95" name="Retângulo 7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iências So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-1126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332000" y="996840"/>
            <a:ext cx="7812000" cy="58626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1332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9"/>
          <p:cNvSpPr/>
          <p:nvPr/>
        </p:nvSpPr>
        <p:spPr>
          <a:xfrm>
            <a:off x="289080" y="1279440"/>
            <a:ext cx="867564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Elipse 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7:13Z</dcterms:created>
  <dc:creator>marcelo.raimo</dc:creator>
  <dc:description/>
  <dc:language>en-US</dc:language>
  <cp:lastModifiedBy>marcelo.raimo</cp:lastModifiedBy>
  <dcterms:modified xsi:type="dcterms:W3CDTF">2011-04-19T19:00:29Z</dcterms:modified>
  <cp:revision>3</cp:revision>
  <dc:subject/>
  <dc:title>Slide 1</dc:title>
</cp:coreProperties>
</file>