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A51F6-BA1B-48CB-9BF1-7811DCEA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7ADDE-9BE0-4880-AF33-94A14FE5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AD3CC-6192-4E3F-95A1-D653A7E4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D2B28-BA40-4A23-B6E6-2070D73D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49A2E-CD8B-4718-AAFD-8BFD1377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042C6-4695-47D7-A558-272DCD55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EA2E0-05E6-44D2-A798-903A6464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C2AF0-42B4-467E-A7BC-1510E3CD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6D142-0227-4EE4-A03A-DAEA5174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69585-C8A7-49CB-8193-0DAFC24A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3BEAF-F9EC-4E22-B0F8-BC2DF32A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CBA21-F7B9-4697-8E8D-4C657751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E9D97-CE1F-4392-849A-92A23C92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3F866-0D3C-4084-BD05-45F93451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DC11D-8A9B-491D-A4DC-540E7DD1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D69F7-5363-4F89-9585-9B304389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4F334-C024-429E-B381-8CEEC8A6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68D26-1E61-4AEA-8BB4-6F319EE4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67251-72A0-4CBA-B685-EA46AABA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38016-A4FB-4A67-90E7-18697C5F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6BBC8-EDD6-42AA-8BF0-9BA4A674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3AB97-2DAD-4DCB-931D-C1F569A9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A7F6E-38A3-44C7-B2FC-81C910E9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6EEF4-C348-4C0F-AA7C-3EA61829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5FECB-973C-48A5-8386-F418E58F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F94F4-10D0-4521-A2A0-015413AE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1B3B5-7D71-4A3B-A019-5FA65D7F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10E27-00E2-45B1-A547-7DA7EA14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56749-2263-4159-9C14-686915CB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1DC07-298D-49BB-94B5-A4C4BF76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C0E1D-F631-47F3-80B4-89D18102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4A839-66F5-4535-BAC4-723FD908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AD322-E065-4598-AD8F-547F1017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CAA01-FC05-40C5-B523-D7C703DD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EF1C6-3BDB-41D0-B69D-BE49EF19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47249-51A0-4C5F-ACB4-C1CCC3ED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129F0-0CBE-45FF-AF9B-DCB070D3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76D0C-04B0-4A41-9D08-2193E645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0EB0A-5D83-47EA-BAC5-6B859514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18C8A-BC8D-4BFA-83AD-7B1768B9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AE8FA-704E-43E6-A2EE-E9CF188F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5E505-9D9C-4750-96F3-B7EFC680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62368-5DE6-4E29-A078-96C27A33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84540-9BE9-497B-B703-C90CBA0D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32E33-B940-4D06-9E64-69C938D9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A0A-770A-4C6C-8D5E-6660B831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813-7FA9-4B71-83E8-75A2D4E8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402-2AFC-47C8-B869-607E3D63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313-B898-42CE-85BE-B6D1DCB3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AE2-67CC-4F23-87F1-590FDF3A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BC2-430E-4D1A-9260-3F0DD71A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190-020E-443C-BFF0-6ADCADAA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755-9F35-4CC4-90AE-C427034D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608-3DBC-4A84-B510-D3E789B1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C11-A1E8-41B2-9CC6-A373F384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91F-5DB1-4E00-ACCE-67537826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48F-3B69-4869-9982-44BEA795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85B7-CF82-4928-A10A-99815950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2D49-3C2C-4D7B-B032-A97273EE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E940-C334-488E-8337-A5D313BB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E60C-25D7-4E67-A0B7-0D0350FC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1637-ABF4-4BF6-B78C-5C295911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8536-D536-40B4-8020-4E3A06CE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334D-DF0E-4BE4-96E2-CAE22F6E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BB3A-4E44-4D84-9FDF-06DA677A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F1DD-F147-4AFC-990F-7343C180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613D-F4B0-4A28-9869-F328AB8D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90B8-A88F-4284-B6CA-2C4F5E79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9DCC-874C-4F7E-8E1E-B67D6561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FA5A-44EB-410E-94DE-91771E05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487A7-7A79-4D8B-9C43-CAD0A220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5859E-4E3E-402D-BDE0-5CA361D5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6CEAE-D9EA-4045-B4B4-1E9FCB64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6FE2A-5C99-4119-B939-4B5AC296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6E3C-67DD-4F69-B6D1-1261AAD1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1D3DE-6D3D-47E8-8676-6DDDCFB8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33927-98D0-45D5-B754-132B4BE8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F8B60-BBFE-469E-B29C-B8E95AAB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949A-A572-480E-9B81-2FFAD947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E978-36A6-49F1-8ED6-01206520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3F9AA-E7EC-466D-AA1F-29AC234F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C7A09-4BC4-4E57-BDB2-1B4C4E7A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D847A-9203-41FD-8B31-E6CECE0F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CE26C-C715-42D7-A5E8-C7CD1041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86AC3-9E34-4E6E-B8D4-F2C420A5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0733C-4C1B-4CE0-9E60-F2980A1B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59617-FECA-4F86-8896-4E936F1C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6201E-5626-469F-8811-5388A28E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9D0E5-BF7F-4A3F-8AA6-DD01C624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ED0E-8186-4C3D-8C42-B72C72EB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7E9BF-BE66-4B95-9A11-3CA65978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6B843-BB21-4568-A6BF-C08F1B8C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8C6D7-32A5-401D-ABBB-7F3BECD9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B6550-A342-435E-AE94-50E9A3B6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2C423-332E-466C-B20C-68A3D449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5FC43-5B76-40E6-907C-04C6FEB6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7C670-0FA8-497D-85F3-7FBA2780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DAA6F-4507-425D-B361-BD1CAD07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DA79E-80DC-4DAD-9D91-F5B370E6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F091D-940E-4ED4-97D9-EF17E2C9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7FBBC-149D-4442-ACBF-EFF1D898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61CC7-8359-4D9D-A0D6-FFA31CD5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08953-7E44-45DD-AB60-27E1B3B6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7650D-4643-45AE-BCC0-B49D5322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23EA4-8C61-463E-A717-BA98D1A9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CE58B-F8E6-44C7-A517-174916C9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B0AA6-AE8F-43E8-BDF5-A98050DB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372B7-10CC-4109-9663-8917C816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49124-4086-45F7-A72B-EFDAB489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4E0C7-0DD0-4B8A-B998-69B8D536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3E0F7-982A-40A0-9EA2-74FF6130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569F6-16B2-4190-995F-2FA22268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2B2EF-F7EF-4C45-8341-287A3B10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07157-7E68-4FCA-8D47-05746E56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D420B-D35D-43B9-84F6-67173F33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DC0BD-3156-4493-A9DB-CEFC94D5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B83AB-ADC8-48F2-9C64-47FC82B8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6A106-8A75-4169-87C5-C8417143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B4F7F-D981-42AF-9FBC-46304019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DC6A4-F367-4856-84E2-002FC5D0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A771-6547-4EB3-BB68-6DC675764C0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E21F-15DE-4917-9936-BA9BCBE2157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AE2F-B3B6-4B66-816F-6C5BA10EF6E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329080"/>
            <a:ext cx="9144000" cy="1629000"/>
          </a:xfrm>
          <a:prstGeom prst="rect">
            <a:avLst/>
          </a:prstGeom>
          <a:solidFill>
            <a:srgbClr val="fee654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Documents and Settings\Marcelo.Raimo\Desktop\pps\tarjas\tarja_ciencias-sociais.png"/>
          <p:cNvPicPr/>
          <p:nvPr/>
        </p:nvPicPr>
        <p:blipFill>
          <a:blip r:embed="rId4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7E64-E72F-4556-BC77-37765F781DF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B00E-1B32-4E6B-A0A2-70C31137DF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A7FB-E221-445A-AA47-48E28BF6A9F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C437-0DB2-47A3-BC9C-3D35EE79479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302A-5F6B-4B1E-AF87-449F7BFD570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58DE-2DBC-49F0-81CC-51F20D93C40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BDE4-3345-4220-ADD2-B75AA9EAC65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ee65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d0d0d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Marcelo.Raimo\Desktop\pps\tarjas\tarja_ciencias-sociais.png"/>
          <p:cNvPicPr/>
          <p:nvPr/>
        </p:nvPicPr>
        <p:blipFill>
          <a:blip r:embed="rId1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95" name="Retângulo 7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iências So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-1126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332000" y="996840"/>
            <a:ext cx="7812000" cy="5862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1332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9"/>
          <p:cNvSpPr/>
          <p:nvPr/>
        </p:nvSpPr>
        <p:spPr>
          <a:xfrm>
            <a:off x="289080" y="1279440"/>
            <a:ext cx="86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e 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7:13Z</dcterms:created>
  <dc:creator>marcelo.raimo</dc:creator>
  <dc:description/>
  <dc:language>en-US</dc:language>
  <cp:lastModifiedBy>marcelo.raimo</cp:lastModifiedBy>
  <dcterms:modified xsi:type="dcterms:W3CDTF">2011-04-19T19:00:29Z</dcterms:modified>
  <cp:revision>3</cp:revision>
  <dc:subject/>
  <dc:title>Slide 1</dc:title>
</cp:coreProperties>
</file>