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71E99-0BAF-49B5-A93A-C3A90A16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1C166-0481-41D7-A4DE-FBFE27DA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6C515-174E-4678-B991-2B1C002E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25DF1-28BA-4EBC-A0CE-D1117773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FDBB7-0C2B-4D4A-97A8-0E7AE781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EC2E0-C0E9-4F34-9DD5-5DA335CF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9DCAB-880E-45AD-9DF6-44E97928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A1361-7BC0-40A2-B87A-000709C0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0D70E-258D-4B1F-8263-335E6554F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E6E75-5AF2-4E1E-B6C0-FE5C08C3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45A11-CB61-4512-A037-6599C642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9F327-E524-4448-86D1-DF91E158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6EC90-50E3-4259-8313-BA8E2903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F6642-3545-44A8-9209-C892EB5D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8D218-5583-473B-89CA-B878CAC3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DEFE0-442B-42F1-9233-D407013C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433C4-8D47-4EF4-8F93-D3B44690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4C085-F2B8-47DD-A316-DAD37625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F0170-1672-4066-A885-281CEE6D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239E4-85CF-4BC4-A649-D033D5A8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458AC-2D9C-4FB1-AD84-DBC0BC37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27806-5866-4920-B3D7-B722AF67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FEE98-0897-4875-918C-71386B09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936CB-FF4B-4F35-B2CB-44F80546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96EB1-F570-40E5-8E7D-66CEEFB2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C4B1C-2C96-4009-A32F-D51316B6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CCF3E-4179-4892-A4F2-637E4D78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384A0-3E68-4406-A491-2F7E4E0B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F647C-38AB-450F-9D5B-A29DFDDD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F6C9D-109E-499A-8543-18A1A65F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EBFFD-2A27-403E-A14D-F1487CFE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7489C-EE6A-4F37-B031-ED29023A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30749-6F87-405B-9BC9-D35AA336F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B1F8F-17B8-4DDC-A720-D1C82BD2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82FBB-6D25-42F5-8895-FFDADA0A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8C805-0B46-4535-8C99-AD96ACA4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94412-AD49-49EA-81EB-74844424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702FB-7240-457C-A1EC-C3A9CCEC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049D3-CCB3-44CA-83DE-151013C5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E58B7-762E-4ACE-BFA2-C4AFB896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CCD5B-6AA2-4BAE-82D7-87DEFE41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6A0D8-2B9C-4A50-B6A2-6D1D8E31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C1F1E-F6B5-45C2-AB64-76EA55E5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8E529-D446-4172-A30A-4E6D8B26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421CE-540D-4940-9406-AD1E4BFF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0BEE-EE20-4E4E-80D3-456DE9E5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6AF1-CD3C-4AC6-A9E7-E2D00C75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E102-36CB-4F0E-806F-C2BF1D16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8CE6-4926-4491-862A-9C20CE2A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1BD5-17AA-46E7-8D0B-BCD7F0CB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CEF7-F2D2-4AF2-B658-A989C458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0BAF-1D64-4450-A21C-2E1B2BB2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6C07-55D3-402A-9482-6E2BCEE8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E402-14D1-473B-9459-2F80F105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FDA4-A498-45E6-9D0C-46A30252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3E06-E5F1-4188-BCDA-D2438551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F0DC-2687-45AE-969D-05F12390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427D-3331-48C6-A86A-131112F8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92DB-6392-492E-9A5D-60E027D3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49E9-BE1A-4B85-B41E-1AD690DD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594C-BBD2-4543-9A9C-67F099A8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AA1A-3455-4294-90B8-929A1E8A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BEAE-B007-4CA8-9D32-2C844BB6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2F35-2928-4A67-9E47-991C72D4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9CCA-7954-409E-B8F5-1A40FC66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0332-5843-4349-8255-05B79598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5E74-5273-461A-AE9F-E76B5531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417D-AD8C-4912-82FA-BBA398B1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71FC-5980-4AB9-B886-BAC1DA3D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E90D3-8AF0-4D40-AD18-D0EBCF69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BC1B4-8E71-4E84-BD5E-6404E8F0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C407E-87FA-429C-BECF-C1277384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3A795-F0F1-4938-A3C1-266DA355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482B9-D076-4A67-AE18-031B17DC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D3B56-2A40-4134-9C2C-083B811C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E8DEC-BE20-4161-A204-42DEB623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2002D-9A31-4319-9258-3FA3B010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768ED-4098-48BC-886D-95062E71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02623-0C60-4FDA-81BE-2E50DC57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17BDC-D35B-4AE3-ABBE-5176F331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67381-0349-4CED-99FC-4C53AEEE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C5E32-062F-44F8-90E6-46BCBC8C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25894-0568-4F59-8522-5EB7A23C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5133A-29E5-484A-A5C8-77730D3D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55E55-EDD5-4B42-9F7C-798DFF98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D82CB-BAB9-4377-859A-5634034E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14DE1-F8D2-41E4-9B9A-C306DC62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1F811-A0E2-4F86-9875-2165737F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54940-41A4-4FCD-990B-C223F9D8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BBE16-35DC-44F2-9BB4-6357DF5D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94EC5-E2EC-4DB6-A6F0-2E0A078E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EBFA3-FA94-47D0-92CE-075666F8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01594-A0BB-4874-867C-56709C0E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8E70A-3210-42E5-A2E4-7243E1B7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C4319-84B7-4E55-B9F3-537C40BC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2F3BF-DBA1-4899-8DB6-58CDE741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F1888-EAFF-421A-87DF-909C592E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140E0-8F91-41BB-B0FA-BFA7121D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433AD-ED8A-4F55-A232-78814D60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65EDA-5744-4BC1-B6CA-ECEBABA4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D54B1-64C5-4FC5-81D0-BE758EE3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A95F2-6BA0-4704-83B0-433A3CA6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3582A-B1F6-459A-BB20-03F341BE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4C092-1EB4-434A-9803-879DE817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DC90D-51EA-4026-B6B2-D611EF02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D1B95-7F44-4632-A0BC-3A52D044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F6B6B-DAA4-4396-B84C-11ABDD48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648BC-8184-4109-AB38-816C1117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6EA55-478F-4D1D-9C41-77EB60BD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75649-EF32-4158-A655-EAE6FE0C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05BD1-8D73-437D-B89C-33B900FF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E003B-EC2B-4B7E-BE57-C9EA9EB8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590FB-56EE-4833-8DA1-584C4C82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36B7C-1F94-45D5-8389-20A0FE13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24507-5049-4B7E-B5E6-BA47BD24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D5F01-76E1-4AA9-B6E3-A42E35FD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11F34-B8DE-48AF-B201-FD6B0F3D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4A73A-F0F9-4C67-95C9-360020CB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A7BF3-2ABB-41EB-8FDA-CB28F0FE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033F0-0285-4E6B-85C7-C4F41677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49B5-79BF-402E-8F1F-C37ECD90727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2ED9-10D4-4A8B-B256-BEA7CD5E476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5699-2F88-4EB4-8CCA-FD234856B8A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0" name="Retângulo 3"/>
          <p:cNvSpPr/>
          <p:nvPr/>
        </p:nvSpPr>
        <p:spPr>
          <a:xfrm>
            <a:off x="0" y="5329080"/>
            <a:ext cx="9144000" cy="1629000"/>
          </a:xfrm>
          <a:prstGeom prst="rect">
            <a:avLst/>
          </a:prstGeom>
          <a:solidFill>
            <a:srgbClr val="fee654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2" descr="C:\Documents and Settings\Marcelo.Raimo\Desktop\pps\tarjas\tarja_ciencias-sociais.png"/>
          <p:cNvPicPr/>
          <p:nvPr/>
        </p:nvPicPr>
        <p:blipFill>
          <a:blip r:embed="rId4"/>
          <a:stretch/>
        </p:blipFill>
        <p:spPr>
          <a:xfrm>
            <a:off x="-108000" y="148428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deb7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85A6-1703-44F7-83CA-41B35BC46BA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C092-5A9E-4DD3-A6C6-566B6B35324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3E28-4A29-4A51-9D1A-1755E664C2F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3344-8DB8-4EB9-B629-279D6B05F68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3101-6BE8-4D47-BEAA-67F43D78632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48AA-A686-4C3F-873C-5264D3396D1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E49A-C8B7-4C8E-A170-19267903E72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ee654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d0d0d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C:\Documents and Settings\Marcelo.Raimo\Desktop\pps\tarjas\tarja_ciencias-sociais.png"/>
          <p:cNvPicPr/>
          <p:nvPr/>
        </p:nvPicPr>
        <p:blipFill>
          <a:blip r:embed="rId1"/>
          <a:stretch/>
        </p:blipFill>
        <p:spPr>
          <a:xfrm>
            <a:off x="-108000" y="148428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95" name="Retângulo 7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deb7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iências So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-1126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332000" y="996840"/>
            <a:ext cx="7812000" cy="58626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13320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9"/>
          <p:cNvSpPr/>
          <p:nvPr/>
        </p:nvSpPr>
        <p:spPr>
          <a:xfrm>
            <a:off x="289080" y="1279440"/>
            <a:ext cx="867564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6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Elipse 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7:13Z</dcterms:created>
  <dc:creator>marcelo.raimo</dc:creator>
  <dc:description/>
  <dc:language>en-US</dc:language>
  <cp:lastModifiedBy>marcelo.raimo</cp:lastModifiedBy>
  <dcterms:modified xsi:type="dcterms:W3CDTF">2011-04-19T19:00:29Z</dcterms:modified>
  <cp:revision>3</cp:revision>
  <dc:subject/>
  <dc:title>Slide 1</dc:title>
</cp:coreProperties>
</file>