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5D07-9D8A-43BF-AE1B-19A8DE00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2F32-5C66-4EB2-A797-856B8295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0AE-EC6F-4D5C-9616-98B220B2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E68-E713-4A7E-A5D8-6556D8B8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25D-01BF-4BDF-A377-92B9B2D8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0A1-3466-4CA3-9D56-CB114CED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5192-52E4-4EE7-96E5-47445B9E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ED6-72F0-449B-8FB2-6B29EBEB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D67-3AD9-4DB2-AC94-83C67CB9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1B4-6CD6-4D2B-ABE5-A49CD61C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5DC-56B7-44C3-A2FD-5DD0D42E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EED-E2D4-452F-AD03-8C5F2A38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4CAB-40DB-4434-87E9-A519C7470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09Z</dcterms:created>
  <dc:creator>IMS</dc:creator>
  <dc:description/>
  <dc:language>en-US</dc:language>
  <cp:lastModifiedBy>IMS</cp:lastModifiedBy>
  <dcterms:modified xsi:type="dcterms:W3CDTF">2008-09-09T17:30:12Z</dcterms:modified>
  <cp:revision>3</cp:revision>
  <dc:subject/>
  <dc:title>Slide 1</dc:title>
</cp:coreProperties>
</file>