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758E-B5F9-4AB4-982B-EDFE7ECD2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26B9-BCD3-47FB-A3BA-900FAC630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AAE4-7334-4A48-83A8-B4554E479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6B91-7627-4328-BF0C-BC695FF6A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E482-0FAB-4981-A010-4890A7AA3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A1D7-2EFE-4F88-9D39-9FB5EFC10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C30C-0131-4622-88E6-89A2FC411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86EC-92A0-4E45-8DD2-060981F10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8FBF-73E1-4471-880F-6765F9280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A0D1-1ED9-4916-8E77-FC476396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3859-AF4A-4143-AFE6-83F086B63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D094-BCD9-44C6-BFF9-9C4D41DC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0FF7C-0326-4761-9CE7-6AD6DA6B7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2360" y="2133720"/>
            <a:ext cx="450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1800"/>
                </a:solidFill>
                <a:latin typeface="Arial"/>
              </a:rPr>
              <a:t>Matéria: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508464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1800"/>
                </a:solidFill>
                <a:latin typeface="Arial"/>
              </a:rPr>
              <a:t>Profa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1394200">
            <a:off x="5651280" y="6890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1800"/>
                </a:solidFill>
                <a:latin typeface="Arial"/>
              </a:rPr>
              <a:t>Curso: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9280" y="1919160"/>
            <a:ext cx="857880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1800"/>
                </a:solidFill>
                <a:latin typeface="Arial"/>
              </a:rPr>
              <a:t>Texto -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11280" y="4565520"/>
            <a:ext cx="52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1800"/>
                </a:solidFill>
                <a:latin typeface="Arial"/>
              </a:rPr>
              <a:t>Destaque- Arial 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4508640"/>
            <a:ext cx="1584360" cy="863640"/>
          </a:xfrm>
          <a:custGeom>
            <a:avLst/>
            <a:gdLst>
              <a:gd name="textAreaLeft" fmla="*/ 247320 w 1584360"/>
              <a:gd name="textAreaRight" fmla="*/ 1386360 w 158436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9040" y="1031760"/>
            <a:ext cx="81820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1800"/>
                </a:solidFill>
                <a:latin typeface="Arial"/>
              </a:rPr>
              <a:t>Título Arial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7:27:09Z</dcterms:created>
  <dc:creator>IMS</dc:creator>
  <dc:description/>
  <dc:language>en-US</dc:language>
  <cp:lastModifiedBy>IMS</cp:lastModifiedBy>
  <dcterms:modified xsi:type="dcterms:W3CDTF">2008-09-09T17:30:12Z</dcterms:modified>
  <cp:revision>3</cp:revision>
  <dc:subject/>
  <dc:title>Slide 1</dc:title>
</cp:coreProperties>
</file>