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9700-E7A9-4D2F-BDCF-C22EE8A52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A09D-357A-40D2-87B2-68E0A2661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5A4D-720B-41D1-9EE4-713622FCA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ACE3-4721-4A45-9899-DED3900B7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EC18-5042-43A6-9D7A-A44E535CF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64D0-E51F-49B3-91D9-FA0D02074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5ED1-F9E6-413F-B70F-11E2C2C5A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3A5A-8524-4DDF-9549-1384B6D72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7015-829D-4B19-B71E-14BB56847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9B68-2F21-4A61-9590-A6E251A9F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D0BB-1DC8-4793-9714-604742219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5A8B-CD48-47CF-AFB5-6F9E39732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978CF-155C-4477-8200-D2A64574FC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2360" y="2133720"/>
            <a:ext cx="450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01800"/>
                </a:solidFill>
                <a:latin typeface="Arial"/>
              </a:rPr>
              <a:t>Matéria: Arial 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771640" y="5084640"/>
            <a:ext cx="41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1800"/>
                </a:solidFill>
                <a:latin typeface="Arial"/>
              </a:rPr>
              <a:t>Profa.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21394200">
            <a:off x="5651280" y="68904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1800"/>
                </a:solidFill>
                <a:latin typeface="Arial"/>
              </a:rPr>
              <a:t>Curso: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79280" y="1919160"/>
            <a:ext cx="8578800" cy="42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be0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1800"/>
                </a:solidFill>
                <a:latin typeface="Arial"/>
              </a:rPr>
              <a:t>Texto -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be0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11280" y="4565520"/>
            <a:ext cx="52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1800"/>
                </a:solidFill>
                <a:latin typeface="Arial"/>
              </a:rPr>
              <a:t>Destaque- Arial 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116000" y="4508640"/>
            <a:ext cx="1584360" cy="863640"/>
          </a:xfrm>
          <a:custGeom>
            <a:avLst/>
            <a:gdLst>
              <a:gd name="textAreaLeft" fmla="*/ 247320 w 1584360"/>
              <a:gd name="textAreaRight" fmla="*/ 1386360 w 1584360"/>
              <a:gd name="textAreaTop" fmla="*/ 216000 h 863640"/>
              <a:gd name="textAreaBottom" fmla="*/ 648000 h 863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9040" y="1031760"/>
            <a:ext cx="818208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01800"/>
                </a:solidFill>
                <a:latin typeface="Arial"/>
              </a:rPr>
              <a:t>Título Arial 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7:27:09Z</dcterms:created>
  <dc:creator>IMS</dc:creator>
  <dc:description/>
  <dc:language>en-US</dc:language>
  <cp:lastModifiedBy>IMS</cp:lastModifiedBy>
  <dcterms:modified xsi:type="dcterms:W3CDTF">2008-09-09T17:30:12Z</dcterms:modified>
  <cp:revision>3</cp:revision>
  <dc:subject/>
  <dc:title>Slide 1</dc:title>
</cp:coreProperties>
</file>