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3AFE7-056F-43C6-A0F3-B4040DABA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C66AC-EC46-483E-B5E3-3629A7180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FDFF5-EC02-4CB6-9DED-8123CC390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CB63D-3EF2-473A-A54E-3A9012147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B1062-436F-4C54-86C1-9AE65114B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27744-F6B1-4403-BEEC-B801A21C6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9ED2D-BEF2-4D98-91FE-AC85CB217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9D905-6EB8-4572-AD74-324714B0F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34F5E-6200-4ECA-BA32-BD7649459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4FBB5-2837-4968-91B6-8163B8D55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0B024-4898-473E-A93D-6C3B3A534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2C3C2-81C1-46D0-8062-EFF8A3303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B997D-5140-4ABF-A4FC-9917AB4F27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2360" y="2133720"/>
            <a:ext cx="450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001800"/>
                </a:solidFill>
                <a:latin typeface="Arial"/>
              </a:rPr>
              <a:t>Matéria: Arial 4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771640" y="5084640"/>
            <a:ext cx="410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1800"/>
                </a:solidFill>
                <a:latin typeface="Arial"/>
              </a:rPr>
              <a:t>Profa. Arial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rot="21394200">
            <a:off x="5651280" y="68904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1800"/>
                </a:solidFill>
                <a:latin typeface="Arial"/>
              </a:rPr>
              <a:t>Curso: Arial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79280" y="1919160"/>
            <a:ext cx="8578800" cy="424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be0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1800"/>
                </a:solidFill>
                <a:latin typeface="Arial"/>
              </a:rPr>
              <a:t>Texto - Arial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be0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11280" y="4565520"/>
            <a:ext cx="525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1800"/>
                </a:solidFill>
                <a:latin typeface="Arial"/>
              </a:rPr>
              <a:t>Destaque- Arial 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116000" y="4508640"/>
            <a:ext cx="1584360" cy="863640"/>
          </a:xfrm>
          <a:custGeom>
            <a:avLst/>
            <a:gdLst>
              <a:gd name="textAreaLeft" fmla="*/ 247320 w 1584360"/>
              <a:gd name="textAreaRight" fmla="*/ 1386360 w 1584360"/>
              <a:gd name="textAreaTop" fmla="*/ 216000 h 863640"/>
              <a:gd name="textAreaBottom" fmla="*/ 648000 h 863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bbe0e3"/>
              </a:gs>
              <a:gs pos="100000">
                <a:srgbClr val="56676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9040" y="1031760"/>
            <a:ext cx="8182080" cy="9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001800"/>
                </a:solidFill>
                <a:latin typeface="Arial"/>
              </a:rPr>
              <a:t>Título Arial 4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7:27:09Z</dcterms:created>
  <dc:creator>IMS</dc:creator>
  <dc:description/>
  <dc:language>en-US</dc:language>
  <cp:lastModifiedBy>IMS</cp:lastModifiedBy>
  <dcterms:modified xsi:type="dcterms:W3CDTF">2008-09-09T17:30:12Z</dcterms:modified>
  <cp:revision>3</cp:revision>
  <dc:subject/>
  <dc:title>Slide 1</dc:title>
</cp:coreProperties>
</file>