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ED2-ECE3-42AA-BA3E-7EA4AE09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5B8-CBCE-40DA-8A4A-517A58F4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EAE-16CA-4B20-8D03-CEC62CBA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C9E-6D67-4163-AF58-3A8C3112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301-873D-4FB8-9B74-04C8A86F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6BD5-588B-4CB2-816D-0F6F8D87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C7A-DB8F-45A5-AC3E-945E6BA9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BDA-9AE2-4FDE-9031-5095C5B4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CED-A116-4A80-8FE5-6C47DB65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20B9-1D15-4BBA-A76C-26F2E390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095-D7EA-4D90-8994-E1ECF460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E67-ED5F-4035-8E6D-E0DB7843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7E79-6E6F-4380-9F47-1039BC99F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09Z</dcterms:created>
  <dc:creator>IMS</dc:creator>
  <dc:description/>
  <dc:language>en-US</dc:language>
  <cp:lastModifiedBy>IMS</cp:lastModifiedBy>
  <dcterms:modified xsi:type="dcterms:W3CDTF">2008-09-09T17:30:12Z</dcterms:modified>
  <cp:revision>3</cp:revision>
  <dc:subject/>
  <dc:title>Slide 1</dc:title>
</cp:coreProperties>
</file>