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63CF-60BA-405E-BB8C-E1C71FEA2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FA17-3F7A-4CC7-981E-D5C38CA00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810A-8C62-4613-8155-04157BE77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7EDA-3BE7-413B-9037-B186497CC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F4E7-16E4-44D5-A38F-B43E7DD86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7739-6505-4C8E-A520-13BCAB606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A279-7970-4810-BCF7-D6E849391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E6ED-0502-42EC-84A6-45AEE6337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13A7-1F80-467C-AA77-C1F9BC1FC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99F5-F37C-4A38-9156-120A11E6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5FE2-DDF9-4493-BD6A-F10C8293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5EF9-C104-4970-A74C-88FB6EE0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2C9A5-0C92-42DC-8640-3C83AA6E0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641800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641800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641800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41800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641800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641800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27:30Z</dcterms:created>
  <dc:creator>IMS</dc:creator>
  <dc:description/>
  <dc:language>en-US</dc:language>
  <cp:lastModifiedBy>IMS</cp:lastModifiedBy>
  <dcterms:modified xsi:type="dcterms:W3CDTF">2008-09-09T17:30:42Z</dcterms:modified>
  <cp:revision>3</cp:revision>
  <dc:subject/>
  <dc:title>Slide 1</dc:title>
</cp:coreProperties>
</file>