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F571-F4D9-4F6C-8DD1-E6E6EEE59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9B62-5EED-4AEE-BE5A-12C5BE9D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89CD-AE96-4C45-9DDC-029E80D2A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5557-8D6B-451B-9EA8-5C459CB50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75D2-EF2A-484B-97AE-4EB6CABF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5933-C2C7-4C30-A62C-CEE59489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5CDA-1EA8-4B4F-AB55-A4007CF6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FC78-6B50-44CB-87B3-37D009FD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FA30-8240-4BFF-8E9B-42AC8289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0817-9C52-4607-BA45-3CE4CB1C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08C9-F5B1-462D-A170-A7D8F406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9D4F-095F-4048-914C-8507CF7A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39EC-951A-40B3-8EE7-9DF38849F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8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48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7:47Z</dcterms:created>
  <dc:creator>IMS</dc:creator>
  <dc:description/>
  <dc:language>en-US</dc:language>
  <cp:lastModifiedBy>IMS</cp:lastModifiedBy>
  <dcterms:modified xsi:type="dcterms:W3CDTF">2008-09-09T17:27:57Z</dcterms:modified>
  <cp:revision>2</cp:revision>
  <dc:subject/>
  <dc:title>Slide 1</dc:title>
</cp:coreProperties>
</file>