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ABA-B028-4949-A450-0676AD75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E9A-1739-4101-B885-5A6A19FB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BF88-079D-4C22-8517-81EC4024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141-9C02-4DB3-BE71-FDA02CB1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730-FCC6-4429-BEDB-989938A5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C5FC-7BE2-43B0-B740-70CFA12E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56B-B53E-460E-B0F1-9C8A66BE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C69E-E96B-4FEB-8FC0-8EC2AA0C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BCC-ED97-40AF-A92C-2B8B875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11B-12C6-430E-9D0F-7097F3F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09F-B8F6-4A85-9188-517CEF33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CC6-9974-495D-8C51-5268730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6BE-F7DA-46DD-808D-DD36A16D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47Z</dcterms:created>
  <dc:creator>IMS</dc:creator>
  <dc:description/>
  <dc:language>en-US</dc:language>
  <cp:lastModifiedBy>IMS</cp:lastModifiedBy>
  <dcterms:modified xsi:type="dcterms:W3CDTF">2008-09-09T17:27:57Z</dcterms:modified>
  <cp:revision>2</cp:revision>
  <dc:subject/>
  <dc:title>Slide 1</dc:title>
</cp:coreProperties>
</file>