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3DFB-4FE8-47E2-A8E2-3E44BA5C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48A-6BED-451B-81C4-B3A6BECF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DE7B-FF06-4687-81B1-521C6D70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EDC7-9191-472A-A8BB-7F52E819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8635-A7DD-4FEB-AB6E-2BD6EED9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7BE3-A9A0-48D9-95B6-39B813E8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237F-D909-48EB-A059-2F188A47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5AB0-22C8-4D5D-B5DD-597F5EB5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3497-18C3-4476-9841-A32AEC47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9351-ACF0-4902-95F6-19F58919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F751-90E3-4E80-BA25-D45E08C0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5843-5CE5-4D6F-B751-A8F93BBD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B801-BC19-4D56-9A78-645F04807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47Z</dcterms:created>
  <dc:creator>IMS</dc:creator>
  <dc:description/>
  <dc:language>en-US</dc:language>
  <cp:lastModifiedBy>IMS</cp:lastModifiedBy>
  <dcterms:modified xsi:type="dcterms:W3CDTF">2008-09-09T17:27:57Z</dcterms:modified>
  <cp:revision>2</cp:revision>
  <dc:subject/>
  <dc:title>Slide 1</dc:title>
</cp:coreProperties>
</file>