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8486-2A01-4FA6-A438-7D7D4A624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D768-68D1-4B22-B59C-F6B2E3F9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C497-7A86-4272-AD8D-BF28DFEB2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6E07-38E0-4AC9-B157-A23308F44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CE92-4A19-432F-9A15-0C6B3428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A0D1-2FE7-4210-9317-0AF32D3A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1999-055A-4040-BF07-1BA0A5B1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A7F0-CB0C-494B-A26F-BEE75E79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F581-EB56-45D6-8E8A-587DBD22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6FF1-CAAD-4FC6-94B5-34BA6F91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C245-CC4A-4A2E-B5DE-A7126ACC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A35B-A862-45FE-831E-6E0AEB29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95F6-27F3-41F4-BE1C-A8B1787AF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18:25Z</dcterms:created>
  <dc:creator>IMS</dc:creator>
  <dc:description/>
  <dc:language>en-US</dc:language>
  <cp:lastModifiedBy>IMS</cp:lastModifiedBy>
  <dcterms:modified xsi:type="dcterms:W3CDTF">2008-09-09T17:31:03Z</dcterms:modified>
  <cp:revision>4</cp:revision>
  <dc:subject/>
  <dc:title>Slide 1</dc:title>
</cp:coreProperties>
</file>