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11A-46F1-4BAC-8B5F-0F862F46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9D7-5828-4CC7-8D5E-429A7C56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0AE-4F09-4CE4-BB67-9D911D72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DA1B-B264-468A-88FD-71618181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8C1B-3380-4E0D-AD0C-88934BF4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FE35-425D-436E-92EA-EBBBE569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E68-0E61-434D-9BDD-BCCDEC84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F17-2ED8-463B-AAB3-5148A9FD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BB27-1344-4802-A4E3-95908552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DDF3-8ADF-4634-922C-551B6E2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C45-C8A0-4388-BD3B-ECCFECBC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71E1-B938-43E3-A5ED-E6E688C3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4057-8F40-4DA5-8ABC-2AD3F82E5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48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48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48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19:11Z</dcterms:modified>
  <cp:revision>1</cp:revision>
  <dc:subject/>
  <dc:title>Slide 1</dc:title>
</cp:coreProperties>
</file>