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C878-1A47-481E-AE43-2F72D9F01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C6F2-9E4A-4BFA-858C-E49D615F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83E6-D32A-421D-8962-C8F01D65B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1E8D-ED0B-46D1-A2B6-D48049430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E240-7917-440C-85DB-7E426440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4D37-7B3F-41F2-A906-46EB0F6C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4967-436F-4ED2-BB59-C6EB7DB1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FE50-CB3A-4B13-8104-245A27D3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FA1F-70CF-49B7-B18E-49486CB5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7BBB-660B-4D68-9616-E8E22E96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767D-8FF1-44DC-A194-9DAC31D4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9F2C-4177-4358-A4D9-12F2A871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79A9-0F68-48D5-9067-DE0195BF0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18:25Z</dcterms:created>
  <dc:creator>IMS</dc:creator>
  <dc:description/>
  <dc:language>en-US</dc:language>
  <cp:lastModifiedBy>IMS</cp:lastModifiedBy>
  <dcterms:modified xsi:type="dcterms:W3CDTF">2008-09-09T17:19:11Z</dcterms:modified>
  <cp:revision>1</cp:revision>
  <dc:subject/>
  <dc:title>Slide 1</dc:title>
</cp:coreProperties>
</file>