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7027-BF5D-4251-886D-64F28F5D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BE3-26E3-4D84-B82A-13E31A98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BD8-1871-4D7B-885E-CB8EB0AF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5E26-17C6-4C3B-9D6D-7AD0572C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F89C-7046-4DEE-8548-658E2AF5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661-8173-4E60-B8B0-3D3FD5A9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1D71-F7E2-465B-87A6-7AF577DD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704-C012-4AD9-BD1C-2BD90E13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B07-D984-4823-8135-350D25A1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D45-6AB6-4189-ADCF-217B8C3C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5AF-CD00-4D40-AAF0-CBB3EDD4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9B7-C711-4188-8000-D3D3610E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9ED1-48FD-4829-8929-535F40F5E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19:11Z</dcterms:modified>
  <cp:revision>1</cp:revision>
  <dc:subject/>
  <dc:title>Slide 1</dc:title>
</cp:coreProperties>
</file>