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B90B-7285-4CF8-BC01-F677F4FE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81D-5A8D-46A2-A4BA-37468DF1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B13E-284E-4648-895C-2537726A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9EC2-2E12-4D94-8165-1F1EFB24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D28F-1B2C-4915-8151-93131707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FC08-7ACF-43E4-A63D-E3AA7F9E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9799-6BEF-4BA6-8993-AE7FF5D3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6A8C-A368-4542-BB84-9FCBBA6E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765B-3138-40A4-94F6-CE41FF35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E03D-0DE1-4C06-B16D-D22F60A4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B259-41FC-4CEF-9BDD-EC433931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2F88-AB78-44E2-942E-23487349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BD87-4025-4174-9745-ACA416FA5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19:11Z</dcterms:modified>
  <cp:revision>1</cp:revision>
  <dc:subject/>
  <dc:title>Slide 1</dc:title>
</cp:coreProperties>
</file>