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918A-9792-425A-8B8E-C1BD37789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2734-A09E-4E0D-ABA4-9498B615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AB8F-F796-4B81-B3A1-C017BA9E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5256-2F76-4FAD-9F67-37BC13231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3782-6ECB-4154-AA48-4100B0F8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B795-C0B3-4C27-8C1A-7A0FA0D2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DC0D-9E17-44D6-83EC-920BF598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B118-8CD2-4409-BA5B-5ABB8B2B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885D-392B-4A99-91C9-720E5F4B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8433-044C-4FDA-A93D-01911DFA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BD31-404A-42AC-9E03-3B579C3D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C5C6-37EE-4494-8094-64279F72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8CEA-C522-44E7-B6FB-7F73B169E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9:09:17Z</dcterms:created>
  <dc:creator>IMS</dc:creator>
  <dc:description/>
  <dc:language>en-US</dc:language>
  <cp:lastModifiedBy>IMS</cp:lastModifiedBy>
  <dcterms:modified xsi:type="dcterms:W3CDTF">2007-10-25T19:09:34Z</dcterms:modified>
  <cp:revision>1</cp:revision>
  <dc:subject/>
  <dc:title>Slide 1</dc:title>
</cp:coreProperties>
</file>