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0410-1C81-4B1C-8A82-5C0CC8848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4C1D-019C-4225-B7BB-2A0785FE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78DF-6E26-4F98-8CA6-834A5A68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5C66-4F9B-478A-88EC-13B699AA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7A61-7809-4596-9446-D4C1F33B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F69F-BBEF-4A0C-8692-B2776E38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659B-3C9C-4CF7-A1A3-B987B308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997E-866D-47BD-A6C9-C8C5A3CD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A9D9-2665-4C15-84A6-57A804A0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A9C0-7347-4258-9E9B-B04431DD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CF56-1E4B-49CA-9CF1-A6F8EE95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2032-C793-4225-8685-6FA2347E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D521-18EF-4944-BE36-163A87D4F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9:09:17Z</dcterms:created>
  <dc:creator>IMS</dc:creator>
  <dc:description/>
  <dc:language>en-US</dc:language>
  <cp:lastModifiedBy>IMS</cp:lastModifiedBy>
  <dcterms:modified xsi:type="dcterms:W3CDTF">2007-10-25T19:09:34Z</dcterms:modified>
  <cp:revision>1</cp:revision>
  <dc:subject/>
  <dc:title>Slide 1</dc:title>
</cp:coreProperties>
</file>