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89E-0289-4056-A0DA-1E85DBAB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4AC2-9886-48A7-8840-CF1D235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113-CBDD-429C-A89E-18A0532B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481-3F22-4594-A1FB-A715142C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8976-548C-44D4-84FA-C61237B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D93-72ED-4202-9032-EF7774A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9E43-665C-497C-949C-80D4295D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663-0B39-4B35-98A1-F659D48C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CF3-7867-4779-BE67-7114C95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4C2-D8E8-4902-9261-9609FF17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F50-38BC-4629-B9A6-C765036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B577-0285-4ECC-8C81-12CC9B7A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4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FED-3041-4ABD-B19D-8A3513392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4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9:09:17Z</dcterms:created>
  <dc:creator>IMS</dc:creator>
  <dc:description/>
  <dc:language>en-US</dc:language>
  <cp:lastModifiedBy>IMS</cp:lastModifiedBy>
  <dcterms:modified xsi:type="dcterms:W3CDTF">2007-10-25T19:09:34Z</dcterms:modified>
  <cp:revision>1</cp:revision>
  <dc:subject/>
  <dc:title>Slide 1</dc:title>
</cp:coreProperties>
</file>