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4276-5F5B-4644-92A1-C042E688A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03BF-CF9F-4BC7-8E03-D8E24DBB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4098-38F3-4421-82E1-34164F50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7904-BA51-48DC-ADA7-7307EAAE7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8875-0DE6-4C60-8506-F2210C80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EE0F-6ACD-47C9-B4F0-FE90F23B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A746-44AF-41A9-B425-AFEB8243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FEF6-9C11-439F-B157-93BBD454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46A5-9AD4-4C1F-83AD-A16D58BB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1C6E-7E33-402C-9DEF-1639A276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1A1D-42C3-4CDE-865C-FDD8BEBF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C525-E21A-4F9B-9DF3-6B768C4B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DA46-DF5B-419C-B158-C2B91183D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5T19:12:15Z</dcterms:modified>
  <cp:revision>6</cp:revision>
  <dc:subject/>
  <dc:title>Slide 1</dc:title>
</cp:coreProperties>
</file>