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142E-E859-451B-AA53-661006679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14CA-F9F5-4265-815F-AB9A3F916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7513-8604-4671-B2C9-7D58D0721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1A0A-50B2-4B11-ACDE-8FCFC18AE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4A92-012C-4AE6-BD6D-4FF5BD4F6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7C24-20E6-4184-8C44-8AC0AF909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519A-E9EA-4FBB-BB91-0A97F93C5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73AD-A222-4510-945D-80D51249B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0325-C7AB-4A4A-AC80-B824EC3A4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9766-518A-4315-ABE1-5117B9DE5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A146-EEE5-478E-9970-A711992B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72D9-98C7-4C7A-BD95-F7942C1B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12BB8-28E3-4C54-8EB8-AC519104C1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0:25:35Z</dcterms:created>
  <dc:creator>IMS</dc:creator>
  <dc:description/>
  <dc:language>en-US</dc:language>
  <cp:lastModifiedBy>IMS</cp:lastModifiedBy>
  <dcterms:modified xsi:type="dcterms:W3CDTF">2007-10-25T19:12:15Z</dcterms:modified>
  <cp:revision>6</cp:revision>
  <dc:subject/>
  <dc:title>Slide 1</dc:title>
</cp:coreProperties>
</file>