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29B6-E6FD-4EA4-B857-72F237F4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15E-7294-4906-8BB5-47069417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2FD-A34F-48F0-97C9-CD902943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8E1-AD2E-4D9D-821E-7F792104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A78-D764-4720-9A6C-0D9FB549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4DB-5D87-4B31-B252-E6B80F10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76F-08B1-48C5-BC4B-0BCB072A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0E6-E642-4731-AD1F-D784482E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3DA-4685-4527-856C-2FE78712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8512-8172-48E0-8451-CE6BDF05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AB5-94AA-4B3A-A987-E7CE68AE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601A-FC3C-4B92-BB21-B8265837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5CE9-F915-4BF7-A157-5CC44C8A8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0:25:35Z</dcterms:created>
  <dc:creator>IMS</dc:creator>
  <dc:description/>
  <dc:language>en-US</dc:language>
  <cp:lastModifiedBy>IMS</cp:lastModifiedBy>
  <dcterms:modified xsi:type="dcterms:W3CDTF">2007-10-25T19:12:15Z</dcterms:modified>
  <cp:revision>6</cp:revision>
  <dc:subject/>
  <dc:title>Slide 1</dc:title>
</cp:coreProperties>
</file>