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150B-8259-4155-BFB4-63F42098F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FE45-3AB6-431C-A254-EC90F7B9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1909-4149-45F6-8A57-240249213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0A85-B138-428E-8004-5E10FDF7F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D9D2-444F-443C-9F9C-7EAD522A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1A40-3618-486B-8F2A-8047C7299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DBD8-B3D8-4BF8-8701-D82E7370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9EF3-2127-402E-B44D-941EC6F6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8266-BE58-4FB7-BB69-7C63BA30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CD53-51D9-4E76-A35B-F2EB9950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C41A-A0E0-401C-A296-C602AB0A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6A1A-4AEB-4292-8BD0-83187290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B9FE-EF79-43B1-B884-93794DBF3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4T20:28:44Z</dcterms:modified>
  <cp:revision>8</cp:revision>
  <dc:subject/>
  <dc:title>Slide 1</dc:title>
</cp:coreProperties>
</file>