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933D-8945-41C2-9580-9752BF3C1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80F2-2F82-45B4-BE10-1076A06E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C856-4070-461F-8097-6C76CBE10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6F2C-78D7-4515-AE98-F54BAE215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DB01-7E96-4C8B-940E-D34E98E2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5A1C-F69C-4D93-8320-7F9BEB85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B832-FB8E-4070-A746-01B5DDF1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8C02-ED4C-4BF8-8791-052F6ABF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CDEC-43E6-4215-816B-F1350259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149C-6794-4835-A42E-DF88AD81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27C8-5026-4A82-AD9B-3206FDEB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8DD9-F001-49B2-9DA2-028D24F4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21E0-3624-4681-B0BD-5C2B1F81A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7:52Z</dcterms:created>
  <dc:creator>IMS</dc:creator>
  <dc:description/>
  <dc:language>en-US</dc:language>
  <cp:lastModifiedBy>IMS</cp:lastModifiedBy>
  <dcterms:modified xsi:type="dcterms:W3CDTF">2007-10-24T23:07:57Z</dcterms:modified>
  <cp:revision>1</cp:revision>
  <dc:subject/>
  <dc:title>Slide 1</dc:title>
</cp:coreProperties>
</file>