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D78-BE39-4A47-A233-35E2E4AB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208-0F65-40FA-A0D2-E795CD21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294-86EE-4B08-B2BC-E0733A26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851-F621-4EB9-937E-7873FE53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E42-EB1D-4802-A692-FEB9C8CA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19C-45B2-4CAF-A647-87ED0A5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E1F-12C1-41C3-B6D1-4B1269D7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864-8562-41F1-B316-600FC90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10B4-A485-44AF-9B81-0A8CE40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597-AFB5-4332-B00A-DA5715FE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377-EBE6-4CEC-9495-A84772D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6BB-5C6C-4FCC-84E9-F45DACD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90A-7758-4369-B219-27F51C89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7:52Z</dcterms:created>
  <dc:creator>IMS</dc:creator>
  <dc:description/>
  <dc:language>en-US</dc:language>
  <cp:lastModifiedBy>IMS</cp:lastModifiedBy>
  <dcterms:modified xsi:type="dcterms:W3CDTF">2007-10-24T23:07:57Z</dcterms:modified>
  <cp:revision>1</cp:revision>
  <dc:subject/>
  <dc:title>Slide 1</dc:title>
</cp:coreProperties>
</file>