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1985-B97C-4FC9-AA4F-A4BFD0AB7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09AF-AC1F-4C78-8C66-6EFD2B13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E75B-8BFB-4643-9602-099F96C1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0B9B-585A-454F-AEB4-2616D122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00AF-C33F-42DE-B652-1E55F301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B982-FFAB-478D-AFA3-EC120408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DED0-E09E-4E5D-B39C-A4C990A7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1D03-578F-470A-B780-8A9998E8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9EEC-F964-4278-8117-813B1FFC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BDC4-6422-474E-9091-C47048BC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DCEE-6E82-41E7-BCBF-681ADAA6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270B-7B15-4396-87BE-49E8A313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C4D7-77CA-4396-9AA4-8B62DF088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6:58Z</dcterms:created>
  <dc:creator>IMS</dc:creator>
  <dc:description/>
  <dc:language>en-US</dc:language>
  <cp:lastModifiedBy>IMS</cp:lastModifiedBy>
  <dcterms:modified xsi:type="dcterms:W3CDTF">2007-10-24T23:07:05Z</dcterms:modified>
  <cp:revision>1</cp:revision>
  <dc:subject/>
  <dc:title>Slide 1</dc:title>
</cp:coreProperties>
</file>