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6051-C723-4037-9A97-63750FABF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66AC-F3FA-4B08-98B9-02957C68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565F-479A-42DD-864E-1A7C85513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8FAD-48C9-4F45-A790-A87AC4C41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5627-BAE7-41D2-A667-D027FD4D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B298-39A5-4224-9900-36F54F3A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EDFC-AE5E-4F8B-B29E-69354556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59DC-78E9-4DFE-8A31-36F01A24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8EC3-8AA5-454B-9F11-3AB3ABE2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D70B-1514-4479-A23A-232B2FA2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A73E-FE1F-4B5B-9A00-21A3AA38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52D8-F3AC-45EE-B61E-76D23095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C7D6-BAC5-463F-BB92-592F51300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6:58Z</dcterms:created>
  <dc:creator>IMS</dc:creator>
  <dc:description/>
  <dc:language>en-US</dc:language>
  <cp:lastModifiedBy>IMS</cp:lastModifiedBy>
  <dcterms:modified xsi:type="dcterms:W3CDTF">2007-10-24T23:07:05Z</dcterms:modified>
  <cp:revision>1</cp:revision>
  <dc:subject/>
  <dc:title>Slide 1</dc:title>
</cp:coreProperties>
</file>