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CCF-8DB4-4388-9187-C591447B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E8A7-7875-473C-9EA2-7E6EB24B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B2E-47C0-4DE3-902D-0D96ED4A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5421-D91C-4FA8-B534-8B1B3B21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A8F3-6050-4BE2-87D0-831F4408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3D7-A56F-4A77-A3EA-B3176AF68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5F7-407E-4B1C-9E61-1A9CBA8B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60E7-76D2-4414-86BC-8AE9CD1A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45CA-5D37-4624-B74B-D2711DC2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D750-460B-411E-AA78-AC7188FE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CC0-8CD7-4B6E-8ECA-30724E05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702-DB70-416A-BDB4-E8C81BDD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67C3-79B5-4141-88F8-ABBFC3CB5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23:06:58Z</dcterms:created>
  <dc:creator>IMS</dc:creator>
  <dc:description/>
  <dc:language>en-US</dc:language>
  <cp:lastModifiedBy>IMS</cp:lastModifiedBy>
  <dcterms:modified xsi:type="dcterms:W3CDTF">2007-10-24T23:07:05Z</dcterms:modified>
  <cp:revision>1</cp:revision>
  <dc:subject/>
  <dc:title>Slide 1</dc:title>
</cp:coreProperties>
</file>