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38F8-3ECC-4866-87C7-B3EAC74D6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47F7-79F4-4352-A1DF-CF407917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BD4C-7155-4DA3-8A6A-216E62BD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58A8-7854-4C78-ADA3-A242981B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3BED-66BB-46F5-8A19-FE65521B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1A54-42C6-49BA-BE78-5FDB791F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5873-6F91-4CEC-A9BA-DD20C8ED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AF35-39BF-4C4F-9E6C-FF6C882C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556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8FE6-4AF0-4361-96FF-212DF1BA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513D-B993-4BDA-90F5-65120FF3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4820-82FF-4629-A927-341C4B38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80FB-14C0-4822-90C3-9B629E4B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2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8696-111F-468A-B2DA-65B7F1C92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2:55:37Z</dcterms:created>
  <dc:creator>IMS</dc:creator>
  <dc:description/>
  <dc:language>en-US</dc:language>
  <cp:lastModifiedBy>IMS</cp:lastModifiedBy>
  <dcterms:modified xsi:type="dcterms:W3CDTF">2007-10-24T22:55:59Z</dcterms:modified>
  <cp:revision>1</cp:revision>
  <dc:subject/>
  <dc:title>Slide 1</dc:title>
</cp:coreProperties>
</file>