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C980-DD7D-4297-B64F-846B03071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7D51-D0A6-4E05-95D5-5EB6CD7F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6709-ADC0-49C3-82BA-F9E408568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D8E5-EF34-4CC7-A455-ECAA9F0E3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6A94-B93A-4AB6-B764-D9D856EA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455D-D71A-4AA4-933B-C7DCF2DD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9F14-0754-421D-8948-4E69CE1B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6719-CB42-4261-92FD-D526A584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556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3FE4-B31D-4035-8A18-AE34D374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D536-4824-4E63-BAAF-D7431B1B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FB9D-4436-4353-8487-B2340654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6FB0-2194-402A-81A0-4B337176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2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BBE2-1F72-43F2-A47A-54E08EE7B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2:55:37Z</dcterms:created>
  <dc:creator>IMS</dc:creator>
  <dc:description/>
  <dc:language>en-US</dc:language>
  <cp:lastModifiedBy>IMS</cp:lastModifiedBy>
  <dcterms:modified xsi:type="dcterms:W3CDTF">2007-10-24T22:55:59Z</dcterms:modified>
  <cp:revision>1</cp:revision>
  <dc:subject/>
  <dc:title>Slide 1</dc:title>
</cp:coreProperties>
</file>