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9786-BC62-4FE4-A152-219624A6D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5BE0-9D42-47D3-B5A6-06E126F8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CDA7-70F5-49C9-B5DD-F41B343A4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7B3A-1235-47A7-A5DE-1A2B0374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E274-574A-41FB-B254-D4DB3508D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E976-3AA0-4B39-8B22-16923438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ADC9-E5D3-42FC-A165-A3870D22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C3EA-AE94-4DFB-A5D1-F0C5AFA9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3478-364B-49FD-9ACE-25DFCF71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C81B-E370-462C-A9B4-1A4DA3E5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96BB-4744-4F58-B2F6-538E1B4E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AC66-2D1A-4685-8D82-B785DFFC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D91C-3FEA-483C-9271-2BEC5216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70F0-41B7-4576-A0A9-EDEA67D2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D07B-93B4-4DB5-96A3-88B18A00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220E-4452-462D-921D-10A7A4ACA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661C-2C82-4580-BD78-CA3AE0269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6B51-A6E5-4CAA-A0FC-01EF029B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CF1F-8650-4583-9C5D-5FD63EC6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D383-6103-4E89-B1A7-B97A9398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41E8-7FBD-4CE9-AE0C-DCB4346E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6AF6-6F6A-4FD3-9EE0-F1BC9A5B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DD70-82F7-4018-8A0B-88BA9433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B0E6-7557-44D0-B4AD-F522ABED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7454-B41A-445E-8739-2EFE1C4B9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3219-F7B9-4C29-BDCE-1D2C7B824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41:00Z</dcterms:modified>
  <cp:revision>23</cp:revision>
  <dc:subject/>
  <dc:title>Slide 1</dc:title>
</cp:coreProperties>
</file>