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9F68-FFD5-4275-80C7-971F7535D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0B34-8097-4D6F-8DD3-823E81D1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BBFF-26E4-4177-AC77-41ACC6480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95EF-52C5-431F-BD4F-699F8F25A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9C11-C2E6-4852-B01A-1A39F89B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87A1-6A60-4A2B-9C08-B0019EFF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E234-52B2-4585-A5DB-A763293A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187C-1F49-429B-A88F-30224FDD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6DD3-ECA9-4259-BA5C-58AC5C6A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090E-753A-4774-8425-364A58D0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7F17-0408-44D9-8D5E-7DA04D60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6E97-CFFE-428A-95A1-B402BB90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E76A-6F0C-4726-B2CA-32AF7ACF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F436-4A9C-4B87-A118-3DFD4EB2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AC34-0D3D-4F51-AA8E-0020D79D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199F-39BB-472E-9FA0-93B146519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973B-521B-4B3C-9F27-E24CBC0CD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B8EC-F02A-4A5F-924F-718CAA35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20C4-7F6D-4AC0-A36A-C7C8457F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B3B0-7DC6-4CC7-8F9E-5823C363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EF3B-08C7-4D3E-A48A-610DC0FA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CEDF-16A7-400A-916A-AAD37409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03D4-7D03-49AB-9E94-64FF40D6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A21E-CF96-44D3-9C5E-B7DE6E04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2D44-97B8-4BDB-B493-D416B4DB6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BC92-6DB4-4E84-AD13-6C8AB3D05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41:00Z</dcterms:modified>
  <cp:revision>23</cp:revision>
  <dc:subject/>
  <dc:title>Slide 1</dc:title>
</cp:coreProperties>
</file>