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D1529-3051-4DDE-A6F0-56F07A2D2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43588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50560" y="3668760"/>
            <a:ext cx="843588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59AE2-37A8-4453-835C-C66767248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5056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344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5CC4D-26A9-486A-A5BF-9FC502E0E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02840" y="98100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55480" y="98100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50560" y="366876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02840" y="366876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55480" y="366876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E2BDF-781A-4BB8-BF8B-EA069D7A8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6B68D-A8C0-40EB-942A-E2BAC8AFA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50560" y="98100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98A57-C644-4315-90F0-45CB095C6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21705-ECA1-43A2-95C6-C1B3D5A73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CE45A-1777-4F16-8E83-5CE507E90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70800-516D-4CB2-990E-665AC1CDB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-17640"/>
            <a:ext cx="8447040" cy="36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4E944-9BF3-4DC9-915F-AF2D21DF9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5056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C9507-7F17-4F21-9C2D-163A306B4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50560" y="98100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B8AB5-5244-43B6-8FA0-EAF034D6C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344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A3789-61A9-4BCC-BFCB-4150187A7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50560" y="3668760"/>
            <a:ext cx="843588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6BF15-AF43-4934-9DE1-3686CBCA1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43588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50560" y="3668760"/>
            <a:ext cx="843588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E23AD-6ECB-480F-82F4-53F97E790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5056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344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214DB-08D0-4891-8546-14F1F3BE8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02840" y="98100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55480" y="98100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50560" y="366876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02840" y="366876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55480" y="366876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A8A51-12F0-40FE-867A-638DDA5CB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D8B00-1F90-4DA9-93EA-29D527D23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02EA7-444B-4458-B528-F84CA9D55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688B6-0EA3-4497-B132-3336F0777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-17640"/>
            <a:ext cx="8447040" cy="36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EE468-478F-4FFB-8A6E-E1888331F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5056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62F25-C447-4EA4-B103-8C6B02941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344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6DA31-CA24-4E96-A090-26CE44A51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50560" y="3668760"/>
            <a:ext cx="843588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610A1-1E54-4C08-A2EC-F6C0DDE53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50560" y="98100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53086-7EA0-4C44-9530-24BC1E9144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1557000"/>
            <a:ext cx="547200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1F4F0-5A02-4733-9C61-5F0FAD46D0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32000" y="1557000"/>
            <a:ext cx="547200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66920" y="3715920"/>
            <a:ext cx="5510160" cy="9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4T17:41:00Z</dcterms:modified>
  <cp:revision>23</cp:revision>
  <dc:subject/>
  <dc:title>Slide 1</dc:title>
</cp:coreProperties>
</file>