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BF8A-9600-406F-9123-3CF7C004E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48BE-13E6-4301-8B0E-DAF62756C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3C03-2044-4685-A345-6903F0177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1CC9-DAB7-450D-89E5-074A83199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56DA9-7CA5-4350-BEF1-A38D8C4EA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C0C95-2291-4D40-AD8C-1AF884BA4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AF81E-92A9-44BA-AED4-EAA7A3B4A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79391-3E37-44B9-83A9-05D11AD6E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B6271-A17F-47BC-80A5-3649EF2D6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4198D-E5C4-44BC-A2A1-E828A097D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8169E-99C0-4FBC-92BE-D0EEF1F96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6DE0-4C2C-4CAE-8A61-D231D3680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15AA6-AEF2-4FE7-A83D-5E15C2A60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902B0-7995-486F-94D4-9F916D8F4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B35E4-51DC-4415-82CD-5F425746B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612F1-AAAA-4F40-8BA1-27616B9FD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A9A82-BCD3-436E-8189-3671E47DD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4822-CE55-4126-834F-DDEC767CE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9DC0-5132-44E3-ABD2-860AE1A1E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8CAE-BF62-4EB2-BEC4-FF8231B4B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E304-AEEA-41BD-B083-0EBE20173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D574-6799-4442-8C81-E4268A1C7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5AA7-0379-4617-9E7D-D0506ECB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A1B8-7850-40D9-AECB-D32D2A6B1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31B29-C538-4A5B-B8A6-4BE37E5C5B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40338-C1B8-48C1-87F7-1C2017E54E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41:00Z</dcterms:modified>
  <cp:revision>23</cp:revision>
  <dc:subject/>
  <dc:title>Slide 1</dc:title>
</cp:coreProperties>
</file>