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82B1-33D5-4499-B050-1AC1733AE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336D-55C0-486C-A60E-CC0D90EB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7730-8AB8-4CF2-A0F0-0BB66EDE4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54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54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316A-BC17-4327-9771-479AA30E0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B119-E813-4BB9-82AA-B3218CC0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B28D-8CF2-49FD-B766-640E5511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ABA0-7D0B-460B-AA65-9B9E99FE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B9B0-22D5-4722-B96B-DA481401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340920"/>
            <a:ext cx="692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1A38-6C01-4C3D-B4E4-A7A91124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C2FE-8A8B-4FA9-A67E-90E021E0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25AD-6E44-4066-A362-DD5F1E26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17A6-F216-477F-96FF-9477F86F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1d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B1DE-33F7-4083-82C5-B65A4FB09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50:04Z</dcterms:created>
  <dc:creator>IMS</dc:creator>
  <dc:description/>
  <dc:language>en-US</dc:language>
  <cp:lastModifiedBy>IMS</cp:lastModifiedBy>
  <dcterms:modified xsi:type="dcterms:W3CDTF">2007-10-23T00:50:09Z</dcterms:modified>
  <cp:revision>1</cp:revision>
  <dc:subject/>
  <dc:title>Slide 1</dc:title>
</cp:coreProperties>
</file>