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68DF2-9D37-4347-A7B9-C3FD0ABB9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5280" y="3409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a1d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26920" y="1600200"/>
            <a:ext cx="771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26920" y="3964320"/>
            <a:ext cx="771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CBC52-1D10-4583-A2E0-3E06EBD62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5280" y="3409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a1d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2692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44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2692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8044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F7576-6BD1-4E9B-A880-5705D684B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5280" y="3409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a1d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2692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3548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404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2692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3548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404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FC276-EDEF-4D39-93E7-D940A2F45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5280" y="3409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a1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26920" y="1600200"/>
            <a:ext cx="7715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9FFC3-2D46-4071-97A7-FA4C66D6B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280" y="3409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a1d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26920" y="1600200"/>
            <a:ext cx="771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11D4B-689C-4DB2-8485-D1E399723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280" y="3409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a1d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692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8044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2CEC3-0A41-49C9-A686-A6FE43BDA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5280" y="3409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a1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AE44C-AA0B-42CE-BCCF-C8B2884C2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5280" y="340920"/>
            <a:ext cx="6923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2E35E-96FC-4C4F-99C9-709139423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280" y="3409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a1d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2692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8044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2692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E52AB-1722-46A8-A3D3-AA5634ACF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5280" y="3409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a1d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2692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8044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8044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5E773-DA33-4E82-9D9E-9B165F82E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5280" y="3409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a1d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2692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044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26920" y="3964320"/>
            <a:ext cx="771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A0547-EE60-4728-B830-F02FC3D36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280" y="3409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a1d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3a1d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26920" y="1600200"/>
            <a:ext cx="771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9E3FA-9AD8-4D1B-9CD7-E6B3D30FCE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a1d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55280" y="3409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a1d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26920" y="1600200"/>
            <a:ext cx="771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3T00:50:04Z</dcterms:created>
  <dc:creator>IMS</dc:creator>
  <dc:description/>
  <dc:language>en-US</dc:language>
  <cp:lastModifiedBy>IMS</cp:lastModifiedBy>
  <dcterms:modified xsi:type="dcterms:W3CDTF">2007-10-23T00:50:09Z</dcterms:modified>
  <cp:revision>1</cp:revision>
  <dc:subject/>
  <dc:title>Slide 1</dc:title>
</cp:coreProperties>
</file>