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9A53-1B4F-40B1-A17A-0654EAB5A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71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6920" y="3964320"/>
            <a:ext cx="771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0DA4-2329-4A20-9444-BD6104D5E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692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044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62AA-7496-469E-848F-F57ECC09D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54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0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692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54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0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8DA4-CA82-4F4F-A522-D9DB084F4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12F8-85A7-45E1-8D9D-376317B3B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41A0-557A-43B5-9139-71A1FDFFE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8B21-D7BD-4725-8326-A01EE3509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8707-69F7-4ACA-873D-70F51E293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5280" y="340920"/>
            <a:ext cx="6923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3169-EE55-4333-B061-595225ED6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692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2A33-3EC9-48F3-A82C-FCE21ABCC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044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DD66-10B3-4D45-948B-7E9078FBF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6920" y="3964320"/>
            <a:ext cx="771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3022-8A5A-4096-BB0A-DE318DE2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a1d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CE85E-8E30-47DE-9D8F-4B100676EA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00:50:04Z</dcterms:created>
  <dc:creator>IMS</dc:creator>
  <dc:description/>
  <dc:language>en-US</dc:language>
  <cp:lastModifiedBy>IMS</cp:lastModifiedBy>
  <dcterms:modified xsi:type="dcterms:W3CDTF">2007-10-23T00:50:09Z</dcterms:modified>
  <cp:revision>1</cp:revision>
  <dc:subject/>
  <dc:title>Slide 1</dc:title>
</cp:coreProperties>
</file>