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8DA2-94F1-44BB-A545-AB05EAF6E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6920" y="396432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23DF-F6A8-4C26-8C5F-F0736C27A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044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3B9F-08C8-486C-8004-FE9EB4F9D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54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0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692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54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0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B707-6C01-42D3-892B-7CF6FE16E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5253-D313-440B-AD08-924B98B5B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9AB7-5544-4116-A6D7-9E179ED82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7471-ED85-42F6-AF4A-10920BF7B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229D-61A5-47C5-B641-2C16147A5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280" y="340920"/>
            <a:ext cx="6923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5D92-1355-4868-AA0A-92179D92D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ECBE-A35C-4D25-ACD5-AC9E49A2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044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278D-F198-4D8F-B95F-D453B5AC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AD84-B9FF-473B-A3F2-A27CF474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a1d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8F4E3-8AB8-4551-9ACD-F5669544BF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0:50:04Z</dcterms:created>
  <dc:creator>IMS</dc:creator>
  <dc:description/>
  <dc:language>en-US</dc:language>
  <cp:lastModifiedBy>IMS</cp:lastModifiedBy>
  <dcterms:modified xsi:type="dcterms:W3CDTF">2007-10-23T00:50:09Z</dcterms:modified>
  <cp:revision>1</cp:revision>
  <dc:subject/>
  <dc:title>Slide 1</dc:title>
</cp:coreProperties>
</file>